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35F-B9AE-40DE-92FA-D3E42DFF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D18-2A9F-4822-B38D-C492D77C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7E0-719E-44A8-B4EE-2F641366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7F2-958F-4904-A4F9-A41A8E19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F9A-D327-436D-A7D7-5457DDCF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6D6-D13C-4CA7-B009-67F62224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37A-1534-4ED4-BF09-28FB934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D99-1839-408D-B363-BC95BE59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1A2-B63E-459B-90AE-84D840A6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440-97EF-4771-996D-19C6D48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280-2FD0-40AC-AA7D-602E5227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44D-ADF3-45EE-A598-8A75F535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29FE-F2EC-4817-BC3E-960254742BC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as Vargas</cp:lastModifiedBy>
  <dcterms:modified xsi:type="dcterms:W3CDTF">2007-07-30T22:10:00Z</dcterms:modified>
  <cp:revision>13</cp:revision>
  <dc:subject/>
  <dc:title>Presentación de PowerPoint</dc:title>
</cp:coreProperties>
</file>