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793-37A5-44DA-B5D3-A0903FAE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01B-12BF-4F66-A3F0-0ED8EA90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D91-0444-4929-A762-7F7C64A6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507-932B-4121-8AC0-774FFCDF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C180-A72A-4D55-A30E-2BBAF16C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7A4-2F5C-4940-AF7E-6DBB76D0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448-CE94-4A97-B456-57B66C0D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B0D-A0BA-4A2C-8F19-B355CC3D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337-06EF-46EB-B5E5-331DF29D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C48D-D4F0-4BD7-A83A-8ECD3802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EE50-7B67-45EA-B434-548278CC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F32A-F930-4B1C-A52C-4F5FAFBB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8909-C0CD-41B5-AA5A-2FD955BCDC2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47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4640" y="304920"/>
            <a:ext cx="6048720" cy="93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21:50:05Z</dcterms:created>
  <dc:creator>Ing Quimica</dc:creator>
  <dc:description/>
  <dc:language>en-US</dc:language>
  <cp:lastModifiedBy>Tomas Vargas</cp:lastModifiedBy>
  <dcterms:modified xsi:type="dcterms:W3CDTF">2007-07-30T22:09:29Z</dcterms:modified>
  <cp:revision>1</cp:revision>
  <dc:subject/>
  <dc:title>Presentación de PowerPoint</dc:title>
</cp:coreProperties>
</file>