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EBD-B830-4D19-AF46-FCE23E70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E6-39E0-4248-A393-E85AF95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5B9-BE1B-405D-B9A8-5DFBA444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E3B-30BE-43F0-9717-50503D0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BEC-9B89-4425-A8E8-F2064F56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4BF-ACB1-4B77-B869-C1C0504B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9D3-499B-4815-9521-6DCA913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B86-C2CF-4C4D-959A-93345398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F58-BEC8-47E7-9CB7-C3681C6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0A9-F688-496B-862A-B46A819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E65-70F0-475C-922A-EF4F0C59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D17-9393-4965-A8D7-A8315D17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60C3-56F8-4B5F-8D34-64AEB24B6F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7-07-30T22:09:29Z</dcterms:modified>
  <cp:revision>1</cp:revision>
  <dc:subject/>
  <dc:title>Presentación de PowerPoint</dc:title>
</cp:coreProperties>
</file>