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305-A570-4F71-A980-865ED099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54F-1BB2-45D5-92E7-45554E8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39F-93C9-43D2-8878-1CCB80F7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F27-4F03-40E0-BDBA-F99AB44B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E7A-4D00-423F-8C43-584D731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5FD-97E9-4208-B8EB-84881C2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6FF-0E3A-40C0-8D74-D944E4A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219-743F-41E9-82AB-B278CEC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DD6-43EA-4146-B49F-B57E1F1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A93-6659-41BC-A482-78FC893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6CF-57E4-4E99-82FB-173A34A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784-7A5C-4C81-87C8-01157C9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BD6-9630-4A1B-9F7F-6FB93B8ED7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990720"/>
                <a:ext cx="2143080" cy="52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880" y="228600"/>
                <a:ext cx="363240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7-30T22:08:29Z</dcterms:modified>
  <cp:revision>6</cp:revision>
  <dc:subject/>
  <dc:title>Presentación de PowerPoint</dc:title>
</cp:coreProperties>
</file>