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7C9-C1B0-49AE-AF21-7611E0D5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7BC-D8DF-421F-87CB-CEA40753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B13-7AB4-4ED3-B785-937EB0FC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AB2-FDD1-40DE-9BBE-C38148C8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BCC-47A3-4F53-AF5F-AA118573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F73-2233-4F08-9977-231A92E0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AF2-ABD1-4E36-B3EE-308D8A6B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872-4308-4FBB-9583-4ED35005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290-98E9-4B56-87C0-9960C03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8B9-0A76-45F2-92B1-C055FF0A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728-70E3-4646-8B99-DEB50686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CB3-A0B3-4D23-9A36-B5842597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203B-65F7-4EE7-B5A7-E7BCB77A24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990720"/>
                <a:ext cx="2143080" cy="52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80880" y="228600"/>
                <a:ext cx="363240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19720" y="762120"/>
                <a:ext cx="45082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7-07-30T22:08:29Z</dcterms:modified>
  <cp:revision>6</cp:revision>
  <dc:subject/>
  <dc:title>Presentación de PowerPoint</dc:title>
</cp:coreProperties>
</file>