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1BA-B12D-4B7E-A6DA-9939604E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1EB-949D-4625-9EA5-525FBE52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D33-A946-462D-A688-2CE54749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5FD-8C13-4E57-BF5D-FC958340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879-E772-47F8-B7FC-2A6CB63B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402-CA84-4515-9858-9E053605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902-E3CD-4FFC-A269-88217B8A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225-D774-4BC5-ACB5-AA5DECDF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8C8-11C1-4B63-977C-C4791D01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8E6-6C57-4D7D-B4B6-E2AF86F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A61-7004-4D1E-A401-CB659F87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44E-7A92-4350-8622-C1BC8F6C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BDBE-96E3-425C-AECB-89E83D9C0D5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990720"/>
                <a:ext cx="2143080" cy="52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80880" y="228600"/>
                <a:ext cx="363240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19720" y="762120"/>
                <a:ext cx="45082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7-07-30T22:08:29Z</dcterms:modified>
  <cp:revision>6</cp:revision>
  <dc:subject/>
  <dc:title>Presentación de PowerPoint</dc:title>
</cp:coreProperties>
</file>