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62904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08080"/>
                </a:solidFill>
                <a:latin typeface="Tahoma"/>
              </a:rPr>
              <a:t>Patricio Mell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61976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ahoma"/>
              </a:rPr>
              <a:t>Shocks Externos y Ajuste Intern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atricio Mell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modelo simple 1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&gt;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blema con políticas restrictivas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Z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o tambié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505320"/>
            <a:ext cx="80773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refuerz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pues Z=Z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ueg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sequilibrio extern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ayor de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solo instrument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No se pueden lograr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    d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815328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Simple 2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18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Restringir nivel de 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1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ol M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4" marL="2331720" indent="-323640"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í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f,  QR,  Control US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331720" indent="-323640"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: Funciona OK C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331720" indent="-323640"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33172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istor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33172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orrup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33172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Bienestar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Simple 3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=M(e) , X=X(e)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(e) &gt; X(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: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419720" y="3809880"/>
            <a:ext cx="4266360" cy="990720"/>
            <a:chOff x="4419720" y="3809880"/>
            <a:chExt cx="4266360" cy="990720"/>
          </a:xfrm>
        </p:grpSpPr>
        <p:sp>
          <p:nvSpPr>
            <p:cNvPr id="85" name=""/>
            <p:cNvSpPr/>
            <p:nvPr/>
          </p:nvSpPr>
          <p:spPr>
            <a:xfrm>
              <a:off x="5028840" y="4038480"/>
              <a:ext cx="36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desigualdad M&gt;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9720" y="3809880"/>
              <a:ext cx="121320" cy="990720"/>
            </a:xfrm>
            <a:custGeom>
              <a:avLst/>
              <a:gdLst>
                <a:gd name="textAreaLeft" fmla="*/ 0 w 121320"/>
                <a:gd name="textAreaRight" fmla="*/ 43920 w 1213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Complejo 4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=M(Y, e) , X=X(Y*, e)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    Z=Z(Y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licy MIX FMI (Pre 199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ucción del Gasto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Z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.F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 y P.M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 Composición Gasto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X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480" y="3886200"/>
            <a:ext cx="4800600" cy="2601720"/>
            <a:chOff x="609480" y="3886200"/>
            <a:chExt cx="4800600" cy="2601720"/>
          </a:xfrm>
        </p:grpSpPr>
        <p:sp>
          <p:nvSpPr>
            <p:cNvPr id="90" name=""/>
            <p:cNvSpPr/>
            <p:nvPr/>
          </p:nvSpPr>
          <p:spPr>
            <a:xfrm>
              <a:off x="1219320" y="3886200"/>
              <a:ext cx="75960" cy="910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0800"/>
                <a:gd name="textAreaBottom" fmla="*/ 887040 h 91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5100840"/>
              <a:ext cx="4267080" cy="13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aquete complementario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371600" indent="-457200">
                <a:lnSpc>
                  <a:spcPct val="100000"/>
                </a:lnSpc>
                <a:spcBef>
                  <a:spcPts val="1250"/>
                </a:spcBef>
                <a:buClr>
                  <a:srgbClr val="3333cc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Existe aju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371600" indent="-457200">
                <a:lnSpc>
                  <a:spcPct val="100000"/>
                </a:lnSpc>
                <a:spcBef>
                  <a:spcPts val="1250"/>
                </a:spcBef>
                <a:buClr>
                  <a:srgbClr val="3333cc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País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competitiv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480" y="4189680"/>
              <a:ext cx="381240" cy="136656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39040 h 1366560"/>
                <a:gd name="textAreaBottom" fmla="*/ 99072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Rol de la Devaluación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(vs. Pol. Comercial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e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X  y 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lítica Comercial para hacer lo mismo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600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600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f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757760"/>
            <a:ext cx="80773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M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haz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mit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cil de implemen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strumento descentralizado (fácil de administr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la general para todos los bie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onces ¿por qué no es tan usada la devalu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Por qué Argentina demoró tanto en devaluar?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ahoma"/>
              </a:rPr>
              <a:t>Lógica en el uso de los tool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ool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sequilibrio M&gt;X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 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 tool para resolver problema de desequilibr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olítica monetaria restrictiv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i tool para resolver problema desequilibr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Tahom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s objetivos: - Deseq. Interno: i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Deseq. Externo: 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98160" indent="-39816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Efecto Deseq. B.P sobre Liquidez Inter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9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98160" indent="-39816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.B.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$ que entra al paí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C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US$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aga en $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esión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C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utraliza efecto monetari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* ví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sterilizació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Vende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PRBC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ibe $ (retira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que le compren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9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98160" indent="-39816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.B.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B.C vende US$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recibe $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erilizació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.C compra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trega $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1040"/>
            <a:ext cx="78487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Problemas de la devaluació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1165680" indent="-438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esiones Inflacionari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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L1SP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1 bien : P = eP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Diferencia Lógic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429000" y="3505320"/>
            <a:ext cx="1600200" cy="863640"/>
            <a:chOff x="3429000" y="3505320"/>
            <a:chExt cx="1600200" cy="8636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29000" y="3505320"/>
                  <a:ext cx="160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3429000" y="3962520"/>
                  <a:ext cx="160020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∗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609480" y="4495680"/>
            <a:ext cx="8229600" cy="459720"/>
            <a:chOff x="609480" y="4495680"/>
            <a:chExt cx="8229600" cy="459720"/>
          </a:xfrm>
        </p:grpSpPr>
        <p:sp>
          <p:nvSpPr>
            <p:cNvPr id="108" name=""/>
            <p:cNvSpPr/>
            <p:nvPr/>
          </p:nvSpPr>
          <p:spPr>
            <a:xfrm>
              <a:off x="609480" y="44956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i     = 10%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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en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981080" y="4572000"/>
                  <a:ext cx="264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09480" y="4952880"/>
            <a:ext cx="8229600" cy="459720"/>
            <a:chOff x="609480" y="4952880"/>
            <a:chExt cx="8229600" cy="459720"/>
          </a:xfrm>
        </p:grpSpPr>
        <p:sp>
          <p:nvSpPr>
            <p:cNvPr id="111" name=""/>
            <p:cNvSpPr/>
            <p:nvPr/>
          </p:nvSpPr>
          <p:spPr>
            <a:xfrm>
              <a:off x="609480" y="49528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i se quiere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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    = 0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=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4230720" y="5029200"/>
                  <a:ext cx="264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609480" y="5334120"/>
            <a:ext cx="8534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Implicancia: e tool estabilizad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                            En programa FM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P.F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.M) restrictiv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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esion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1040"/>
            <a:ext cx="78487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676080" indent="-267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per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etitiv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 en US$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67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Valor Deuda (US$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quieb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67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PT/PN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fecto redistribu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todo esto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 no es atractivo polític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4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roman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&lt; 0 en C.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4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roman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&gt; 0 en L.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ahoma"/>
              </a:rPr>
              <a:t>I. Motiv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onomía Chica: Tiene que abrirs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Integrada economía Mundial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economía mundial o Apertura Económ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581280" y="3505320"/>
            <a:ext cx="4648320" cy="2143440"/>
            <a:chOff x="3581280" y="3505320"/>
            <a:chExt cx="4648320" cy="2143440"/>
          </a:xfrm>
        </p:grpSpPr>
        <p:sp>
          <p:nvSpPr>
            <p:cNvPr id="44" name=""/>
            <p:cNvSpPr/>
            <p:nvPr/>
          </p:nvSpPr>
          <p:spPr>
            <a:xfrm>
              <a:off x="3886200" y="3581280"/>
              <a:ext cx="434340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Beneficios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Cos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3505320"/>
              <a:ext cx="152640" cy="2057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4120" y="419112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5000" y="4267080"/>
              <a:ext cx="25146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Volat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Vulnerabilidad a sho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con Cuenta 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mos e fij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C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. Macro Rest.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 &gt; r*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*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k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C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 + iD* &gt; X + F*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1214280" indent="-4572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*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&lt; intensidad ajuste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amiento del desequilibrio) pero con costo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 &gt; r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14280" indent="-4572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 e fijo: evita 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fect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*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1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0680"/>
            <a:ext cx="78483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14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ótese cambio lógica de los instrumen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14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57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quilibrio Interno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: 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57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quilibrio Externo: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657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o nótese que i  y  e  están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odelos Alternativos de Solución de Desequilibrio Extern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3333cc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Absorción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e fijo, F*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chico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i loc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&gt;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Z&gt;Y política restrictiva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1366920" indent="-609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.F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366920" indent="-609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.M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odelos Alternativos de Solución de Desequilibrio Extern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848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3333cc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MX" sz="2800" spc="-1" strike="noStrike" u="sng">
                <a:solidFill>
                  <a:srgbClr val="3333cc"/>
                </a:solidFill>
                <a:uFillTx/>
                <a:latin typeface="Tahoma"/>
              </a:rPr>
              <a:t>Modelo Elasticidades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e fijo, F*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chic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&gt;X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lític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  y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BP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ro ¿que garantiza qu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 cambia PT/P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581280" y="4038480"/>
            <a:ext cx="1752840" cy="2333520"/>
            <a:chOff x="3581280" y="4038480"/>
            <a:chExt cx="1752840" cy="2333520"/>
          </a:xfrm>
        </p:grpSpPr>
        <p:sp>
          <p:nvSpPr>
            <p:cNvPr id="126" name=""/>
            <p:cNvSpPr/>
            <p:nvPr/>
          </p:nvSpPr>
          <p:spPr>
            <a:xfrm>
              <a:off x="4038480" y="4038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5638680"/>
              <a:ext cx="175284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stricción Liquidez Monet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Modelos Alternativos de Solución de Desequilibrio Extern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0680"/>
            <a:ext cx="7848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654120">
              <a:spcBef>
                <a:spcPts val="700"/>
              </a:spcBef>
              <a:buClr>
                <a:srgbClr val="3333cc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Cuenta de Capitales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5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5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revierte lógica tools 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 , 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5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5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*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(&gt;i*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*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BP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819520" y="4038120"/>
            <a:ext cx="1295280" cy="901800"/>
            <a:chOff x="2819520" y="4038120"/>
            <a:chExt cx="1295280" cy="901800"/>
          </a:xfrm>
        </p:grpSpPr>
        <p:sp>
          <p:nvSpPr>
            <p:cNvPr id="131" name=""/>
            <p:cNvSpPr/>
            <p:nvPr/>
          </p:nvSpPr>
          <p:spPr>
            <a:xfrm>
              <a:off x="2819520" y="4419720"/>
              <a:ext cx="129528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olítica no esteril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429000" y="4038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638680" y="3962520"/>
            <a:ext cx="2743200" cy="1559520"/>
            <a:chOff x="5638680" y="3962520"/>
            <a:chExt cx="2743200" cy="1559520"/>
          </a:xfrm>
        </p:grpSpPr>
        <p:sp>
          <p:nvSpPr>
            <p:cNvPr id="134" name=""/>
            <p:cNvSpPr/>
            <p:nvPr/>
          </p:nvSpPr>
          <p:spPr>
            <a:xfrm>
              <a:off x="5638680" y="4648320"/>
              <a:ext cx="2743200" cy="87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Symbol" charset="2"/>
                <a:buChar char="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F*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evita </a:t>
              </a: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ajus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or ejemplo: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D* Problema L.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720" y="3962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ahoma"/>
              </a:rPr>
              <a:t>I. Motiv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economía mundial o Apertura Económica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124080" y="2438280"/>
            <a:ext cx="5715000" cy="2181960"/>
            <a:chOff x="3124080" y="2438280"/>
            <a:chExt cx="5715000" cy="2181960"/>
          </a:xfrm>
        </p:grpSpPr>
        <p:sp>
          <p:nvSpPr>
            <p:cNvPr id="51" name=""/>
            <p:cNvSpPr/>
            <p:nvPr/>
          </p:nvSpPr>
          <p:spPr>
            <a:xfrm>
              <a:off x="3429000" y="2514600"/>
              <a:ext cx="4343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costos, ya sea si shock es &gt;0 ó 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Política econó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4080" y="2438280"/>
              <a:ext cx="152640" cy="2057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2200" y="35053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24480" y="34290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¿Cómo enfrentar shock extern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I. Tipos de Shocks Extern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Tipos de Shocks Externo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hocks Reale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62520" y="2286000"/>
            <a:ext cx="4724280" cy="4036320"/>
            <a:chOff x="3962520" y="2286000"/>
            <a:chExt cx="4724280" cy="4036320"/>
          </a:xfrm>
        </p:grpSpPr>
        <p:sp>
          <p:nvSpPr>
            <p:cNvPr id="58" name=""/>
            <p:cNvSpPr/>
            <p:nvPr/>
          </p:nvSpPr>
          <p:spPr>
            <a:xfrm>
              <a:off x="3962520" y="2286000"/>
              <a:ext cx="152280" cy="3809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67080" y="2362320"/>
              <a:ext cx="4419720" cy="39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g*         g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DP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g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=F(g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DP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PE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– Crisis Asiática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    g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= F(g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RN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*: lluvia-sequía: trigo,caf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esc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ahoma"/>
                </a:rPr>
                <a:t>CU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I. Tipos de Shocks Extern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ahom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hocks Monet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io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0" y="1752480"/>
            <a:ext cx="3886200" cy="2210040"/>
            <a:chOff x="4572000" y="1752480"/>
            <a:chExt cx="3886200" cy="2210040"/>
          </a:xfrm>
        </p:grpSpPr>
        <p:sp>
          <p:nvSpPr>
            <p:cNvPr id="63" name=""/>
            <p:cNvSpPr/>
            <p:nvPr/>
          </p:nvSpPr>
          <p:spPr>
            <a:xfrm>
              <a:off x="4572000" y="1752480"/>
              <a:ext cx="228600" cy="2210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52880" y="1828800"/>
              <a:ext cx="35053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i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Restricción G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09480" y="4114800"/>
            <a:ext cx="83059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hocks – Conta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III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 (Década 80) Triple shock: </a:t>
            </a:r>
            <a:r>
              <a:rPr b="0" lang="es-MX" sz="28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s-MX" sz="28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i*, </a:t>
            </a:r>
            <a:r>
              <a:rPr b="0" lang="es-MX" sz="28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G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hock D* </a:t>
            </a:r>
            <a:r>
              <a:rPr b="0" lang="es-MX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 Década per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pción Ante Shocks Extern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Factor Solución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juste-Financiamiento – Decisión Polític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juste </a:t>
            </a: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ostos ahora </a:t>
            </a: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Beneficio Futur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nanciamiento </a:t>
            </a: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ostergar costos de ajust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ming Político: México (94), Brasil (98), Argentina (99), Chile (99)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pción Ante Shocks Extern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Combinación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Ajuste-Financiamient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es casos: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2514600"/>
            <a:ext cx="5867640" cy="3735720"/>
            <a:chOff x="2666880" y="2514600"/>
            <a:chExt cx="5867640" cy="3735720"/>
          </a:xfrm>
        </p:grpSpPr>
        <p:sp>
          <p:nvSpPr>
            <p:cNvPr id="71" name=""/>
            <p:cNvSpPr/>
            <p:nvPr/>
          </p:nvSpPr>
          <p:spPr>
            <a:xfrm>
              <a:off x="2666880" y="2514600"/>
              <a:ext cx="76320" cy="35053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2590920"/>
              <a:ext cx="541044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3333cc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Financiamiento 0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&gt; Aju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3333cc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Financiamiento 100%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0 Aju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3333cc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ombinación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FMI, Bc</a:t>
              </a:r>
              <a:r>
                <a:rPr b="0" lang="es-MX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 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r*       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ahoma"/>
                </a:rPr>
                <a:t>    Pero: país aplica medidas aju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Condicionalida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es-MX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 Cr* amarrado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aquete económico: PF, PM,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Existe desequilibrio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éficit - ¿Por qué es problema? Hay que financi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erávit - menos problemátic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ero ¿por qué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*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Simplificación: Def BP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Def CC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Def B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Desequilibrio exter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&gt;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M +iD* &gt; X + F*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&gt;X ¿Qué se hace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600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ajuste 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* 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*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00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ju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sequilibrio Exte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¿Cómo se hace ajuste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para que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M&gt;X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?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96040" indent="-447840">
              <a:spcBef>
                <a:spcPts val="601"/>
              </a:spcBef>
              <a:buClr>
                <a:srgbClr val="3333cc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co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canismo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 (visión explícita ajus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3333c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Modelo Simple 1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M=M(Z), X=X(Y*), Z=Z(Y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tas Nacionales: M&gt;X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Z&gt;Y (Actuar aquí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lítica par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568160" indent="-447840">
              <a:spcBef>
                <a:spcPts val="451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.F restrictiva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447840">
              <a:spcBef>
                <a:spcPts val="451"/>
              </a:spcBef>
              <a:buClr>
                <a:srgbClr val="3333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.M restrictiva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1 (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06:11Z</dcterms:created>
  <dc:creator>silvia tapia bosman</dc:creator>
  <dc:description/>
  <dc:language>en-US</dc:language>
  <cp:lastModifiedBy>............</cp:lastModifiedBy>
  <dcterms:modified xsi:type="dcterms:W3CDTF">2007-10-02T14:04:45Z</dcterms:modified>
  <cp:revision>63</cp:revision>
  <dc:subject/>
  <dc:title>Shocks Externos y Ajuste Interno</dc:title>
</cp:coreProperties>
</file>