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8FB-72BD-4702-80E2-3FAC1C6C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C72-5C4E-4C78-862A-1D5E1F2C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9A4-06B7-4830-9BAA-A1B46B8F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A0E-EAC1-48FF-9375-FF968634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9DF-1BA1-41C0-BDFD-EE47BEE7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898-F4D1-432F-8C27-63279DDE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DC9-E466-4DE4-B50A-1C0A40A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C6D-4A9C-4037-9906-3F31BCC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F54-3F9C-45D8-8A96-7F6583CC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EAF-D51A-40DE-BE99-4F0BA53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3FD-24A5-4F97-8FE9-E40071E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9F0-A7C4-4BA8-B422-3FACEC2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9A3-A096-4013-AEA6-96E429488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 Ingeniería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gíster en Gestión para la Glob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708280"/>
            <a:ext cx="763272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e Auxili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75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a Economía Mund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0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ola Bor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Link [US$ - oro] – era restrin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B.C. (USA)  sólo convierte US$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↔ oro a B.C. de o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) Bretton Woods colapsa en 1971 – Gob. USA suspende convert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US$ a oro para to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3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íodo 1971-199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Sistema mixto (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ist.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c/país hace lo que quiere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 – float (e-free) –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venciòn de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C. (PD) – tratan de influir a veces en 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S$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o 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S$/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 maneja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- flotación “suc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11280" y="1125360"/>
            <a:ext cx="5975640" cy="1217520"/>
            <a:chOff x="2411280" y="1125360"/>
            <a:chExt cx="5975640" cy="1217520"/>
          </a:xfrm>
        </p:grpSpPr>
        <p:sp>
          <p:nvSpPr>
            <p:cNvPr id="121" name=""/>
            <p:cNvSpPr/>
            <p:nvPr/>
          </p:nvSpPr>
          <p:spPr>
            <a:xfrm>
              <a:off x="2843280" y="1125360"/>
              <a:ext cx="41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ntes econ. no podían tener 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43280" y="1700280"/>
              <a:ext cx="55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– no estaba obligado a convertir US$ a oro para agentes ec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411280" y="1341360"/>
              <a:ext cx="432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162864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AL)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ligado a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- entonces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                            - apreciació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etit.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tit. X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éficit B. Com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risis B.P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 (dev. abrup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vitar efecto nocivo d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 – abrupt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nción A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rawling peg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exa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íodo 1990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aho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- 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iformidad – gran diversida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(y P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Uso band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 U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extrem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[dolarización o euro]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imin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i. e-fre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aques especul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16360" y="981000"/>
                <a:ext cx="342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1413000"/>
                <a:ext cx="1366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*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63640" y="2001960"/>
                <a:ext cx="18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↓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48440" y="3297240"/>
                <a:ext cx="19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3203640" y="4398840"/>
            <a:ext cx="4124160" cy="728640"/>
            <a:chOff x="3203640" y="4398840"/>
            <a:chExt cx="4124160" cy="728640"/>
          </a:xfrm>
        </p:grpSpPr>
        <p:sp>
          <p:nvSpPr>
            <p:cNvPr id="131" name=""/>
            <p:cNvSpPr/>
            <p:nvPr/>
          </p:nvSpPr>
          <p:spPr>
            <a:xfrm>
              <a:off x="3490920" y="4398840"/>
              <a:ext cx="38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yectoria pre-fix (B.C) de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0920" y="4759200"/>
              <a:ext cx="38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-free dentro de la ba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03640" y="461484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3640" y="4830840"/>
              <a:ext cx="287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00360" y="5170320"/>
            <a:ext cx="5256360" cy="655560"/>
            <a:chOff x="2700360" y="5170320"/>
            <a:chExt cx="5256360" cy="655560"/>
          </a:xfrm>
        </p:grpSpPr>
        <p:sp>
          <p:nvSpPr>
            <p:cNvPr id="136" name=""/>
            <p:cNvSpPr/>
            <p:nvPr/>
          </p:nvSpPr>
          <p:spPr>
            <a:xfrm>
              <a:off x="2987640" y="5170320"/>
              <a:ext cx="49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a enfrentar fenóme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7640" y="5457600"/>
              <a:ext cx="49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a ganar credibilidad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00360" y="5385960"/>
              <a:ext cx="287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0360" y="5530680"/>
              <a:ext cx="287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I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gímenes e-fix y e-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-fi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C. fija el precio relativo e=$/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régimen implica que B.C. esta dispuesto 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terven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mdo. camb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observa que - por ejemplo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ē=$500/US$ se aparta de este valor en una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.C. no interviene c/vez que c/agente realiza una transacción cambiaria – s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sólo si observa  que valor de e – en el mdo. – se aparta de 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e esta establecid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icialm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 un valor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. Argentina: 1$=1US$ ;  Chile (1979-82)=$39/US$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 ese nive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B.C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stá dispues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91040" y="4822920"/>
            <a:ext cx="2519280" cy="799920"/>
            <a:chOff x="4991040" y="4822920"/>
            <a:chExt cx="2519280" cy="799920"/>
          </a:xfrm>
        </p:grpSpPr>
        <p:grpSp>
          <p:nvGrpSpPr>
            <p:cNvPr id="142" name=""/>
            <p:cNvGrpSpPr/>
            <p:nvPr/>
          </p:nvGrpSpPr>
          <p:grpSpPr>
            <a:xfrm>
              <a:off x="4991040" y="4822920"/>
              <a:ext cx="1871640" cy="799920"/>
              <a:chOff x="4991040" y="4822920"/>
              <a:chExt cx="1871640" cy="799920"/>
            </a:xfrm>
          </p:grpSpPr>
          <p:sp>
            <p:nvSpPr>
              <p:cNvPr id="143" name=""/>
              <p:cNvSpPr/>
              <p:nvPr/>
            </p:nvSpPr>
            <p:spPr>
              <a:xfrm>
                <a:off x="5207040" y="482292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pr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07040" y="525456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en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991040" y="503856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91040" y="5183280"/>
                <a:ext cx="4316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502320" y="50385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572000" y="620640"/>
            <a:ext cx="3743280" cy="2671920"/>
            <a:chOff x="4572000" y="620640"/>
            <a:chExt cx="3743280" cy="2671920"/>
          </a:xfrm>
        </p:grpSpPr>
        <p:grpSp>
          <p:nvGrpSpPr>
            <p:cNvPr id="149" name=""/>
            <p:cNvGrpSpPr/>
            <p:nvPr/>
          </p:nvGrpSpPr>
          <p:grpSpPr>
            <a:xfrm>
              <a:off x="4572000" y="620640"/>
              <a:ext cx="3743280" cy="2349000"/>
              <a:chOff x="4572000" y="620640"/>
              <a:chExt cx="3743280" cy="2349000"/>
            </a:xfrm>
          </p:grpSpPr>
          <p:sp>
            <p:nvSpPr>
              <p:cNvPr id="150" name=""/>
              <p:cNvSpPr/>
              <p:nvPr/>
            </p:nvSpPr>
            <p:spPr>
              <a:xfrm>
                <a:off x="5075280" y="97956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75280" y="277956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75280" y="213192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36000" y="256392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184464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ē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43640" y="620640"/>
                <a:ext cx="107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4360" y="191592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364000" y="29242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(comp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435640" y="1197000"/>
              <a:ext cx="1152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940360" y="1341360"/>
              <a:ext cx="1152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83664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98100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84360" y="620640"/>
            <a:ext cx="3743280" cy="2745000"/>
            <a:chOff x="684360" y="620640"/>
            <a:chExt cx="3743280" cy="2745000"/>
          </a:xfrm>
        </p:grpSpPr>
        <p:grpSp>
          <p:nvGrpSpPr>
            <p:cNvPr id="163" name=""/>
            <p:cNvGrpSpPr/>
            <p:nvPr/>
          </p:nvGrpSpPr>
          <p:grpSpPr>
            <a:xfrm>
              <a:off x="684360" y="620640"/>
              <a:ext cx="3743280" cy="2349000"/>
              <a:chOff x="684360" y="620640"/>
              <a:chExt cx="3743280" cy="2349000"/>
            </a:xfrm>
          </p:grpSpPr>
          <p:sp>
            <p:nvSpPr>
              <p:cNvPr id="164" name=""/>
              <p:cNvSpPr/>
              <p:nvPr/>
            </p:nvSpPr>
            <p:spPr>
              <a:xfrm>
                <a:off x="1187640" y="97956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87640" y="277956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87640" y="213192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48360" y="256392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184464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ē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6000" y="620640"/>
                <a:ext cx="107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76720" y="191592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547640" y="299736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(ven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03280" y="1197000"/>
              <a:ext cx="100800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1125360"/>
              <a:ext cx="100836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907920"/>
              <a:ext cx="934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90792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11280" y="3933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cnicamente – B.C. están dispuestos 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 – a vender y a compr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 prop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e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i.e. $ por la moneda extran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1280" y="4941720"/>
            <a:ext cx="6119640" cy="1032480"/>
            <a:chOff x="611280" y="4941720"/>
            <a:chExt cx="6119640" cy="1032480"/>
          </a:xfrm>
        </p:grpSpPr>
        <p:sp>
          <p:nvSpPr>
            <p:cNvPr id="178" name=""/>
            <p:cNvSpPr/>
            <p:nvPr/>
          </p:nvSpPr>
          <p:spPr>
            <a:xfrm>
              <a:off x="611280" y="52812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los gráficos anteri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419640" y="4941720"/>
              <a:ext cx="3311280" cy="1032480"/>
              <a:chOff x="3419640" y="4941720"/>
              <a:chExt cx="3311280" cy="103248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3419640" y="5207760"/>
                <a:ext cx="50472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19640" y="5497200"/>
                <a:ext cx="504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4360" y="499248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24360" y="5497200"/>
                <a:ext cx="86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0" y="52812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78400" y="4941720"/>
                <a:ext cx="13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sponde 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7280" y="4992480"/>
                <a:ext cx="86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72000" y="57844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00720" y="5449680"/>
                <a:ext cx="13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sponde 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7280" y="5568480"/>
                <a:ext cx="648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$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50920" y="476280"/>
            <a:ext cx="8280360" cy="799920"/>
            <a:chOff x="250920" y="476280"/>
            <a:chExt cx="8280360" cy="799920"/>
          </a:xfrm>
        </p:grpSpPr>
        <p:sp>
          <p:nvSpPr>
            <p:cNvPr id="191" name=""/>
            <p:cNvSpPr/>
            <p:nvPr/>
          </p:nvSpPr>
          <p:spPr>
            <a:xfrm>
              <a:off x="250920" y="692280"/>
              <a:ext cx="32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acciones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Agente econ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419640" y="69192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19640" y="907920"/>
              <a:ext cx="431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47628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Vende US$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← Recibe $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B.C. paga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907920"/>
              <a:ext cx="46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mpra US$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← Paga $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B.C. recibe 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71640" y="1700280"/>
            <a:ext cx="6408720" cy="2208960"/>
            <a:chOff x="971640" y="1700280"/>
            <a:chExt cx="6408720" cy="2208960"/>
          </a:xfrm>
        </p:grpSpPr>
        <p:sp>
          <p:nvSpPr>
            <p:cNvPr id="197" name=""/>
            <p:cNvSpPr/>
            <p:nvPr/>
          </p:nvSpPr>
          <p:spPr>
            <a:xfrm flipH="1">
              <a:off x="5148000" y="2637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8720" y="2060640"/>
              <a:ext cx="142920" cy="216000"/>
            </a:xfrm>
            <a:prstGeom prst="downArrow">
              <a:avLst>
                <a:gd name="adj1" fmla="val 50000"/>
                <a:gd name="adj2" fmla="val 377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2779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71640" y="1700280"/>
              <a:ext cx="6408720" cy="2208960"/>
              <a:chOff x="971640" y="1700280"/>
              <a:chExt cx="6408720" cy="2208960"/>
            </a:xfrm>
          </p:grpSpPr>
          <p:sp>
            <p:nvSpPr>
              <p:cNvPr id="201" name=""/>
              <p:cNvSpPr/>
              <p:nvPr/>
            </p:nvSpPr>
            <p:spPr>
              <a:xfrm>
                <a:off x="971640" y="2421000"/>
                <a:ext cx="10080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g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92360" y="2421000"/>
                <a:ext cx="16560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ansacción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2720" y="2421000"/>
                <a:ext cx="6476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B.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79640" y="263700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38200" y="277992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38200" y="32846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40000" y="3069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mpra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67040" y="3238560"/>
                <a:ext cx="11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32360" y="30434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ra 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95640" y="2924280"/>
                <a:ext cx="9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35640" y="3391200"/>
                <a:ext cx="156960" cy="215640"/>
              </a:xfrm>
              <a:prstGeom prst="downArrow">
                <a:avLst>
                  <a:gd name="adj1" fmla="val 50000"/>
                  <a:gd name="adj2" fmla="val 343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32360" y="35719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Vende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03280" y="19879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03280" y="198792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0000" y="17751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Vende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64000" y="19879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4360" y="1700280"/>
                <a:ext cx="93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US$/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8360" y="22053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mpra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8360" y="17719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ende 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020000" y="19879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084720" y="1987920"/>
                <a:ext cx="9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12000" y="321336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826920" y="4221000"/>
            <a:ext cx="7417080" cy="1808280"/>
            <a:chOff x="826920" y="4221000"/>
            <a:chExt cx="7417080" cy="1808280"/>
          </a:xfrm>
        </p:grpSpPr>
        <p:sp>
          <p:nvSpPr>
            <p:cNvPr id="224" name=""/>
            <p:cNvSpPr/>
            <p:nvPr/>
          </p:nvSpPr>
          <p:spPr>
            <a:xfrm>
              <a:off x="826920" y="4221000"/>
              <a:ext cx="72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J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[ Transacción 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fecto en Mdo. Monetarios $ 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9280" y="4797360"/>
              <a:ext cx="66247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j. Tradic.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ē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atrón 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moneda – era convertible a oro. – Su valor estaba fi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19280" y="5661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peración en US$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 Mecanismo P. Mon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7280" y="45813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7280" y="5877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15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2)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-fle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.C. no tiene ningún objetivo c/r al nivel que quisiera par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establece por interacción entre S y D – en el mdo. –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janza de lo que sucede en cualq. otro m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.C. – no interviene para nada en la operatoria del mdo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lotación 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.C. –intervien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lotación su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32000" y="5877000"/>
            <a:ext cx="6946920" cy="703080"/>
            <a:chOff x="1332000" y="5877000"/>
            <a:chExt cx="6946920" cy="703080"/>
          </a:xfrm>
        </p:grpSpPr>
        <p:sp>
          <p:nvSpPr>
            <p:cNvPr id="231" name=""/>
            <p:cNvSpPr/>
            <p:nvPr/>
          </p:nvSpPr>
          <p:spPr>
            <a:xfrm>
              <a:off x="1332000" y="587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39920" y="61660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54200" y="5937480"/>
              <a:ext cx="66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tiene un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implícito – que no puede hacer público – para que no haya arbitraje y especu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042920" y="1916280"/>
            <a:ext cx="3529080" cy="2637360"/>
            <a:chOff x="1042920" y="1916280"/>
            <a:chExt cx="3529080" cy="2637360"/>
          </a:xfrm>
        </p:grpSpPr>
        <p:sp>
          <p:nvSpPr>
            <p:cNvPr id="235" name=""/>
            <p:cNvSpPr/>
            <p:nvPr/>
          </p:nvSpPr>
          <p:spPr>
            <a:xfrm>
              <a:off x="1403280" y="2276280"/>
              <a:ext cx="0" cy="19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03280" y="42195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4000" y="40035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42920" y="1916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$/US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2360" y="2708280"/>
              <a:ext cx="158436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763640" y="2635200"/>
              <a:ext cx="144000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3640" y="24192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364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9440" y="335592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403280" y="33559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95640" y="414792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8480" y="31734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88000" y="256536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cambia permanentemente respondiendo rápidamente a cualq. evento pol. o econ. que pueda influir S &amp; D de l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mone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80000" y="3333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28640"/>
            <a:ext cx="828180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lor e                Variable – según S &amp; D                               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 B.C.                         Ninguno                                    Preservar val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atilidad            Alta Volatilidad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(e)                                V(e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. Monet.                   Autónoma                                        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.C. tiene tool P.M.)                         (B.C. pierde tool P.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4360" y="907920"/>
            <a:ext cx="8064360" cy="2665440"/>
            <a:chOff x="684360" y="907920"/>
            <a:chExt cx="8064360" cy="2665440"/>
          </a:xfrm>
        </p:grpSpPr>
        <p:sp>
          <p:nvSpPr>
            <p:cNvPr id="251" name=""/>
            <p:cNvSpPr/>
            <p:nvPr/>
          </p:nvSpPr>
          <p:spPr>
            <a:xfrm>
              <a:off x="2556000" y="907920"/>
              <a:ext cx="53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 flex (e free)                                     e fix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4360" y="141300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5640" y="981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981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55640" y="4005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o e-free – todas las fluctuaciones de S&amp;D son acomodadas ví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29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ol ajus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797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 e-fix –fluctuaciones de 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acomodadas ví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ol ajus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26920" y="5661000"/>
            <a:ext cx="8317080" cy="1073880"/>
            <a:chOff x="826920" y="5661000"/>
            <a:chExt cx="8317080" cy="1073880"/>
          </a:xfrm>
        </p:grpSpPr>
        <p:sp>
          <p:nvSpPr>
            <p:cNvPr id="260" name=""/>
            <p:cNvSpPr/>
            <p:nvPr/>
          </p:nvSpPr>
          <p:spPr>
            <a:xfrm>
              <a:off x="826920" y="5877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o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9640" y="609300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979640" y="5877000"/>
              <a:ext cx="504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4360" y="5661000"/>
              <a:ext cx="54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– fre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.C. – controla P. Mon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84360" y="609300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– fix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.C. – no controla P. Monetar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64000" y="6381720"/>
              <a:ext cx="5580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P. Mon. responde a lo que sucede en el mdo. divisa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507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eptos par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reciación/Depreci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aluación/D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se requieren + $ para comprar 1US$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 se debil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se depre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revé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/1US$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 se fortal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se apre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40360" y="314172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26920" y="2781360"/>
            <a:ext cx="6370560" cy="766800"/>
            <a:chOff x="826920" y="2781360"/>
            <a:chExt cx="6370560" cy="766800"/>
          </a:xfrm>
        </p:grpSpPr>
        <p:sp>
          <p:nvSpPr>
            <p:cNvPr id="269" name=""/>
            <p:cNvSpPr/>
            <p:nvPr/>
          </p:nvSpPr>
          <p:spPr>
            <a:xfrm flipV="1">
              <a:off x="2144520" y="306036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57120" y="3213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9120" y="28195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ec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89120" y="31798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rec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17840" y="3048120"/>
              <a:ext cx="1008000" cy="287280"/>
            </a:xfrm>
            <a:prstGeom prst="rightArrow">
              <a:avLst>
                <a:gd name="adj1" fmla="val 50000"/>
                <a:gd name="adj2" fmla="val 877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41840" y="29638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- f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6920" y="29890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28920" y="2781360"/>
              <a:ext cx="13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oci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900000" y="378936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pto equivalen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e -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71640" y="4149720"/>
            <a:ext cx="5905440" cy="728640"/>
            <a:chOff x="971640" y="4149720"/>
            <a:chExt cx="5905440" cy="728640"/>
          </a:xfrm>
        </p:grpSpPr>
        <p:sp>
          <p:nvSpPr>
            <p:cNvPr id="279" name=""/>
            <p:cNvSpPr/>
            <p:nvPr/>
          </p:nvSpPr>
          <p:spPr>
            <a:xfrm>
              <a:off x="971640" y="436572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 Autoridad oficial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348000" y="436572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1280" y="414972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$/US$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1280" y="451008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$/US$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48000" y="4581720"/>
              <a:ext cx="4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42920" y="5950080"/>
            <a:ext cx="62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42920" y="5229360"/>
            <a:ext cx="7561440" cy="1375920"/>
            <a:chOff x="1042920" y="5229360"/>
            <a:chExt cx="7561440" cy="1375920"/>
          </a:xfrm>
        </p:grpSpPr>
        <p:sp>
          <p:nvSpPr>
            <p:cNvPr id="286" name=""/>
            <p:cNvSpPr/>
            <p:nvPr/>
          </p:nvSpPr>
          <p:spPr>
            <a:xfrm>
              <a:off x="1042920" y="5229360"/>
              <a:ext cx="63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égimen Cambiario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24360" y="5516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 se fortalece)            ($ se debilit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7280" y="5877000"/>
              <a:ext cx="74170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- free                                 Apreciación               Depreci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- fix                                    Revaluación              D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42920" y="5886360"/>
              <a:ext cx="68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64000" y="530064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6000" y="530064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y Desv. Regímenes e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mucho tiempo ha habido largo debate entre econ – y – policy makers c/r a los pro y contra de c/régimen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bate dentro de c/tipo de régime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senso a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o hoy en PD – donde pareciera haber predominado idea e flex – introducción eu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-fix –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-free US$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rcepciones c/r a evidencia empírica –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) Experiencia e-fix – de Bretton Woods – es percibida como buena –       durante 1950 a 1960. El sistema colapsa en los 60 pq se cometieron errores de pol. econ. – particularmente en USA con pol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ara financiar guerra Vietma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i)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tros econ. – sostienen que en un mundo con libre movil.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- mante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 es imposibl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V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y Desventajas de e-fix &amp; e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19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4000" y="1844640"/>
            <a:ext cx="8424720" cy="3384360"/>
            <a:chOff x="324000" y="1844640"/>
            <a:chExt cx="8424720" cy="3384360"/>
          </a:xfrm>
        </p:grpSpPr>
        <p:sp>
          <p:nvSpPr>
            <p:cNvPr id="296" name=""/>
            <p:cNvSpPr/>
            <p:nvPr/>
          </p:nvSpPr>
          <p:spPr>
            <a:xfrm>
              <a:off x="2556000" y="1844640"/>
              <a:ext cx="53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 flex (e free)                             e fix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5280" y="2347920"/>
              <a:ext cx="835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7280" y="191592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1917720"/>
              <a:ext cx="0" cy="31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000" y="2421000"/>
              <a:ext cx="8281800" cy="27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alor e (tool ajuste)        Variable – según S &amp; D                        Fi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l B.C.                                  Ninguno                                Preservar valor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olatilidad                      Alta Volatilidad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V(e)                       V(e)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l. Monet.                           Autónoma                                   Endóg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(B.C. tiene tool P.M.)                  (B.C. pierde tool P.M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ñal L.P.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incertidumbre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valor conoc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*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*=0 (risk exchange)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iones de Variables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pto – 1$2007 -  no tiene el % poder adquisitivo 1$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vale +? ¿Pq? ¿Cuánto + v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le + 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de todo – Eso e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de todo? - ¿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amos ahora como se mi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cador usado –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Qué es el IPC? Precio de una canasta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 canasta tiene 300 í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binación de los 300 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88040" y="28274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16360" y="3306600"/>
                <a:ext cx="27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643280" y="3959280"/>
                <a:ext cx="27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tajas de e-fi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stos transacció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stímulo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mercio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esgo camb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e era gran argume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-19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r e-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 argumento contra e-f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-fle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ta V(e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ertid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esincentivo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cla nominal creíble para Pol. Mo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877080" y="2705040"/>
            <a:ext cx="1654200" cy="799920"/>
            <a:chOff x="6877080" y="2705040"/>
            <a:chExt cx="1654200" cy="799920"/>
          </a:xfrm>
        </p:grpSpPr>
        <p:sp>
          <p:nvSpPr>
            <p:cNvPr id="303" name=""/>
            <p:cNvSpPr/>
            <p:nvPr/>
          </p:nvSpPr>
          <p:spPr>
            <a:xfrm flipV="1">
              <a:off x="6877080" y="2920680"/>
              <a:ext cx="358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77080" y="3065400"/>
              <a:ext cx="35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27050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6000" y="3136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116000" y="4149720"/>
            <a:ext cx="5254560" cy="799920"/>
            <a:chOff x="1116000" y="4149720"/>
            <a:chExt cx="5254560" cy="799920"/>
          </a:xfrm>
        </p:grpSpPr>
        <p:sp>
          <p:nvSpPr>
            <p:cNvPr id="308" name=""/>
            <p:cNvSpPr/>
            <p:nvPr/>
          </p:nvSpPr>
          <p:spPr>
            <a:xfrm>
              <a:off x="1116000" y="4294080"/>
              <a:ext cx="36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ē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ol importante para comba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716360" y="4149720"/>
              <a:ext cx="1654200" cy="799920"/>
              <a:chOff x="4716360" y="4149720"/>
              <a:chExt cx="1654200" cy="79992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4716360" y="4365360"/>
                <a:ext cx="358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6360" y="4510080"/>
                <a:ext cx="3589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75280" y="41497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75280" y="4581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1116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1S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eP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11956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égi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fix global – patrón oro y patrón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iene el uso de 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ra obtener Vent. Comp. vía deprecia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ra Argumentos contra algunas de esta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i) Probl. del riesgo cambiario –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ser neutralizado hoy v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ols financierieros: coberturas, opciones y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viamen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sto de cobertura – pero son 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i) Evidencia Empíric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efectos de V(e) sobre trade 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erciben pequeños o 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embarg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roducción Eu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que países europeos tie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ocupación p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esgo cambiario – por cuanto policy maker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resarios creen que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esgo 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 y trade eur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5075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3)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de e-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 control tool: P. Mon. y puede seguir una P. Mon.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-flex – permite que el país tenga tool para ajuste suave a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hocks re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xcepto cuando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ticky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 retien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ñoria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4)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íntesis Ventajas Tr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e - fix                            Ventajas e - fle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iesgo cambiario                      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ool Pol. Mo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ncla nominal                          -  Tool para enfrenta shock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glob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es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-  Retención señori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116000" y="4076640"/>
            <a:ext cx="7704000" cy="2089080"/>
            <a:chOff x="1116000" y="4076640"/>
            <a:chExt cx="7704000" cy="2089080"/>
          </a:xfrm>
        </p:grpSpPr>
        <p:sp>
          <p:nvSpPr>
            <p:cNvPr id="319" name=""/>
            <p:cNvSpPr/>
            <p:nvPr/>
          </p:nvSpPr>
          <p:spPr>
            <a:xfrm>
              <a:off x="1116000" y="4543560"/>
              <a:ext cx="77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56000" y="407664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915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 a resolver: Cómo se combinan los 300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st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gún grupos de Yn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urante un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rón de C de hogares - % de los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cantidad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PC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álculo de una canasta – en año base – sea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PC muestra cuánto cuesta hoy comprar la canasta en relación al año base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79632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varios índices de precios – I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PM – mide evolución costo 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lactor del P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tene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≠ evolución, pero en general son =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76720" y="2060640"/>
                <a:ext cx="158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sa d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entender exactamente que mide la tasa de d, veamos unos conceptos prev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lación en edad de trabaja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 1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gl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2421000"/>
            <a:ext cx="3960720" cy="936720"/>
            <a:chOff x="2771640" y="2421000"/>
            <a:chExt cx="3960720" cy="936720"/>
          </a:xfrm>
        </p:grpSpPr>
        <p:sp>
          <p:nvSpPr>
            <p:cNvPr id="57" name=""/>
            <p:cNvSpPr/>
            <p:nvPr/>
          </p:nvSpPr>
          <p:spPr>
            <a:xfrm>
              <a:off x="2987640" y="2565720"/>
              <a:ext cx="1944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za. de 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7640" y="2421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up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7640" y="2781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ocup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87640" y="2492640"/>
              <a:ext cx="73080" cy="6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256572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84360" y="3357720"/>
            <a:ext cx="8280360" cy="2592360"/>
            <a:chOff x="684360" y="3357720"/>
            <a:chExt cx="8280360" cy="2592360"/>
          </a:xfrm>
        </p:grpSpPr>
        <p:sp>
          <p:nvSpPr>
            <p:cNvPr id="63" name=""/>
            <p:cNvSpPr/>
            <p:nvPr/>
          </p:nvSpPr>
          <p:spPr>
            <a:xfrm>
              <a:off x="684360" y="4294440"/>
              <a:ext cx="180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blación 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í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627280" y="3357720"/>
              <a:ext cx="6337440" cy="2025360"/>
              <a:chOff x="2627280" y="3357720"/>
              <a:chExt cx="6337440" cy="2025360"/>
            </a:xfrm>
          </p:grpSpPr>
          <p:sp>
            <p:nvSpPr>
              <p:cNvPr id="65" name=""/>
              <p:cNvSpPr/>
              <p:nvPr/>
            </p:nvSpPr>
            <p:spPr>
              <a:xfrm>
                <a:off x="2627280" y="386244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oblación en edad de trabajar : ≥ 1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5219640" y="3357720"/>
                <a:ext cx="3745080" cy="728640"/>
                <a:chOff x="5219640" y="3357720"/>
                <a:chExt cx="3745080" cy="728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219640" y="3502080"/>
                  <a:ext cx="194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za. de Trabaj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020000" y="3357720"/>
                  <a:ext cx="14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cup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020000" y="3718080"/>
                  <a:ext cx="194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socup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20000" y="3429000"/>
                  <a:ext cx="73080" cy="64800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16560 h 648000"/>
                    <a:gd name="textAreaBottom" fmla="*/ 631440 h 64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5003640" y="3429000"/>
                <a:ext cx="216000" cy="17989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46800 h 1798920"/>
                  <a:gd name="textAreaBottom" fmla="*/ 1752120 h 179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5292720" y="4294440"/>
                <a:ext cx="3200040" cy="1088640"/>
                <a:chOff x="5292720" y="4294440"/>
                <a:chExt cx="3200040" cy="10886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4583160"/>
                  <a:ext cx="1657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activ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664680" y="4294440"/>
                  <a:ext cx="1142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Jubil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63960" y="4654440"/>
                  <a:ext cx="137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studia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64680" y="5014800"/>
                  <a:ext cx="182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ueñas de ca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445440" y="4294440"/>
                  <a:ext cx="287280" cy="1080720"/>
                </a:xfrm>
                <a:custGeom>
                  <a:avLst/>
                  <a:gdLst>
                    <a:gd name="textAreaLeft" fmla="*/ 183600 w 287280"/>
                    <a:gd name="textAreaRight" fmla="*/ 287640 w 287280"/>
                    <a:gd name="textAreaTop" fmla="*/ 28080 h 1080720"/>
                    <a:gd name="textAreaBottom" fmla="*/ 1052640 h 108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"/>
            <p:cNvSpPr/>
            <p:nvPr/>
          </p:nvSpPr>
          <p:spPr>
            <a:xfrm>
              <a:off x="2627280" y="537372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blación &lt; 15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84360" y="3645000"/>
              <a:ext cx="216000" cy="230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116000" y="6118200"/>
            <a:ext cx="208764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ocup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za. d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Concep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asa Part. pued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se distingue entre desocupados e inac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: Pregunta encuesta: estuvo buscando traba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eynes – Pregunta C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q en una econ. en un momento dado sólo hay 4x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cup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1x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soc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q la econ. no es capaz de generar E para todos los q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eren trabaj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. Micro - ¿Cómo asig. rec. escasos entr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≠ usos? Prob. 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. Macro - ¿Pq en un momento dado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? – i.e. Pq no hay uso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pleno de los factores productiv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411280" y="539640"/>
            <a:ext cx="5113440" cy="825840"/>
            <a:chOff x="2411280" y="539640"/>
            <a:chExt cx="5113440" cy="825840"/>
          </a:xfrm>
        </p:grpSpPr>
        <p:sp>
          <p:nvSpPr>
            <p:cNvPr id="83" name=""/>
            <p:cNvSpPr/>
            <p:nvPr/>
          </p:nvSpPr>
          <p:spPr>
            <a:xfrm>
              <a:off x="2411280" y="826920"/>
              <a:ext cx="43210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asa Participación = 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Fza. de Tra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b.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 15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229080" y="539640"/>
              <a:ext cx="1295640" cy="726840"/>
              <a:chOff x="6229080" y="539640"/>
              <a:chExt cx="1295640" cy="726840"/>
            </a:xfrm>
          </p:grpSpPr>
          <p:sp>
            <p:nvSpPr>
              <p:cNvPr id="85" name=""/>
              <p:cNvSpPr/>
              <p:nvPr/>
            </p:nvSpPr>
            <p:spPr>
              <a:xfrm>
                <a:off x="6516360" y="53964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omb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16360" y="89820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j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6229080" y="68184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29080" y="89820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Qué es M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) Leni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mejor manera de destruir el capitalismo –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ruyendo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ruir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aca a las bases del sistema y lo hace de una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ocos se dan cuent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en el tiemp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                         P: nivel gral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) 1973: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600% (IPC)    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1000% (I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livia             Episodios de hyperinflació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4 dígitos (añ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entina     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ierde poder adquisitivo 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mos que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 conectado co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11680" y="3652920"/>
                <a:ext cx="1284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843280" y="4869000"/>
            <a:ext cx="71280" cy="57600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)                Problema  econ-social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emigo del pueblo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x crue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j gan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ŝ &amp; com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ran m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e) Es efectivo lo q señalo Lenin?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equivoco en otras 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ía razón c/r a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¿Qué es M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) Hombre de la calle – Rico – tiene mucho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e riqueza &amp;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es solo uno de los componentes de la riqu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conomía – interesa el concepto econ. de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b) Def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stock de activos que tiene la gente y que usa para realiza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050920" y="1052280"/>
            <a:ext cx="433440" cy="576360"/>
            <a:chOff x="2050920" y="1052280"/>
            <a:chExt cx="433440" cy="576360"/>
          </a:xfrm>
        </p:grpSpPr>
        <p:sp>
          <p:nvSpPr>
            <p:cNvPr id="95" name=""/>
            <p:cNvSpPr/>
            <p:nvPr/>
          </p:nvSpPr>
          <p:spPr>
            <a:xfrm flipV="1">
              <a:off x="2050920" y="105228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12682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0920" y="1268280"/>
              <a:ext cx="4334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35280" y="4581360"/>
            <a:ext cx="360360" cy="287640"/>
            <a:chOff x="1835280" y="4581360"/>
            <a:chExt cx="360360" cy="287640"/>
          </a:xfrm>
        </p:grpSpPr>
        <p:sp>
          <p:nvSpPr>
            <p:cNvPr id="99" name=""/>
            <p:cNvSpPr/>
            <p:nvPr/>
          </p:nvSpPr>
          <p:spPr>
            <a:xfrm>
              <a:off x="1835280" y="4581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92360" y="5877000"/>
            <a:ext cx="7127280" cy="800280"/>
            <a:chOff x="1692360" y="5877000"/>
            <a:chExt cx="7127280" cy="800280"/>
          </a:xfrm>
        </p:grpSpPr>
        <p:sp>
          <p:nvSpPr>
            <p:cNvPr id="102" name=""/>
            <p:cNvSpPr/>
            <p:nvPr/>
          </p:nvSpPr>
          <p:spPr>
            <a:xfrm>
              <a:off x="1692360" y="6164640"/>
              <a:ext cx="5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195280" y="609300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280" y="630900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55640" y="5877000"/>
              <a:ext cx="41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lletes &amp; monedas  - simplificación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5640" y="6309000"/>
              <a:ext cx="62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écnicamente tb los cheques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billetes + Cta. Ct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915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)                                          Medio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Pq se usa M1?               Unidad de c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ósito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    Rol de medio de pago – Ecom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ue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ienes y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ividu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viduo 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rece zapatos y quiere azú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viduo j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rece vino y quier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hacer transacciones i y j?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. Trueque – requier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ble coincidencia de neces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que 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a en el mismo instante de tiemp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. Trueque – sólo permite transacciones si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 econ. monetaria – permit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nsacciones indirec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scoge un bien como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ner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cual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se intercambia por ese bie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# de transacciones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    Rol Unidad de c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s – micro – econ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tos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que saber si 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idad de cu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64000" y="764640"/>
            <a:ext cx="576360" cy="721080"/>
            <a:chOff x="3564000" y="764640"/>
            <a:chExt cx="576360" cy="721080"/>
          </a:xfrm>
        </p:grpSpPr>
        <p:sp>
          <p:nvSpPr>
            <p:cNvPr id="109" name=""/>
            <p:cNvSpPr/>
            <p:nvPr/>
          </p:nvSpPr>
          <p:spPr>
            <a:xfrm flipV="1">
              <a:off x="3564000" y="76464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64000" y="112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4000" y="112536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ímenes Camb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verview Histórico de Regímene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glo XI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- Prevalece Patrón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Patrón O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-fix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.C. (Autoriada Monetaria) est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ometida a mant. de una paridad fija entre $ y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Si todas las monedas establecen – paridad fija c/r 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idad fija entre ellas (si fue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rbitra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) Patrón Oro – prevalece en gloria: 1870-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lapsa en los 30 – durante la Gran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t WWII – 1945-1971: Acuerdo Bretton Woods - F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Patrón US$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71640" y="5229360"/>
            <a:ext cx="5977080" cy="800280"/>
            <a:chOff x="2771640" y="5229360"/>
            <a:chExt cx="5977080" cy="800280"/>
          </a:xfrm>
        </p:grpSpPr>
        <p:sp>
          <p:nvSpPr>
            <p:cNvPr id="115" name=""/>
            <p:cNvSpPr/>
            <p:nvPr/>
          </p:nvSpPr>
          <p:spPr>
            <a:xfrm>
              <a:off x="3132000" y="522936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odas las monedas establecen paridad c/r a 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2000" y="566136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US$ - Convertible a oro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US$35/o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71640" y="5445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55897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 Bordón</cp:lastModifiedBy>
  <dcterms:modified xsi:type="dcterms:W3CDTF">2007-10-02T15:31:54Z</dcterms:modified>
  <cp:revision>108</cp:revision>
  <dc:subject/>
  <dc:title>Macro and Financial Flows in the Global Economy</dc:title>
</cp:coreProperties>
</file>