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8E9-1F3C-4656-B1E0-162C71F6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B69-0F6C-43AE-9410-567262E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D14-ED70-47DD-8161-4936F853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D26-E594-415A-8E91-1A1D0A9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579-2B2A-483E-9E0E-321CD41A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BE8-8A9A-4F95-8CFF-2ED0ACE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299-6EC4-47F0-AD39-8FACA97F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937-662B-4B8D-914F-4EC75A2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ED8-76E5-4C1C-82E3-68DCD304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1C7-637C-44FA-B376-4FA5C83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4BE-0098-45C4-A6B9-2214350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CB3-9687-4F15-A9FA-124ED85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734-8F97-4369-BF33-EEB5F87295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205000"/>
            <a:ext cx="756144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Indus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Comercial Estraté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as y Temas del Mun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. Vent. Comparativa 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&gt;  ¿ Explica patrón comercio internacional? 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gran parte comercio* es entre P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09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o entre países simila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666880"/>
            <a:ext cx="8686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C =&gt; Postular L.C y RUT  en mundo que existe proteccionismo y 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l país local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500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chances de comp. tienen productores loc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862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equilibrio comerci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-- ¿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ostular L.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34340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l Gob: Por qué se supone rol del gobierno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Gob. está presente en to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0920" y="5084640"/>
            <a:ext cx="8686800" cy="1600200"/>
            <a:chOff x="250920" y="5084640"/>
            <a:chExt cx="8686800" cy="1600200"/>
          </a:xfrm>
        </p:grpSpPr>
        <p:sp>
          <p:nvSpPr>
            <p:cNvPr id="113" name=""/>
            <p:cNvSpPr/>
            <p:nvPr/>
          </p:nvSpPr>
          <p:spPr>
            <a:xfrm>
              <a:off x="250920" y="5084640"/>
              <a:ext cx="868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b.- controlan comercio d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maneras    Negociación gob.  OMC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Neg. en ALC que se da a cambio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Represali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Feliz si empresa local gana contr. extr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Política Com. - Tool Polí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8000" y="50846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28600"/>
            <a:ext cx="868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íses =&gt; Gob.  intervenir en cuestión comercial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ger/ ayudar productor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t de decis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1413000"/>
            <a:ext cx="8686800" cy="2094840"/>
            <a:chOff x="250920" y="1413000"/>
            <a:chExt cx="8686800" cy="2094840"/>
          </a:xfrm>
        </p:grpSpPr>
        <p:sp>
          <p:nvSpPr>
            <p:cNvPr id="118" name=""/>
            <p:cNvSpPr/>
            <p:nvPr/>
          </p:nvSpPr>
          <p:spPr>
            <a:xfrm>
              <a:off x="250920" y="1413000"/>
              <a:ext cx="86868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 es dicotomía (corner. Solució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L.C o Protección Tot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o que selección combinaciones + adecuadas de liberalización y políticas internas---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440" y="209880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57440" y="1869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312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ional y contribuye a sistema comercial Internacional + abier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ce conflicto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49720"/>
            <a:ext cx="8686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idelines para determinar cual es la política comercial + adec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mundo real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00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hacer ante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 Teoría: Tolerancia y mantener estrategia liberalización un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240" y="586728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represalia estratégica puede ser mejor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mbiar patrón distorsionador país vi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0920" y="0"/>
            <a:ext cx="8686800" cy="3323880"/>
            <a:chOff x="250920" y="0"/>
            <a:chExt cx="8686800" cy="3323880"/>
          </a:xfrm>
        </p:grpSpPr>
        <p:sp>
          <p:nvSpPr>
            <p:cNvPr id="127" name=""/>
            <p:cNvSpPr/>
            <p:nvPr/>
          </p:nvSpPr>
          <p:spPr>
            <a:xfrm>
              <a:off x="250920" y="0"/>
              <a:ext cx="8686800" cy="33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e-80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ost-8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eoría              Competencia Perfecta          =&gt;                Mercados Oligopó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ercio         Ret. Constantes                                        Ret. Crec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nacional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xternalida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os modelos cuestionar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hasta que punto ventaja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comparativas explican el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patrón comerc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8480" y="457200"/>
              <a:ext cx="73080" cy="12193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07000" y="304920"/>
              <a:ext cx="73080" cy="16002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7080" y="1700280"/>
              <a:ext cx="217440" cy="380880"/>
            </a:xfrm>
            <a:prstGeom prst="downArrow">
              <a:avLst>
                <a:gd name="adj1" fmla="val 50000"/>
                <a:gd name="adj2" fmla="val 43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3733920"/>
            <a:ext cx="8686800" cy="2041560"/>
            <a:chOff x="228600" y="3733920"/>
            <a:chExt cx="8686800" cy="2041560"/>
          </a:xfrm>
        </p:grpSpPr>
        <p:sp>
          <p:nvSpPr>
            <p:cNvPr id="132" name=""/>
            <p:cNvSpPr/>
            <p:nvPr/>
          </p:nvSpPr>
          <p:spPr>
            <a:xfrm>
              <a:off x="228600" y="3733920"/>
              <a:ext cx="8686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incipio Vent Comp.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comercio ---países quieren aprovechar su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íses que s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ganancias al comerci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T y Yt                                           =&gt;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Wf al comer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dotación factore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" y="4581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640" y="55040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8920" y="5013360"/>
              <a:ext cx="73080" cy="7621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es econ. escala - puede ser un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induce a la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95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Teoría----Sólo comercian paíse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057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íses iguales también comercian--- existen marcas=&gt; Mercados Imper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068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s teorías : Patrón comercio = F(econ. de esc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 de escala -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vent. Comp. - que afecta Patró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ancia del Comercio Intra-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25% del comercio mundial corresponde a comercio intra-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2133720"/>
            <a:ext cx="8686800" cy="1326240"/>
            <a:chOff x="250920" y="2133720"/>
            <a:chExt cx="8686800" cy="1326240"/>
          </a:xfrm>
        </p:grpSpPr>
        <p:sp>
          <p:nvSpPr>
            <p:cNvPr id="144" name=""/>
            <p:cNvSpPr/>
            <p:nvPr/>
          </p:nvSpPr>
          <p:spPr>
            <a:xfrm>
              <a:off x="250920" y="213372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i) PD  T similar            =&gt;   No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ventajas comparativas en indus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/T) simi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4880" y="2133720"/>
              <a:ext cx="74520" cy="12952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360" y="2133720"/>
              <a:ext cx="114120" cy="1295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840" y="2133720"/>
              <a:ext cx="2160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3581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D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pecialización según ventajas comparativas en 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956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) Pq es importante comercio intra-industrial? =&gt; Países similares tambié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an y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562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rcio intra-industrial   =&gt;     ganancias adicionales del comerci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icionales a ventajas compa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especial en ALC - Autos - Canadá pre-19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838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cción Tf - Pre-1965 - en Canadá y USA dio lugar a creación industria automovilística canadiense que era autosuficiente - no X y no M-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canadiense estaba controlada por las mismas empresas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362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auto canadiense es una mini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iales canadienses estimaban que &lt; escala era una desventaja - filiales USA podían especializarse en modelo o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886200"/>
            <a:ext cx="8686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ustria canadiense tenían &l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industria USA - aprox 30% &l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&g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ad. = 0.70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solver esto ALC - Canadá -USA en mercado. automo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715000"/>
            <a:ext cx="86868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la mitad # modelos hechos en Canadá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mantuvo el nivel global de la producción y del empleo ---- esto se hizo 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228600"/>
            <a:ext cx="8610480" cy="1789920"/>
            <a:chOff x="228600" y="228600"/>
            <a:chExt cx="8610480" cy="1789920"/>
          </a:xfrm>
        </p:grpSpPr>
        <p:sp>
          <p:nvSpPr>
            <p:cNvPr id="160" name=""/>
            <p:cNvSpPr/>
            <p:nvPr/>
          </p:nvSpPr>
          <p:spPr>
            <a:xfrm>
              <a:off x="228600" y="228600"/>
              <a:ext cx="86104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ercado autos - US$ Mil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962               19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nadá        X a USA             16               2.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 de USA         519              2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93840" y="1049400"/>
              <a:ext cx="358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360" y="692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2360" y="765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9640" y="1125360"/>
              <a:ext cx="71280" cy="7621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220968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 Automotriz =&gt;  L.C en amb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ujeto a restricción reconversión productiv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3284640"/>
            <a:ext cx="8610480" cy="1941480"/>
            <a:chOff x="228600" y="3284640"/>
            <a:chExt cx="8610480" cy="1941480"/>
          </a:xfrm>
        </p:grpSpPr>
        <p:sp>
          <p:nvSpPr>
            <p:cNvPr id="167" name=""/>
            <p:cNvSpPr/>
            <p:nvPr/>
          </p:nvSpPr>
          <p:spPr>
            <a:xfrm>
              <a:off x="228600" y="3352680"/>
              <a:ext cx="861048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tuvo nivel Y &amp;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2000" y="3284640"/>
              <a:ext cx="71280" cy="14475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" y="51814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ncia Central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onomías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867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e posibilidad a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0920" y="549360"/>
            <a:ext cx="8686800" cy="1371600"/>
            <a:chOff x="250920" y="549360"/>
            <a:chExt cx="8686800" cy="1371600"/>
          </a:xfrm>
        </p:grpSpPr>
        <p:sp>
          <p:nvSpPr>
            <p:cNvPr id="172" name=""/>
            <p:cNvSpPr/>
            <p:nvPr/>
          </p:nvSpPr>
          <p:spPr>
            <a:xfrm>
              <a:off x="250920" y="549360"/>
              <a:ext cx="8686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vención gob. Vía       Barrera M   =&gt;     Generación nuevo Patrón 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bsidio X           que puede ir en el interés nacional =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x Wf en detrimento Wf mund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9520" y="549360"/>
              <a:ext cx="72360" cy="838080"/>
            </a:xfrm>
            <a:custGeom>
              <a:avLst/>
              <a:gdLst>
                <a:gd name="textAreaLeft" fmla="*/ 46440 w 72360"/>
                <a:gd name="textAreaRight" fmla="*/ 72720 w 723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9600" y="549360"/>
              <a:ext cx="72000" cy="1371600"/>
            </a:xfrm>
            <a:custGeom>
              <a:avLst/>
              <a:gdLst>
                <a:gd name="textAreaLeft" fmla="*/ 46080 w 72000"/>
                <a:gd name="textAreaRight" fmla="*/ 72000 w 720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teóric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8954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de escala en mercados monopólicos =&gt; pueden gener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 productivas arbitraria de l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patrón comercial está determinado por las econ. de escala , esto (vía IO) =&gt; que estructuras monopolísticas pueden determinar la estructura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. debiera fomentar grandes monopolios locales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con. de escala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s ganancias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L.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C es mejor qu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 L.C no es obviamente mejor que intervención gob. sofist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óricamente L.C es óptimo en un mundo en que priman laissez faire y mercado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i el mundo es 2nd Best---existen mcdos. imperf. y econ.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 intervención gob. puede mejorar en teoría solución del mc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495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2578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ia empírica: En mundo en qu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ornos crecientes a escala y hay competencia imperfect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resas “afortunadas” en algunas industrias que obtienen 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6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escala suficientemente grandes =&gt; que en algunas industr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ólo cabe un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861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si se queda una sola empresa =&gt; esa va a ten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1752480"/>
            <a:ext cx="8699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aís pue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ional si logra asegurar que sea la empresa lo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que se quede en ese mercado y no la empresa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7082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Avión - transporta 150 pasajeros USA-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3526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1 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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hipo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33360" y="4048200"/>
            <a:ext cx="8612280" cy="1676160"/>
            <a:chOff x="333360" y="4048200"/>
            <a:chExt cx="8612280" cy="1676160"/>
          </a:xfrm>
        </p:grpSpPr>
        <p:sp>
          <p:nvSpPr>
            <p:cNvPr id="192" name=""/>
            <p:cNvSpPr/>
            <p:nvPr/>
          </p:nvSpPr>
          <p:spPr>
            <a:xfrm>
              <a:off x="333360" y="404820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Entra    -5   -5       10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o        0  100       0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8862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530064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16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80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a favor de la P.C.E - P.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.I. Acción Gobierno para estimular g sectores considerad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s para g futuro de la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236232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cuencias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Primer Problema : Criterio de selec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escoger los sectores que deben ser elegidos a expensas del res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2743200"/>
            <a:ext cx="8686800" cy="990720"/>
            <a:chOff x="228600" y="2743200"/>
            <a:chExt cx="8686800" cy="990720"/>
          </a:xfrm>
        </p:grpSpPr>
        <p:sp>
          <p:nvSpPr>
            <p:cNvPr id="54" name=""/>
            <p:cNvSpPr/>
            <p:nvPr/>
          </p:nvSpPr>
          <p:spPr>
            <a:xfrm>
              <a:off x="228600" y="281952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ímulo de un sector          =&gt;            Subsidio sector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iscriminación &lt; 0 contra otros            Tax sector j 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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competenci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743200"/>
              <a:ext cx="104760" cy="99072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4952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finir una P.I , Gob. tiene que hacer 2 cosas disti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425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Identificar las industrias de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 Saber que sectores crecerán o se concentrarán más rápidamente si se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an solos a acción de fuerza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0384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atriz #2 : Gob. UE apoya a Airbus y da +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720" y="4581360"/>
            <a:ext cx="861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bus (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         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eing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entra      -5   +5       10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US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No          0  110       0   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08120" y="5041800"/>
            <a:ext cx="2738520" cy="1143000"/>
            <a:chOff x="1608120" y="5041800"/>
            <a:chExt cx="2738520" cy="1143000"/>
          </a:xfrm>
        </p:grpSpPr>
        <p:sp>
          <p:nvSpPr>
            <p:cNvPr id="200" name=""/>
            <p:cNvSpPr/>
            <p:nvPr/>
          </p:nvSpPr>
          <p:spPr>
            <a:xfrm>
              <a:off x="1608120" y="53467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9280" y="5734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0320" y="5041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5084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as empresas son capaces de producir avión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s aviones sólo sirven para mercad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90720"/>
            <a:ext cx="8686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supuesto simplificatorio   permite vincular país con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cluye consumer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cdo. es rentable para 1 empresa---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érdidas si entran las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05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Boeing USA es más ágil, más dinámica, reacciona primero y empieza fabricación avión para hacer crowding out y quedarse s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Gobierno UE reaccciona y quiere cambiar el resultado pot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rece subsidio 10 a Airbus para que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286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comerci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raté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&gt;actuar rápido para cambiar un eventual resul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6858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teriormente Airbus devuelve ese subsidio con </a:t>
            </a:r>
            <a:r>
              <a:rPr b="0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mayor =&gt; gana el paí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ítica comercial estratégica genera matriz #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ale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096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rvención adecuada del gob. Apoyando a las empresas locales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de que éstas capturen mcdo. oligopó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124080"/>
            <a:ext cx="868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 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resas nacionales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B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 alterna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267080"/>
            <a:ext cx="86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3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7760" y="4695840"/>
            <a:ext cx="8612280" cy="1676520"/>
            <a:chOff x="977760" y="4695840"/>
            <a:chExt cx="8612280" cy="1676520"/>
          </a:xfrm>
        </p:grpSpPr>
        <p:sp>
          <p:nvSpPr>
            <p:cNvPr id="219" name=""/>
            <p:cNvSpPr/>
            <p:nvPr/>
          </p:nvSpPr>
          <p:spPr>
            <a:xfrm>
              <a:off x="977760" y="469584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Entra.     5   -20    125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00     0 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4160" y="55339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0920" y="5950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636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804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228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ste caso Boeing tiene una ventaja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858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si Gobierno UE proporciona subsidio +25 a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34136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4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1700280"/>
            <a:ext cx="8612280" cy="1675800"/>
            <a:chOff x="1476360" y="1700280"/>
            <a:chExt cx="8612280" cy="1675800"/>
          </a:xfrm>
        </p:grpSpPr>
        <p:sp>
          <p:nvSpPr>
            <p:cNvPr id="228" name=""/>
            <p:cNvSpPr/>
            <p:nvPr/>
          </p:nvSpPr>
          <p:spPr>
            <a:xfrm>
              <a:off x="1476360" y="170028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.      5     5      125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25       0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760" y="253800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52760" y="292716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1460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664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0920" y="3789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tese el rol del subsidio: OK Matriz 1---Pésimo Matriz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PCE dependería de tener una lectura precisa de la 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ra alternativ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b. USA subsidia también =&gt; escalada de subsi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486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: Airbus consorcio europeo de los 60´s para enfrentar rol monopólico de la Boe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6093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1994 =&gt; por 1era vez Airbus vendió + aviones que 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 y OMC han tenido duras quejas rol Gob. que está generando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 “inju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 Airbus en  mercado avion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po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tipos de benefic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4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&lt; P para  consumers resultantes por el hecho de que en vez de un mercado       Monopólico hay Oligopó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133720"/>
            <a:ext cx="8686800" cy="368280"/>
            <a:chOff x="228600" y="2133720"/>
            <a:chExt cx="8686800" cy="368280"/>
          </a:xfrm>
        </p:grpSpPr>
        <p:sp>
          <p:nvSpPr>
            <p:cNvPr id="242" name=""/>
            <p:cNvSpPr/>
            <p:nvPr/>
          </p:nvSpPr>
          <p:spPr>
            <a:xfrm>
              <a:off x="228600" y="213372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ternalidades &gt; 0 generadas por la  T   utilizada en la producción de av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38520" y="2166840"/>
              <a:ext cx="28584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8600" y="2590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das por Air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12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sultados empíricos caso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716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Presencia Airbus ha afectado marginalmente P aviones comerciales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3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267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Impacto Airbus en  externalidad innovación tecnológica sobre otras actividad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ómicas  ha sido &lt; = o casi n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508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Presencia  Airbus ha afectado seriamente el nivel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Boeing: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$1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7150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bus ha generad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US$ 50B con r   6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94160" y="577224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0920" y="404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.- Airbus ha impli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&lt; 0 para Wf socia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 Impacto &gt; 0 para Wf social europ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ínt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ítica la Teoría HO y Ventajas Comparativas Tr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1337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ud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78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 explica realmente lo que pasa en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33577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.C. y RUT son realmente las mejores políticas que Max(B.soc.)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etencia imperfecta y Gob. Extranjero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3657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mercado imperfecto existe diferencia entre Max W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Max 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2286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ía convencional del comercio           Nueva teoría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- Bs. homogéneos como trigo                 Bs. Complejos: av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653000"/>
            <a:ext cx="8915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¿Qué determina el patrón productivo    La historia importa: una industria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un país?-V. Comp. (dot.  recursos)        estableció inicialmente en un país =&gt;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adquiere Vent. Comp. y reconocimient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Ej: reloj en Su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rón determinístico de V. Comp.             V. Comp.pueden  variar o ser adquir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1413000"/>
            <a:ext cx="8915400" cy="3029040"/>
            <a:chOff x="228600" y="1413000"/>
            <a:chExt cx="8915400" cy="3029040"/>
          </a:xfrm>
        </p:grpSpPr>
        <p:sp>
          <p:nvSpPr>
            <p:cNvPr id="266" name=""/>
            <p:cNvSpPr/>
            <p:nvPr/>
          </p:nvSpPr>
          <p:spPr>
            <a:xfrm>
              <a:off x="228600" y="1413000"/>
              <a:ext cx="891540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Por qué existe comercio?                     Existe comercio entre países ig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í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íses comercian 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entajas a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K/T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anancia         especializ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con. escala =&gt; países se especializ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ciertos casos puede que sólo sea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eficiente que exista sólo 2 o 1 empres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nivel mundi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2349360"/>
              <a:ext cx="77760" cy="60984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0360" y="2565360"/>
              <a:ext cx="77760" cy="838080"/>
            </a:xfrm>
            <a:custGeom>
              <a:avLst/>
              <a:gdLst>
                <a:gd name="textAreaLeft" fmla="*/ 0 w 77760"/>
                <a:gd name="textAreaRight" fmla="*/ 28080 w 777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ancias de Política y Rol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06668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 Es distinto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Max Wf* .   Políticas gob. =&gt;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676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En mercado oligopólico =&gt;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28600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íticas de shifting - rentas a oligopolio local =&gt; Aumentan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95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 Concepto de renta - (rent) v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3500280"/>
            <a:ext cx="8534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 Si empresa oligopolio local tiene renta =&gt; NO importa tanto quién capta la renta ya sea empresarios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,  gob (tax&gt;) , mientras agentes sean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 Enfoque convencional de trade - no plantea dilema de quien se aprovecha de la renta oligop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326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 P.C.E =&gt; generar suficiente renta oligopólica hacia empresas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. especial =&gt; consumidores locales pueden verse afectados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oligopolio local les quita parte de su exce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304920"/>
            <a:ext cx="8686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)  En mundo oligopólico empresas compiten entre s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ptar &gt; parte de las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197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ob: “ Pick winners” o “make winners” , o: “do not pick los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4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2. Cuáles winner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---  los que generan 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2421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idades  =&gt; argumentos distinto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2886120"/>
            <a:ext cx="8686800" cy="457200"/>
            <a:chOff x="250920" y="2886120"/>
            <a:chExt cx="8686800" cy="457200"/>
          </a:xfrm>
        </p:grpSpPr>
        <p:sp>
          <p:nvSpPr>
            <p:cNvPr id="283" name=""/>
            <p:cNvSpPr/>
            <p:nvPr/>
          </p:nvSpPr>
          <p:spPr>
            <a:xfrm>
              <a:off x="250920" y="292428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eva teoría de comercio le da la innovación    T    rol cru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2886120"/>
              <a:ext cx="4334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0920" y="3429000"/>
            <a:ext cx="8686800" cy="668160"/>
            <a:chOff x="250920" y="3429000"/>
            <a:chExt cx="8686800" cy="668160"/>
          </a:xfrm>
        </p:grpSpPr>
        <p:sp>
          <p:nvSpPr>
            <p:cNvPr id="286" name=""/>
            <p:cNvSpPr/>
            <p:nvPr/>
          </p:nvSpPr>
          <p:spPr>
            <a:xfrm>
              <a:off x="250920" y="342900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teoría tradicional de Comercio este problema  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pues se supone que todos los países usan la %   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68600" y="3716280"/>
              <a:ext cx="361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50920" y="4292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no haber innovación local 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ternalidades 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79736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 se requiere 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subsidio gen) a todas las industrias generadoras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(UNIVERS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71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Existe opción Política Activist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172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esto no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ything g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8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Existen sectores estratégicos 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9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identificar algunos sectores cuya expansión en el margen es + valiosa que la de otros sector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484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 sectores estratégicos en la econo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9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ía convencional comercio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ctores estraté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65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a teoría comercio =&gt; pueden haber sectores estratégicos después de todo, debi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417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e economías 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ventajas de la experiencia histórica (ventaja ser pri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rol de la innovación =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5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. Cómo identificar los sectores estratég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5772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criterio-- sectores &gt;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Sectores con &gt; externalidades impacto sobre innovación y tecnologías f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0786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6. Es posible una P.C.E exit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50920" y="260280"/>
            <a:ext cx="8686800" cy="914400"/>
            <a:chOff x="250920" y="260280"/>
            <a:chExt cx="8686800" cy="914400"/>
          </a:xfrm>
        </p:grpSpPr>
        <p:sp>
          <p:nvSpPr>
            <p:cNvPr id="60" name=""/>
            <p:cNvSpPr/>
            <p:nvPr/>
          </p:nvSpPr>
          <p:spPr>
            <a:xfrm>
              <a:off x="250920" y="26028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 WW II (1940-1980)      A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260280"/>
              <a:ext cx="73080" cy="9144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0920" y="148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1980 =&gt; TI =&gt; Software y bio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infiere que Gob. USA debiera aplicar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8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consecuencia --fuerzas mercado están generando incentivos pa pase 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500280"/>
            <a:ext cx="86868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justificar P.I. habría que explicar pq incentivos mercado no están generando desplazamientos requeridos de recursos (o pq está funcionando lentam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falla del merca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084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ajas comparativas a futuro, pq empresarios no están I all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para P.I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tán planteados dentro formato fall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) Ind. c´&gt;  V. Ag. =&gt; V. Agr/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) Ind. que tien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r-relación clav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otras indust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) Ind. que tienen  g- potencial dinámic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) Ind. atractivas  como objetivo por gobierno extran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476280"/>
            <a:ext cx="8686800" cy="1326240"/>
            <a:chOff x="0" y="476280"/>
            <a:chExt cx="8686800" cy="1326240"/>
          </a:xfrm>
        </p:grpSpPr>
        <p:sp>
          <p:nvSpPr>
            <p:cNvPr id="69" name=""/>
            <p:cNvSpPr/>
            <p:nvPr/>
          </p:nvSpPr>
          <p:spPr>
            <a:xfrm>
              <a:off x="0" y="47628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dustrias c&gt; g- futuro - Ej: Davos 1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avos 2000       T.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Biotecnolog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6720" y="981000"/>
              <a:ext cx="73080" cy="6858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200" y="2060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es es posible predecir que industrias van a tener  &gt; g en el futuro cercano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85264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i Gob. tiene mejor IF que el S. Priv.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ía seleccionar los sectores gan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: Cuánto + sabe burócrata que empresario c/r que va a pasar--sector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 sabe  burócrata – pq. no lo saben  empresarios priv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5257800"/>
            <a:ext cx="8686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ED empresas son míopes, sólo ven C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burócratas con gran visión L.P, Pq no son atraídos por el sector privado?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no forman su empresa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rarrestar P.I. - de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19700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. Ind. como medida defensiva:  Si otros países protegen y subsidian sector agrícola----  Habría aquí que hacer lo mis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08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Japón subsidia Autos y genera contracción en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USA apoyar su industria automotri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(no) lo  hiciera los otros PD estarían definiendo la estructura ind. d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1497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-  Es más eficiente stockearse con productos que pueden ser vitales para un eventual confli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almacenamiento es mucho &lt; que costo que se pagaría por &gt;P todo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61000"/>
            <a:ext cx="868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seguridad nacional es básicamente interesad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protec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3320" y="23508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uridad Nacional - Industria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sectores que se consideran “estratégicos” y que los paí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quieren depender de otros para su abastecimiento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alimentos, acero, P, 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280" y="198900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umento seguridad nacional para políticas proteccionistas =&gt; tiene varias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0" y="2565360"/>
            <a:ext cx="86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- En el evento de una guerra o de una catástrofe es mejor crear nuev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q debieran consumidores pagar  &gt;P por  acero y alimento e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s de pa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mantener capacidad productiva para eventual guer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 - Polít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s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discrepan en muchas 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0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ú: Ventajas comparativas y L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9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 L.C es óptimo =&gt; no debiera haber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86200"/>
            <a:ext cx="8686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 Argumentació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Cómo es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5013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para disminuir desequilibrio USA-Japó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91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: L.C parece demasiado ingenua y además in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tomía Teórica- Empí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920" y="836640"/>
            <a:ext cx="9443880" cy="1637280"/>
            <a:chOff x="250920" y="836640"/>
            <a:chExt cx="9443880" cy="1637280"/>
          </a:xfrm>
        </p:grpSpPr>
        <p:sp>
          <p:nvSpPr>
            <p:cNvPr id="96" name=""/>
            <p:cNvSpPr/>
            <p:nvPr/>
          </p:nvSpPr>
          <p:spPr>
            <a:xfrm>
              <a:off x="250920" y="841680"/>
              <a:ext cx="9443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Economía =&gt; Modelo Teóric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. Perfecta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V.Comp.= F(Dot.)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Ret.Ctes                     L.C.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ac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No existe Gob.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Gob. no interv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9360" y="836640"/>
              <a:ext cx="71640" cy="99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1360" y="836640"/>
              <a:ext cx="71640" cy="1295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4080" y="1197000"/>
              <a:ext cx="73080" cy="5335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2362320"/>
            <a:ext cx="8915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undo Real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. Imperf. =&gt; V. Comp. = F(econ. escala, ser 1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hacer frente a cuestiones concret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Es mejor alternativa para país local- no hacer 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57200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  =&gt; ¿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.   Presente &amp; Futuro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638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con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6:08Z</dcterms:created>
  <dc:creator>.</dc:creator>
  <dc:description/>
  <dc:language>en-US</dc:language>
  <cp:lastModifiedBy>Paola Bordón</cp:lastModifiedBy>
  <dcterms:modified xsi:type="dcterms:W3CDTF">2007-09-09T01:45:43Z</dcterms:modified>
  <cp:revision>40</cp:revision>
  <dc:subject/>
  <dc:title>Política Comercial</dc:title>
</cp:coreProperties>
</file>