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8C4E-F9B8-4901-9DE7-DBFA56CF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3290-81A1-4D54-ACD1-F0B4689A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5122-C007-44D8-8401-A68B6B28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7602-8C3D-4641-B888-B2735841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5E61-1AF0-4D7E-94BD-D0CF3CDA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EB3A-4844-452C-82E1-50E9955B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7810-0A91-4DBF-B2D3-24CE5008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5A62-283E-44E3-A48E-AC1C27EF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D11E-EBE2-4F4E-9E2C-504F46A1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CA42-B136-4B41-B0E7-07622105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4777-FD2B-476B-A989-DD1767AA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C707-18C7-414A-A3D2-A2290BF7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2696-B145-4430-9084-732A2BB60D1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1520" y="3022560"/>
            <a:ext cx="822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863640" cy="854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1908000" y="620640"/>
          <a:ext cx="4032000" cy="1007640"/>
        </p:xfrm>
        <a:graphic>
          <a:graphicData uri="http://schemas.openxmlformats.org/drawingml/2006/table">
            <a:tbl>
              <a:tblPr/>
              <a:tblGrid>
                <a:gridCol w="403200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VERSIDAD DE 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. DE CIENCIAS FÍSICAS Y MATEMÁ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eniería Industri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340000" y="501336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32000" y="249228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2205000"/>
            <a:ext cx="7561440" cy="23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olítica Indust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olítica Comercial Estratégic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941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tricio Mell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94920" y="5589720"/>
            <a:ext cx="471924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gíster en Gestión para la Glob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blemas y Temas del Mundo R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2193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T. Vent. Comparativa :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&gt;  ¿ Explica patrón comercio internacional?  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7524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q gran parte comercio* es entre P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22096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q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comercio entre países similar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2666880"/>
            <a:ext cx="86868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.C =&gt; Postular L.C y RUT  en mundo que existe proteccionismo y subsid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&gt;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del país local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3500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é chances de comp. tienen productores loca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3886200"/>
            <a:ext cx="8686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óm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equilibrio comercia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--- ¿ví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postular L.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4343400"/>
            <a:ext cx="86868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ol Gob: Por qué se supone rol del gobierno =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Gob. está presente en todo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50920" y="5084640"/>
            <a:ext cx="8686800" cy="1600200"/>
            <a:chOff x="250920" y="5084640"/>
            <a:chExt cx="8686800" cy="1600200"/>
          </a:xfrm>
        </p:grpSpPr>
        <p:sp>
          <p:nvSpPr>
            <p:cNvPr id="113" name=""/>
            <p:cNvSpPr/>
            <p:nvPr/>
          </p:nvSpPr>
          <p:spPr>
            <a:xfrm>
              <a:off x="250920" y="5084640"/>
              <a:ext cx="8686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b.- controlan comercio de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 maneras    Negociación gob.  OMC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Neg. en ALC que se da a cambio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Represalia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Feliz si empresa local gana contr. extr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Política Com. - Tool Polít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18000" y="5084640"/>
              <a:ext cx="76320" cy="16002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8600" y="228600"/>
            <a:ext cx="86868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íses =&gt; Gob.  intervenir en cuestión comercial pa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ger/ ayudar productores n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990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t de decisión del 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0920" y="1413000"/>
            <a:ext cx="8686800" cy="2094840"/>
            <a:chOff x="250920" y="1413000"/>
            <a:chExt cx="8686800" cy="2094840"/>
          </a:xfrm>
        </p:grpSpPr>
        <p:sp>
          <p:nvSpPr>
            <p:cNvPr id="118" name=""/>
            <p:cNvSpPr/>
            <p:nvPr/>
          </p:nvSpPr>
          <p:spPr>
            <a:xfrm>
              <a:off x="250920" y="1413000"/>
              <a:ext cx="8686800" cy="20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o es dicotomía (corner. Solució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L.C o Protección Tota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ino que selección combinaciones + adecuadas de liberalización y políticas internas---que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7440" y="2098800"/>
              <a:ext cx="36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757440" y="1869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8600" y="3124080"/>
            <a:ext cx="8686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nacional y contribuye a sistema comercial Internacional + abiert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ce conflictos intern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149720"/>
            <a:ext cx="86868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5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uidelines para determinar cual es la política comercial + adecu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el mundo real a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4800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é hacer ante países que violan reglas comerciales internaciona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533412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uesta Teoría: Tolerancia y mantener estrategia liberalización un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8240" y="5867280"/>
            <a:ext cx="877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: represalia estratégica puede ser mejor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cambiar patrón distorsionador país vio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250920" y="0"/>
            <a:ext cx="8686800" cy="3323880"/>
            <a:chOff x="250920" y="0"/>
            <a:chExt cx="8686800" cy="3323880"/>
          </a:xfrm>
        </p:grpSpPr>
        <p:sp>
          <p:nvSpPr>
            <p:cNvPr id="127" name=""/>
            <p:cNvSpPr/>
            <p:nvPr/>
          </p:nvSpPr>
          <p:spPr>
            <a:xfrm>
              <a:off x="250920" y="0"/>
              <a:ext cx="8686800" cy="33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Pre-80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</a:t>
              </a:r>
              <a:r>
                <a:rPr b="1" lang="es-ES_tradn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Post-80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Teoría              Competencia Perfecta          =&gt;                Mercados Oligopól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omercio         Ret. Constantes                                        Ret. Crecien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ternacional                                                       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externalida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stos modelos cuestionaron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hasta que punto ventajas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comparativas explican el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patrón comercial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8480" y="457200"/>
              <a:ext cx="73080" cy="121932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31680 h 1219320"/>
                <a:gd name="textAreaBottom" fmla="*/ 1187640 h 121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607000" y="304920"/>
              <a:ext cx="73080" cy="160020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77080" y="1700280"/>
              <a:ext cx="217440" cy="380880"/>
            </a:xfrm>
            <a:prstGeom prst="downArrow">
              <a:avLst>
                <a:gd name="adj1" fmla="val 50000"/>
                <a:gd name="adj2" fmla="val 4379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28600" y="3733920"/>
            <a:ext cx="8686800" cy="2041560"/>
            <a:chOff x="228600" y="3733920"/>
            <a:chExt cx="8686800" cy="2041560"/>
          </a:xfrm>
        </p:grpSpPr>
        <p:sp>
          <p:nvSpPr>
            <p:cNvPr id="132" name=""/>
            <p:cNvSpPr/>
            <p:nvPr/>
          </p:nvSpPr>
          <p:spPr>
            <a:xfrm>
              <a:off x="228600" y="3733920"/>
              <a:ext cx="868680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rincipio Vent Comp. =&gt;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comercio ---países quieren aprovechar sus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aíses que son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 =&gt;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ganancias al comerci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 T y Yt                                           =&gt;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Wf al comer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 dotación factores productiv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5640" y="458136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5640" y="5504040"/>
              <a:ext cx="21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58920" y="5013360"/>
              <a:ext cx="73080" cy="76212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2286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ctores econ. escala - puede ser un fact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e induce a la especi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295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ún Teoría----Sólo comercian países disti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20574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íses iguales también comercian--- existen marcas=&gt; Mercados Imperf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306864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uevas teorías : Patrón comercio = F(econ. de escal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3933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ía de escala - fact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vent. Comp. - que afecta Patrón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mportancia del Comercio Intra- Indus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1371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) 25% del comercio mundial corresponde a comercio intra-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50920" y="2133720"/>
            <a:ext cx="8686800" cy="1326240"/>
            <a:chOff x="250920" y="2133720"/>
            <a:chExt cx="8686800" cy="1326240"/>
          </a:xfrm>
        </p:grpSpPr>
        <p:sp>
          <p:nvSpPr>
            <p:cNvPr id="144" name=""/>
            <p:cNvSpPr/>
            <p:nvPr/>
          </p:nvSpPr>
          <p:spPr>
            <a:xfrm>
              <a:off x="250920" y="2133720"/>
              <a:ext cx="868680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i) PD  T similar            =&gt;   No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ventajas comparativas en indust.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specíf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K/T) simil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74880" y="2133720"/>
              <a:ext cx="74520" cy="1295280"/>
            </a:xfrm>
            <a:custGeom>
              <a:avLst/>
              <a:gdLst>
                <a:gd name="textAreaLeft" fmla="*/ 47520 w 74520"/>
                <a:gd name="textAreaRight" fmla="*/ 74880 w 745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00360" y="2133720"/>
              <a:ext cx="114120" cy="1295280"/>
            </a:xfrm>
            <a:custGeom>
              <a:avLst/>
              <a:gdLst>
                <a:gd name="textAreaLeft" fmla="*/ 0 w 114120"/>
                <a:gd name="textAreaRight" fmla="*/ 41040 w 11412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77840" y="2133720"/>
              <a:ext cx="2160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28600" y="358128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PD no </a:t>
            </a:r>
            <a:r>
              <a:rPr b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pecialización según ventajas comparativas en produc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4956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ii) Pq es importante comercio intra-industrial? =&gt; Países similares también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comercian y mu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55627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ercio intra-industrial   =&gt;     ganancias adicionales del comercio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icionales a ventajas compar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304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so especial en ALC - Autos - Canadá pre-19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8380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tección Tf - Pre-1965 - en Canadá y USA dio lugar a creación industria automovilística canadiense que era autosuficiente - no X y no M- mu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17524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 canadiense estaba controlada por las mismas empresas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23623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 auto canadiense es una mini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29718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iales canadienses estimaban que &lt; escala era una desventaja - filiales USA podían especializarse en modelo o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3886200"/>
            <a:ext cx="86868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dustria canadiense tenían &lt; 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que industria USA - aprox 30% &l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&gt; 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anad. = 0.70 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L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5105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resolver esto ALC - Canadá -USA en mercado. automo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5715000"/>
            <a:ext cx="868680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la mitad # modelos hechos en Canadá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o mantuvo el nivel global de la producción y del empleo ---- esto se hizo ví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&amp;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228600" y="228600"/>
            <a:ext cx="8610480" cy="1789920"/>
            <a:chOff x="228600" y="228600"/>
            <a:chExt cx="8610480" cy="1789920"/>
          </a:xfrm>
        </p:grpSpPr>
        <p:sp>
          <p:nvSpPr>
            <p:cNvPr id="160" name=""/>
            <p:cNvSpPr/>
            <p:nvPr/>
          </p:nvSpPr>
          <p:spPr>
            <a:xfrm>
              <a:off x="228600" y="228600"/>
              <a:ext cx="8610480" cy="178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Mercado autos - US$ Mil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1962               196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Canadá        X a USA             16               2.4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                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M de USA         519              2.9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93840" y="1049400"/>
              <a:ext cx="358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08360" y="69228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32360" y="76500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79640" y="1125360"/>
              <a:ext cx="71280" cy="76212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2209680"/>
            <a:ext cx="8915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C Automotriz =&gt;  L.C en ambos paí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sujeto a restricción reconversión productiva en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28600" y="3284640"/>
            <a:ext cx="8610480" cy="1941480"/>
            <a:chOff x="228600" y="3284640"/>
            <a:chExt cx="8610480" cy="1941480"/>
          </a:xfrm>
        </p:grpSpPr>
        <p:sp>
          <p:nvSpPr>
            <p:cNvPr id="167" name=""/>
            <p:cNvSpPr/>
            <p:nvPr/>
          </p:nvSpPr>
          <p:spPr>
            <a:xfrm>
              <a:off x="228600" y="3352680"/>
              <a:ext cx="8610480" cy="18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ntuvo nivel Y &amp; 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anad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32000" y="3284640"/>
              <a:ext cx="71280" cy="144756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37440 h 1447560"/>
                <a:gd name="textAreaBottom" fmla="*/ 1410120 h 144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28600" y="51814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icancia Central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conomías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58672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e posibilidad a intervención del 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250920" y="549360"/>
            <a:ext cx="8686800" cy="1371600"/>
            <a:chOff x="250920" y="549360"/>
            <a:chExt cx="8686800" cy="1371600"/>
          </a:xfrm>
        </p:grpSpPr>
        <p:sp>
          <p:nvSpPr>
            <p:cNvPr id="172" name=""/>
            <p:cNvSpPr/>
            <p:nvPr/>
          </p:nvSpPr>
          <p:spPr>
            <a:xfrm>
              <a:off x="250920" y="549360"/>
              <a:ext cx="86868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tervención gob. Vía       Barrera M   =&gt;     Generación nuevo Patrón comer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bsidio X           que puede ir en el interés nacional =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max Wf en detrimento Wf mundial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39520" y="549360"/>
              <a:ext cx="72360" cy="838080"/>
            </a:xfrm>
            <a:custGeom>
              <a:avLst/>
              <a:gdLst>
                <a:gd name="textAreaLeft" fmla="*/ 46440 w 72360"/>
                <a:gd name="textAreaRight" fmla="*/ 72720 w 7236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49600" y="549360"/>
              <a:ext cx="72000" cy="1371600"/>
            </a:xfrm>
            <a:custGeom>
              <a:avLst/>
              <a:gdLst>
                <a:gd name="textAreaLeft" fmla="*/ 46080 w 72000"/>
                <a:gd name="textAreaRight" fmla="*/ 72000 w 720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50920" y="2133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mentos teóricos nue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28954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ías de escala en mercados monopólicos =&gt; pueden generar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ización  productivas arbitraria de los paí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9625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el patrón comercial está determinado por las econ. de escala , esto (vía IO) =&gt; que estructuras monopolísticas pueden determinar la estructura 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5029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b. debiera fomentar grandes monopolios locales par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f  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58672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 econ. de escala =&g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 las ganancias del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8600" y="228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lítica L.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990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.C es mejor que autarqu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676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o  L.C no es obviamente mejor que intervención gob. sofistic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2362320"/>
            <a:ext cx="8686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óricamente L.C es óptimo en un mundo en que priman laissez faire y mercados competi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si el mundo es 2nd Best---existen mcdos. imperf. y econ. de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onces intervención gob. puede mejorar en teoría solución del mc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44956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lítica Comercial 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5257800"/>
            <a:ext cx="86868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idencia empírica: En mundo en qu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tornos crecientes a escala y hay competencia imperfecta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mpresas “afortunadas” en algunas industrias que obtienen u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304920"/>
            <a:ext cx="861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ías escala suficientemente grandes =&gt; que en algunas industri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ólo cabe una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1143000"/>
            <a:ext cx="861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ego, si se queda una sola empresa =&gt; esa va a ten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6000" y="1752480"/>
            <a:ext cx="86994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país pued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acional si logra asegurar que sea la empresa loc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que se quede en ese mercado y no la empresa extranj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2708280"/>
            <a:ext cx="86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jemplo: Avión - transporta 150 pasajeros USA- Euro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3352680"/>
            <a:ext cx="86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riz #1 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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hipoté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33360" y="4048200"/>
            <a:ext cx="8612280" cy="1676160"/>
            <a:chOff x="333360" y="4048200"/>
            <a:chExt cx="8612280" cy="1676160"/>
          </a:xfrm>
        </p:grpSpPr>
        <p:sp>
          <p:nvSpPr>
            <p:cNvPr id="192" name=""/>
            <p:cNvSpPr/>
            <p:nvPr/>
          </p:nvSpPr>
          <p:spPr>
            <a:xfrm>
              <a:off x="333360" y="4048200"/>
              <a:ext cx="86122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irb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tra          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Boeing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Entra    -5   -5       100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No        0  100       0    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09760" y="488628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03280" y="530064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71600" y="45813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48000" y="45813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gumentos Populares a favor de la P.C.E - P.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6002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. Defini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.I. Acción Gobierno para estimular g sectores considerado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es para g futuro de la 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2120" y="2362320"/>
            <a:ext cx="847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secuencias P.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96252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. Primer Problema : Criterio de selec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ómo escoger los sectores que deben ser elegidos a expensas del res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28600" y="2743200"/>
            <a:ext cx="8686800" cy="990720"/>
            <a:chOff x="228600" y="2743200"/>
            <a:chExt cx="8686800" cy="990720"/>
          </a:xfrm>
        </p:grpSpPr>
        <p:sp>
          <p:nvSpPr>
            <p:cNvPr id="54" name=""/>
            <p:cNvSpPr/>
            <p:nvPr/>
          </p:nvSpPr>
          <p:spPr>
            <a:xfrm>
              <a:off x="228600" y="2819520"/>
              <a:ext cx="8686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Estímulo de un sector          =&gt;            Subsidio sector 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iscriminación &lt; 0 contra otros            Tax sector j o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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competencia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14800" y="2743200"/>
              <a:ext cx="104760" cy="990720"/>
            </a:xfrm>
            <a:custGeom>
              <a:avLst/>
              <a:gdLst>
                <a:gd name="textAreaLeft" fmla="*/ 66960 w 104760"/>
                <a:gd name="textAreaRight" fmla="*/ 105120 w 10476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28600" y="49528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definir una P.I , Gob. tiene que hacer 2 cosas distint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5425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) Identificar las industrias del fut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58672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) Saber que sectores crecerán o se concentrarán más rápidamente si se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jaran solos a acción de fuerzas del merc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4920" y="4038480"/>
            <a:ext cx="86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atriz #2 : Gob. UE apoya a Airbus y da +1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1720" y="4581360"/>
            <a:ext cx="8612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irbus (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tra          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oeing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entra      -5   +5       100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USA)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No          0  110       0     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608120" y="5041800"/>
            <a:ext cx="2738520" cy="1143000"/>
            <a:chOff x="1608120" y="5041800"/>
            <a:chExt cx="2738520" cy="1143000"/>
          </a:xfrm>
        </p:grpSpPr>
        <p:sp>
          <p:nvSpPr>
            <p:cNvPr id="200" name=""/>
            <p:cNvSpPr/>
            <p:nvPr/>
          </p:nvSpPr>
          <p:spPr>
            <a:xfrm>
              <a:off x="1608120" y="534672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19280" y="573408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70320" y="50418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19640" y="5084640"/>
              <a:ext cx="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79280" y="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bas empresas son capaces de producir avión simi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57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s aviones sólo sirven para mercado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990720"/>
            <a:ext cx="8686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te supuesto simplificatorio   permite vincular país con la 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excluye consumer loc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600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cdo. es rentable para 1 empresa---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érdidas si entran las 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0574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pongamos que Boeing USA es más ágil, más dinámica, reacciona primero y empieza fabricación avión para hacer crowding out y quedarse so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297180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Gobierno UE reaccciona y quiere cambiar el resultado potenci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frece subsidio 10 a Airbus para queen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28600" y="228600"/>
            <a:ext cx="868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ítica comercial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stratég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&gt;actuar rápido para cambiar un eventual resul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685800"/>
            <a:ext cx="868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Posteriormente Airbus devuelve ese subsidio con </a:t>
            </a:r>
            <a:r>
              <a:rPr b="0" lang="es-ES_tradnl" sz="19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mayor =&gt; gana el paí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219320"/>
            <a:ext cx="868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olítica comercial estratégica genera matriz #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6765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alej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20968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intervención adecuada del gob. Apoyando a las empresas locales =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bilidad de que éstas capturen mcdo. oligopó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3124080"/>
            <a:ext cx="8686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ado =&gt;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mpresas nacionales =&gt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B =&g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c =&gt;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36576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 alternativ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4267080"/>
            <a:ext cx="86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riz #3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977760" y="4695840"/>
            <a:ext cx="8612280" cy="1676520"/>
            <a:chOff x="977760" y="4695840"/>
            <a:chExt cx="8612280" cy="1676520"/>
          </a:xfrm>
        </p:grpSpPr>
        <p:sp>
          <p:nvSpPr>
            <p:cNvPr id="219" name=""/>
            <p:cNvSpPr/>
            <p:nvPr/>
          </p:nvSpPr>
          <p:spPr>
            <a:xfrm>
              <a:off x="977760" y="4695840"/>
              <a:ext cx="86122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irbus (U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tra        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Boeing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Entra.     5   -20    125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(USA)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No         0   100     0      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054160" y="553392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50920" y="595008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16360" y="52293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48040" y="52293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04920" y="22860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este caso Boeing tiene una ventaja espe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685800"/>
            <a:ext cx="88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: si Gobierno UE proporciona subsidio +25 a Air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1341360"/>
            <a:ext cx="86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triz #4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476360" y="1700280"/>
            <a:ext cx="8612280" cy="1675800"/>
            <a:chOff x="1476360" y="1700280"/>
            <a:chExt cx="8612280" cy="1675800"/>
          </a:xfrm>
        </p:grpSpPr>
        <p:sp>
          <p:nvSpPr>
            <p:cNvPr id="228" name=""/>
            <p:cNvSpPr/>
            <p:nvPr/>
          </p:nvSpPr>
          <p:spPr>
            <a:xfrm>
              <a:off x="1476360" y="1700280"/>
              <a:ext cx="86122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irbus (U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tra        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Boeing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Entra.      5     5      125 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(USA)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No         0   125       0     0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52760" y="253800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52760" y="2927160"/>
              <a:ext cx="272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14600" y="2233440"/>
              <a:ext cx="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46640" y="2233440"/>
              <a:ext cx="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50920" y="3789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ótese el rol del subsidio: OK Matriz 1---Pésimo Matriz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429264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ego PCE dependería de tener una lectura precisa de la sit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48769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tra alternativ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ob. USA subsidia también =&gt; escalada de subsi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54864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: Airbus consorcio europeo de los 60´s para enfrentar rol monopólico de la Boe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60930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1994 =&gt; por 1era vez Airbus vendió + aviones que Boe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28600" y="2286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T y OMC han tenido duras quejas rol Gob. que está generando un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encia “injust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914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sencia  Airbus en  mercado aviones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supon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3 tipos de benefici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0920" y="14130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.- &lt; P para  consumers resultantes por el hecho de que en vez de un mercado       Monopólico hay Oligopó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28600" y="2133720"/>
            <a:ext cx="8686800" cy="368280"/>
            <a:chOff x="228600" y="2133720"/>
            <a:chExt cx="8686800" cy="368280"/>
          </a:xfrm>
        </p:grpSpPr>
        <p:sp>
          <p:nvSpPr>
            <p:cNvPr id="242" name=""/>
            <p:cNvSpPr/>
            <p:nvPr/>
          </p:nvSpPr>
          <p:spPr>
            <a:xfrm>
              <a:off x="228600" y="2133720"/>
              <a:ext cx="86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.-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externalidades &gt; 0 generadas por la  T   utilizada en la producción de av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38520" y="2166840"/>
              <a:ext cx="285840" cy="304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28600" y="25909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radas por Air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3124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Resultados empíricos caso Air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371628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.- Presencia Airbus ha afectado marginalmente P aviones comerciales: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3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42670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.- Impacto Airbus en  externalidad innovación tecnológica sobre otras actividade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conómicas  ha sido &lt; = o casi nu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0920" y="508464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- Presencia  Airbus ha afectado seriamente el nivel de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e Boeing: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S$100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5715000"/>
            <a:ext cx="8458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irbus ha generado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US$ 50B con r   6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94160" y="577224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50920" y="40464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.- Airbus ha implica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981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acto &lt; 0 para Wf social mund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9280" y="1557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 Impacto &gt; 0 para Wf social europ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ínt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0920" y="1341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rítica la Teoría HO y Ventajas Comparativas Tradi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213372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Dudas Bá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0920" y="2781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 explica realmente lo que pasa en el mundo rea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3357720"/>
            <a:ext cx="8686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.C. y RUT son realmente las mejores políticas que Max(B.soc.)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a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mpetencia imperfecta y Gob. Extranjero s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x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???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0920" y="4365720"/>
            <a:ext cx="8686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mercado imperfecto existe diferencia entre Max W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na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Max W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95280" y="62064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95680" y="2286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oría convencional del comercio           Nueva teoría del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76212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- Bs. homogéneos como trigo                 Bs. Complejos: av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4653000"/>
            <a:ext cx="891540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.- ¿Qué determina el patrón productivo    La historia importa: una industria que 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un país?-V. Comp. (dot.  recursos)        estableció inicialmente en un país =&gt;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adquiere Vent. Comp. y reconocimiento.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Ej: reloj en Sui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trón determinístico de V. Comp.             V. Comp.pueden  variar o ser adquir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28600" y="1413000"/>
            <a:ext cx="8915400" cy="3029040"/>
            <a:chOff x="228600" y="1413000"/>
            <a:chExt cx="8915400" cy="3029040"/>
          </a:xfrm>
        </p:grpSpPr>
        <p:sp>
          <p:nvSpPr>
            <p:cNvPr id="266" name=""/>
            <p:cNvSpPr/>
            <p:nvPr/>
          </p:nvSpPr>
          <p:spPr>
            <a:xfrm>
              <a:off x="228600" y="1413000"/>
              <a:ext cx="891540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.- Por qué existe comercio?                     Existe comercio entre países ig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que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países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íses comercian porque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ventajas al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K/T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ganancia         especializar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ercio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econ. escala =&gt; países se especializ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 ciertos casos puede que sólo sea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eficiente que exista sólo 2 o 1 empresa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nivel mundia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19280" y="2349360"/>
              <a:ext cx="77760" cy="609840"/>
            </a:xfrm>
            <a:custGeom>
              <a:avLst/>
              <a:gdLst>
                <a:gd name="textAreaLeft" fmla="*/ 49680 w 77760"/>
                <a:gd name="textAreaRight" fmla="*/ 78120 w 7776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00360" y="2565360"/>
              <a:ext cx="77760" cy="838080"/>
            </a:xfrm>
            <a:custGeom>
              <a:avLst/>
              <a:gdLst>
                <a:gd name="textAreaLeft" fmla="*/ 0 w 77760"/>
                <a:gd name="textAreaRight" fmla="*/ 28080 w 7776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04920" y="30492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licancias de Política y Rol del 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1066680"/>
            <a:ext cx="85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. Es distinto Max W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a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y Max Wf* .   Políticas gob. =&gt; Max W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167652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. En mercado oligopólico =&gt;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r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286000"/>
            <a:ext cx="85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íticas de shifting - rentas a oligopolio local =&gt; Aumentan W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289548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)  Concepto de renta - (rent) vs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4000" y="3500280"/>
            <a:ext cx="8534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)  Si empresa oligopolio local tiene renta =&gt; NO importa tanto quién capta la renta ya sea empresarios, 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,  gob (tax&gt;) , mientras agentes sean loc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44197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)  Enfoque convencional de trade - no plantea dilema de quien se aprovecha de la renta oligopó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53262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)  P.C.E =&gt; generar suficiente renta oligopólica hacia empresas loc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59436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. especial =&gt; consumidores locales pueden verse afectados si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oligopolio local les quita parte de su exced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28600" y="304920"/>
            <a:ext cx="86868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)  En mundo oligopólico empresas compiten entre sí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captar &gt; parte de las r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0920" y="11970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ob: “ Pick winners” o “make winners” , o: “do not pick loser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184464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2. Cuáles winners?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----  los que generan &gt; externa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24210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idades  =&gt; argumentos distintos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50920" y="2886120"/>
            <a:ext cx="8686800" cy="457200"/>
            <a:chOff x="250920" y="2886120"/>
            <a:chExt cx="8686800" cy="457200"/>
          </a:xfrm>
        </p:grpSpPr>
        <p:sp>
          <p:nvSpPr>
            <p:cNvPr id="283" name=""/>
            <p:cNvSpPr/>
            <p:nvPr/>
          </p:nvSpPr>
          <p:spPr>
            <a:xfrm>
              <a:off x="250920" y="2924280"/>
              <a:ext cx="86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ueva teoría de comercio le da la innovación    T    rol cru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13360" y="2886120"/>
              <a:ext cx="43344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50920" y="3429000"/>
            <a:ext cx="8686800" cy="668160"/>
            <a:chOff x="250920" y="3429000"/>
            <a:chExt cx="8686800" cy="668160"/>
          </a:xfrm>
        </p:grpSpPr>
        <p:sp>
          <p:nvSpPr>
            <p:cNvPr id="286" name=""/>
            <p:cNvSpPr/>
            <p:nvPr/>
          </p:nvSpPr>
          <p:spPr>
            <a:xfrm>
              <a:off x="250920" y="3429000"/>
              <a:ext cx="868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 teoría tradicional de Comercio este problema  no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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pues se supone que todos los países usan la %    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68600" y="3716280"/>
              <a:ext cx="36180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250920" y="429264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no haber innovación local  =&gt; n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externalidades  =&gt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f  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0920" y="4797360"/>
            <a:ext cx="8686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uego se requiere s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(subsidio gen) a todas las industrias generadoras de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ocimiento (UNIVERSIDA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5715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. Existe opción Política Activista en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6172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esto no implica qu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nything go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189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4. Existen sectores estratégicos  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6922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posible identificar algunos sectores cuya expansión en el margen es + valiosa que la de otros sector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9280" y="148428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y sectores estratégicos en la economí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198900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oría convencional comercio =&gt; N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ctores estraté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256536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eva teoría comercio =&gt; pueden haber sectores estratégicos después de todo, debido 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141720"/>
            <a:ext cx="8686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de economías de esca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ventajas de la experiencia histórica (ventaja ser prime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 rol de la innovación =&gt; externa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4653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5. Cómo identificar los sectores estratégic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5157720"/>
            <a:ext cx="8686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.- criterio-- sectores &gt; r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.- Sectores con &gt; externalidades impacto sobre innovación y tecnologías fut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607860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6. Es posible una P.C.E exitos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250920" y="260280"/>
            <a:ext cx="8686800" cy="914400"/>
            <a:chOff x="250920" y="260280"/>
            <a:chExt cx="8686800" cy="914400"/>
          </a:xfrm>
        </p:grpSpPr>
        <p:sp>
          <p:nvSpPr>
            <p:cNvPr id="60" name=""/>
            <p:cNvSpPr/>
            <p:nvPr/>
          </p:nvSpPr>
          <p:spPr>
            <a:xfrm>
              <a:off x="250920" y="260280"/>
              <a:ext cx="86868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st WW II (1940-1980)      Au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ce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203640" y="260280"/>
              <a:ext cx="73080" cy="91440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50920" y="1484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1980 =&gt; TI =&gt; Software y biotecn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133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e infiere que Gob. USA debiera aplicar P.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278136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o consecuencia --fuerzas mercado están generando incentivos pa pase e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3500280"/>
            <a:ext cx="8686800" cy="11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justificar P.I. habría que explicar pq incentivos mercado no están generando desplazamientos requeridos de recursos (o pq está funcionando lentament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¿Qué falla del mercado </a:t>
            </a:r>
            <a:r>
              <a:rPr b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508464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ntajas comparativas a futuro, pq empresarios no están I allí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91440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rgumentos populares para P.I.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están planteados dentro formato falla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) Ind. c´&gt;  V. Ag. =&gt; V. Agr/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) Ind. que tienen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ter-relación clav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 otras indust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ii) Ind. que tienen  g- potencial dinámico fu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v) Ind. atractivas  como objetivo por gobierno extranj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0" y="476280"/>
            <a:ext cx="8686800" cy="1326240"/>
            <a:chOff x="0" y="476280"/>
            <a:chExt cx="8686800" cy="1326240"/>
          </a:xfrm>
        </p:grpSpPr>
        <p:sp>
          <p:nvSpPr>
            <p:cNvPr id="69" name=""/>
            <p:cNvSpPr/>
            <p:nvPr/>
          </p:nvSpPr>
          <p:spPr>
            <a:xfrm>
              <a:off x="0" y="476280"/>
              <a:ext cx="868680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dustrias c&gt; g- futuro - Ej: Davos 19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avos 2000       T.I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Biotecnologí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76720" y="981000"/>
              <a:ext cx="73080" cy="68580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457200" y="206064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es es posible predecir que industrias van a tener  &gt; g en el futuro cercano ??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2852640"/>
            <a:ext cx="868680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ólo si Gob. tiene mejor IF que el S. Priv.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ría seleccionar los sectores gan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386064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o: Cuánto + sabe burócrata que empresario c/r que va a pasar--sector productiv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4724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lo sabe  burócrata – pq. no lo saben  empresarios privad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5257800"/>
            <a:ext cx="8686800" cy="13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PED empresas son míopes, sólo ven C.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lang="es-ES_tradnl" sz="19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 burócratas con gran visión L.P, Pq no son atraídos por el sector privado?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q no forman su empresa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" y="3808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Contrarrestar P.I. - de otros paí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1197000"/>
            <a:ext cx="8686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l. Ind. como medida defensiva:  Si otros países protegen y subsidian sector agrícola----  Habría aquí que hacer lo mism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270828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Japón subsidia Autos y genera contracción en U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e USA apoyar su industria automotriz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39337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(no) lo  hiciera los otros PD estarían definiendo la estructura ind. de U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4149720"/>
            <a:ext cx="8686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-  Es más eficiente stockearse con productos que pueden ser vitales para un eventual conflic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sto almacenamiento es mucho &lt; que costo que se pagaría por &gt;P todo el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661000"/>
            <a:ext cx="8686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-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gumento seguridad nacional es básicamente interesado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gumento proteccion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3320" y="235080"/>
            <a:ext cx="55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guridad Nacional - Industrias Estratég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765000"/>
            <a:ext cx="79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y sectores que se consideran “estratégicos” y que los paí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quieren depender de otros para su abastecimiento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emplo: alimentos, acero, P, ener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2280" y="1989000"/>
            <a:ext cx="84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rgumento seguridad nacional para políticas proteccionistas =&gt; tiene varias fa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00" y="2565360"/>
            <a:ext cx="86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- En el evento de una guerra o de una catástrofe es mejor crear nuevas empre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2997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q debieran consumidores pagar  &gt;P por  acero y alimento en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iempos de pa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mantener capacidad productiva para eventual guerr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lítica Comercial Estratégica - Política 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1341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conomist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discrepan en muchas co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2205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ú: Ventajas comparativas y L.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924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 L.C es óptimo =&gt; no debiera haber intervención del 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886200"/>
            <a:ext cx="86868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ra Argumentació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Cómo es el Mundo Rea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4280" y="501336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Qué hacer para disminuir desequilibrio USA-Japón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79132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uesta: L.C parece demasiado ingenua y además in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dee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cotomía Teórica- Empí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50920" y="836640"/>
            <a:ext cx="9443880" cy="1637280"/>
            <a:chOff x="250920" y="836640"/>
            <a:chExt cx="9443880" cy="1637280"/>
          </a:xfrm>
        </p:grpSpPr>
        <p:sp>
          <p:nvSpPr>
            <p:cNvPr id="96" name=""/>
            <p:cNvSpPr/>
            <p:nvPr/>
          </p:nvSpPr>
          <p:spPr>
            <a:xfrm>
              <a:off x="250920" y="841680"/>
              <a:ext cx="944388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 Economía =&gt; Modelo Teórico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p. Perfecta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V.Comp.= F(Dot.)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   Ret.Ctes                     L.C.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nac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No existe Gob.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*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Gob. no interv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89360" y="836640"/>
              <a:ext cx="71640" cy="99072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21360" y="836640"/>
              <a:ext cx="71640" cy="1295640"/>
            </a:xfrm>
            <a:custGeom>
              <a:avLst/>
              <a:gdLst>
                <a:gd name="textAreaLeft" fmla="*/ 45720 w 71640"/>
                <a:gd name="textAreaRight" fmla="*/ 72000 w 7164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74080" y="1197000"/>
              <a:ext cx="73080" cy="53352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28600" y="2362320"/>
            <a:ext cx="8915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Mundo Real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. Imperf. =&gt; V. Comp. = F(econ. escala, ser 1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ención del gobi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é hacer frente a cuestiones concretas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38862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Es mejor alternativa para país local- no hacer nad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4572000"/>
            <a:ext cx="8686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o   =&gt; ¿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Nac.   Presente &amp; Futuro 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56386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Qué hacer con países que violan reglas comerciales internaciona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21:36:08Z</dcterms:created>
  <dc:creator>.</dc:creator>
  <dc:description/>
  <dc:language>en-US</dc:language>
  <cp:lastModifiedBy>Paola Bordón</cp:lastModifiedBy>
  <dcterms:modified xsi:type="dcterms:W3CDTF">2007-09-09T01:45:43Z</dcterms:modified>
  <cp:revision>40</cp:revision>
  <dc:subject/>
  <dc:title>Política Comercial</dc:title>
</cp:coreProperties>
</file>