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F332-5552-4902-93D2-5E91741D3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64F6-7BD5-4E31-AA91-67D681D8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BFCA-3C10-4FF1-A820-CFE1CAB67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334D-2086-41E3-A632-FD74ACC39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05FF-6325-4C71-B42A-7702FDD4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952F-E551-45B7-AA41-F3F59A0D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FE80-5FEB-4A7F-A6BC-3026824B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30E9-4421-4BED-9038-FBFC18AB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4A2E-857F-41E2-B5F8-219618AB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88D9-E7D4-4940-B0DC-0AA0501F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4D71-C0A6-46DF-A5DC-C2320643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26D9-3291-4804-A595-D9E0FA6E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E02F-27E0-4C01-B62F-CD3140FA8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1520" y="3022560"/>
            <a:ext cx="822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863640" cy="854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1908000" y="620640"/>
          <a:ext cx="4032000" cy="1007640"/>
        </p:xfrm>
        <a:graphic>
          <a:graphicData uri="http://schemas.openxmlformats.org/drawingml/2006/table">
            <a:tbl>
              <a:tblPr/>
              <a:tblGrid>
                <a:gridCol w="403200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VERSIDAD DE 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C. DE CIENCIAS FÍSICAS Y MATEMÁT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eniería Industri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340000" y="5013360"/>
            <a:ext cx="45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249228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00000" y="2781360"/>
            <a:ext cx="73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Comparative Advantage</a:t>
            </a:r>
            <a:br>
              <a:rPr sz="4000"/>
            </a:b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 Heckscher-Ohlin (HO)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494172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ricio Mell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94920" y="5589720"/>
            <a:ext cx="47192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gíster en Gestión para la Glob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81080" y="1522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DELO HO- Siglo XX-  Modelo 2*2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762120"/>
            <a:ext cx="8610840" cy="18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ASSUM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1- Productive Factor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-- Mobility: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ntre países (No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) &amp; Dentro país (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movil. perfecta- 0 cos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K/L Ratio :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anking Country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(K/L) &amp; Goods Ranking (K/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Countries having similar K/L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otación =&gt; No productive speci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9080" y="2757600"/>
            <a:ext cx="862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2- Competitive Market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-- Goods :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o transport costs &amp; No Tf M =&gt; Same P in all coun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Factor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3733920"/>
            <a:ext cx="8016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3. Tecnolog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--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ame tecnology available in all countries at 0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--  Constant returns to s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72428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4. Dema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--  Similar D: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unciones de utilidad homotéticas idén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nsumers 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countries have = tastes (equal preferen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66680" y="304920"/>
            <a:ext cx="78487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DELO HO- Siglo XX- 2*2*2 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838080"/>
            <a:ext cx="7543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Implicancias Modelo H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295280"/>
            <a:ext cx="8077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aíses X bienes que son relativamente intensivos en factor + abund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aíses M bienes que son relativamente intensivos en factor - abund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2286000"/>
            <a:ext cx="81536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Comercio es tool para X factor + abundante &amp; M factor - abunda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8280" y="2833560"/>
            <a:ext cx="802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Si factores productivos son inmóviles entre países – según Modelo HO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l comercio de bienes es el sustituto del movimiento de fact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Trade is the mechanism to acquire  scarce productive f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7720" y="4267080"/>
            <a:ext cx="102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oubt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4724280"/>
            <a:ext cx="784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¿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F*- IE- Migraciones?-- ¿Cómo explica esto Modelo H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5229360"/>
            <a:ext cx="8077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¿Validity of HO Model in a global where everything mov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38080" y="380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ST-HO MODEL - LEONTIEFF PARAD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12680" y="1287360"/>
            <a:ext cx="7597800" cy="21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Factor T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Factor K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K/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(HombreAño/MMU$)</a:t>
            </a: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(MU$K/MMUS$)   </a:t>
            </a: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(MUS$K/HombreAñ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Canasta X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182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2551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1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Canasta M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170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3091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18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M/X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0.93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1.21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1.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89000" y="3954600"/>
            <a:ext cx="66834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EUU X Bs. T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EUU M Bs. K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ost WWII- how can we explain this resul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This Paradox is resistent to </a:t>
            </a: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type of 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65040" y="90360"/>
            <a:ext cx="8474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040" y="243000"/>
            <a:ext cx="80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DEL  HO- Central Model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- 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081080"/>
            <a:ext cx="883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Comparison of HO Model- Ricardia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2 factores L &amp; K =&gt; </a:t>
            </a: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sustit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Ricardo: </a:t>
            </a: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Tecnología </a:t>
            </a: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Países =&gt; </a:t>
            </a: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1" lang="es-CL" sz="1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HO : = Tecnología </a:t>
            </a: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Países – Neutraliza rol Tecnología en Comer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2887560"/>
            <a:ext cx="835956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Implicancia Central Modelo HO: Ventaja Comparativas: F(Dotación K/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Trade Pattern : F(Dotación K/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DC Countries  =&gt; X (K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LDC Countries =&gt; X (L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This patterns look logic (ration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510552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mpirical Tes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Ricardian Model : OK – Rejected by teó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HO Model : No – Accepted by teó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Why?     (chicken pers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46280" y="90360"/>
            <a:ext cx="778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DELO HO- Modelo Central -Exten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533520"/>
            <a:ext cx="649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Teorema Stolper-Samuelso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990720"/>
            <a:ext cx="771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tección “ayuda” de manera no ambigua  factor productivo esca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uego, apertura comercial “ayudaría” al factor productivo abund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1752480"/>
            <a:ext cx="72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2.    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Teorema Rybczynsk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2209680"/>
            <a:ext cx="8321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pleno uso factores productivos de un país,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S de un factor, ej. K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producción bs. K+, y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producción del otro bi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j.- País produce 2 bs.: RN (K+) y ropa (T+).  Si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S K =&gt;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prod. RN 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ción ro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74880" y="3519360"/>
            <a:ext cx="786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Teorema Igualación Precio Factores Produ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405288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n un mundo LC y mercados competitivos se generará convergenc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---  Igualdad precios relativos factores productivos entre DC y L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---  Igualdad precios absolutos factores productivos entre DC y L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7680" y="5043600"/>
            <a:ext cx="809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Ojo– Este resultado es válido aún cuando no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mig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5638680"/>
            <a:ext cx="778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mplicancia =&gt; LC &amp; GL generan Sociedad igualitaria a nivel mund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36040" y="6156360"/>
            <a:ext cx="574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¿Por qué no se le ocurrió a Marx y si a Samuels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21:24:18Z</dcterms:created>
  <dc:creator>Dii</dc:creator>
  <dc:description/>
  <dc:language>en-US</dc:language>
  <cp:lastModifiedBy>PAOLA</cp:lastModifiedBy>
  <dcterms:modified xsi:type="dcterms:W3CDTF">2007-09-03T20:09:13Z</dcterms:modified>
  <cp:revision>25</cp:revision>
  <dc:subject/>
  <dc:title>Ventajas Comparativas y Comercio Internacional</dc:title>
</cp:coreProperties>
</file>