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F5CD-292C-4873-BA5D-EBC196D2A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3A1C-1D34-4C2B-91EF-1EF88AE0D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602C-5E4E-4055-BFCE-B2C663906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6D13-A0B9-4DFB-BAED-B12D69D5C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5DB0-353B-46F5-A84F-06FE1FF24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A718-3293-4D1D-A69E-F994095B0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85C1-931B-4C63-B5D0-EE18F0CF7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544B-36FA-49C2-9E7A-D0B37B4EB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5F4B-20B7-4173-8405-781059B43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05FA-3F9E-48A1-8C0C-7B2E5415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75CD-5B4D-477E-A9A8-EBD73EE9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64A5-63D5-4007-ADED-292DB99A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ED0F2-22D7-4407-9F2B-8504DB465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41520" y="3022560"/>
            <a:ext cx="822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71640" y="620640"/>
            <a:ext cx="863640" cy="854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1908000" y="620640"/>
          <a:ext cx="4032000" cy="1007640"/>
        </p:xfrm>
        <a:graphic>
          <a:graphicData uri="http://schemas.openxmlformats.org/drawingml/2006/table">
            <a:tbl>
              <a:tblPr/>
              <a:tblGrid>
                <a:gridCol w="4032000"/>
              </a:tblGrid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IVERSIDAD DE CH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C. DE CIENCIAS FÍSICAS Y MATEMÁTI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eniería Industria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2340000" y="5013360"/>
            <a:ext cx="453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32000" y="249228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00000" y="2781360"/>
            <a:ext cx="73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Arial"/>
              </a:rPr>
              <a:t>Comparative Advantage</a:t>
            </a:r>
            <a:br>
              <a:rPr sz="4000"/>
            </a:br>
            <a:r>
              <a:rPr b="1" lang="es-MX" sz="4000" spc="-1" strike="noStrike">
                <a:solidFill>
                  <a:srgbClr val="000000"/>
                </a:solidFill>
                <a:latin typeface="Arial"/>
              </a:rPr>
              <a:t> Heckscher-Ohlin (HO)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494172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ricio Mell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94920" y="5589720"/>
            <a:ext cx="47192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gíster en Gestión para la Glob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981080" y="15228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DELO HO- Siglo XX-  Modelo 2*2*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762120"/>
            <a:ext cx="8610840" cy="18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ASSUM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1- Productive Factor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-- Mobility: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ntre países (No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) &amp; Dentro país (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movil. perfecta- 0 cos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K/L Ratio :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anking Country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(K/L) &amp; Goods Ranking (K/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Countries having similar K/L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otación =&gt; No productive specia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89080" y="2757600"/>
            <a:ext cx="8626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2- Competitive Market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-- Goods :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No transport costs &amp; No Tf M =&gt; Same P in all count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Factor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3733920"/>
            <a:ext cx="8016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3. Tecnolog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--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ame tecnology available in all countries at 0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--  Constant returns to sc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72428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4. Deman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--  Similar D: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unciones de utilidad homotéticas idént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nsumers 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countries have = tastes (equal preferenc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066680" y="304920"/>
            <a:ext cx="784872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DELO HO- Siglo XX- 2*2*2 </a:t>
            </a:r>
            <a:r>
              <a:rPr b="1" lang="es-CL" sz="2000" spc="-1" strike="noStrike" u="sng">
                <a:solidFill>
                  <a:srgbClr val="000000"/>
                </a:solidFill>
                <a:uFillTx/>
                <a:latin typeface="Times New Roman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838080"/>
            <a:ext cx="7543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Implicancias Modelo H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1295280"/>
            <a:ext cx="8077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Países X bienes que son relativamente intensivos en factor + abund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7524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Países M bienes que son relativamente intensivos en factor - abund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2286000"/>
            <a:ext cx="81536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Comercio es tool para X factor + abundante &amp; M factor - abunda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28280" y="2833560"/>
            <a:ext cx="802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Si factores productivos son inmóviles entre países – según Modelo HO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l comercio de bienes es el sustituto del movimiento de fact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00"/>
                </a:solidFill>
                <a:uFillTx/>
                <a:latin typeface="Times New Roman"/>
              </a:rPr>
              <a:t>Trade is the mechanism to acquire  scarce productive fa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7720" y="4267080"/>
            <a:ext cx="102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00"/>
                </a:solidFill>
                <a:uFillTx/>
                <a:latin typeface="Times New Roman"/>
              </a:rPr>
              <a:t>Doubt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4724280"/>
            <a:ext cx="7848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¿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F*- IE- Migraciones?-- ¿Cómo explica esto Modelo H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5229360"/>
            <a:ext cx="8077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¿Validity of HO Model in a global where everything mov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838080" y="380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ST-HO MODEL - LEONTIEFF PARAD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12680" y="1287360"/>
            <a:ext cx="7597800" cy="21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Factor T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Factor K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K/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(HombreAño/MMU$)</a:t>
            </a: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(MU$K/MMUS$)   </a:t>
            </a: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(MUS$K/HombreAñ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Canasta X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182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2551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14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Canasta M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170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3091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18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M/X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0.93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 1.21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 1.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89000" y="3954600"/>
            <a:ext cx="668340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EUU X Bs. T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EUU M Bs. K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Post WWII- how can we explain this resul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This Paradox is resistent to </a:t>
            </a:r>
            <a:r>
              <a:rPr b="1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type of t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65040" y="90360"/>
            <a:ext cx="8474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5040" y="243000"/>
            <a:ext cx="801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DEL  HO- Central Model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- 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1081080"/>
            <a:ext cx="883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Comparison of HO Model- Ricardia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2 factores L &amp; K =&gt; </a:t>
            </a:r>
            <a:r>
              <a:rPr b="1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sustit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Ricardo: </a:t>
            </a:r>
            <a:r>
              <a:rPr b="1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Tecnología </a:t>
            </a:r>
            <a:r>
              <a:rPr b="1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Países =&gt; </a:t>
            </a:r>
            <a:r>
              <a:rPr b="1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1" lang="es-CL" sz="1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HO : = Tecnología </a:t>
            </a:r>
            <a:r>
              <a:rPr b="1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Países – Neutraliza rol Tecnología en Comer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2887560"/>
            <a:ext cx="835956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Implicancia Central Modelo HO: Ventaja Comparativas: F(Dotación K/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Trade Pattern : F(Dotación K/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DC Countries  =&gt; X (K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LDC Countries =&gt; X (L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This patterns look logic (ration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5105520"/>
            <a:ext cx="861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mpirical Test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Ricardian Model : OK – Rejected by teó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HO Model : No – Accepted by teó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Why?     (chicken pers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46280" y="90360"/>
            <a:ext cx="778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DELO HO- Modelo Central -Exten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533520"/>
            <a:ext cx="649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00"/>
                </a:solidFill>
                <a:uFillTx/>
                <a:latin typeface="Times New Roman"/>
              </a:rPr>
              <a:t>Teorema Stolper-Samuelso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14400" y="990720"/>
            <a:ext cx="771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tección “ayuda” de manera no ambigua  factor productivo esca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uego, apertura comercial “ayudaría” al factor productivo abund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1752480"/>
            <a:ext cx="72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2.    </a:t>
            </a:r>
            <a:r>
              <a:rPr b="1" lang="es-CL" sz="2000" spc="-1" strike="noStrike" u="sng">
                <a:solidFill>
                  <a:srgbClr val="000000"/>
                </a:solidFill>
                <a:uFillTx/>
                <a:latin typeface="Times New Roman"/>
              </a:rPr>
              <a:t>Teorema Rybczynsk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2209680"/>
            <a:ext cx="8321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i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pleno uso factores productivos de un país,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S de un factor, ej. K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=&gt;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producción bs. K+, y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producción del otro bi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j.- País produce 2 bs.: RN (K+) y ropa (T+).  Si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S K =&gt;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prod. RN 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ción ro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74880" y="3519360"/>
            <a:ext cx="786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00"/>
                </a:solidFill>
                <a:uFillTx/>
                <a:latin typeface="Times New Roman"/>
              </a:rPr>
              <a:t>Teorema Igualación Precio Factores Produc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4052880"/>
            <a:ext cx="8534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n un mundo LC y mercados competitivos se generará convergenci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---  Igualdad precios relativos factores productivos entre DC y LD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---  Igualdad precios absolutos factores productivos entre DC y LD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7680" y="5043600"/>
            <a:ext cx="8092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Ojo– Este resultado es válido aún cuando no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mig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5638680"/>
            <a:ext cx="778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mplicancia =&gt; LC &amp; GL generan Sociedad igualitaria a nivel mund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36040" y="6156360"/>
            <a:ext cx="574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¿Por qué no se le ocurrió a Marx y si a Samuels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21:24:18Z</dcterms:created>
  <dc:creator>Dii</dc:creator>
  <dc:description/>
  <dc:language>en-US</dc:language>
  <cp:lastModifiedBy>PAOLA</cp:lastModifiedBy>
  <dcterms:modified xsi:type="dcterms:W3CDTF">2007-09-03T20:09:13Z</dcterms:modified>
  <cp:revision>25</cp:revision>
  <dc:subject/>
  <dc:title>Ventajas Comparativas y Comercio Internacional</dc:title>
</cp:coreProperties>
</file>