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9343-6609-44D2-9B63-C7D6BB76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CB5-082E-492E-B29A-44942415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B796-5107-4515-954C-B1F5D2FC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436-C6C3-4035-8119-AE259B53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F823-196C-406B-B1FD-4D30F0C7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75EC-760E-4120-85F2-DE291313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A99F-CB32-4D66-BDD8-64319607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0FA-785D-49A1-ADF4-73A461B0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7BF1-5782-4A3E-AB07-9D09865F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0330-7AAD-4378-8404-8711A3FB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7F3-75E4-4E68-95E1-FBA8C3EF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2266-CF3E-4DB6-B00F-4706FA0B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4E2E-9640-47B6-80F8-237A2A09E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1520" y="3022560"/>
            <a:ext cx="822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863640" cy="85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908000" y="620640"/>
          <a:ext cx="4032000" cy="1007640"/>
        </p:xfrm>
        <a:graphic>
          <a:graphicData uri="http://schemas.openxmlformats.org/drawingml/2006/table">
            <a:tbl>
              <a:tblPr/>
              <a:tblGrid>
                <a:gridCol w="40320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IDAD DE 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. DE CIENCIAS FÍSICAS Y MATEMÁ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eniería Industri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340000" y="501336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2492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2781360"/>
            <a:ext cx="73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Comparative Advantage</a:t>
            </a:r>
            <a:br>
              <a:rPr sz="4000"/>
            </a:b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 Heckscher-Ohlin (HO)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941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94920" y="5589720"/>
            <a:ext cx="47192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íster en Gestión para la Glob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81080" y="1522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DELO HO- Siglo XX-  Modelo 2*2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762120"/>
            <a:ext cx="861084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1- Productive Factor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-- Mobility: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tre países (No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) &amp; Dentro país (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movil. perfecta- 0 cos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/L Ratio :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anking Country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K/L) &amp; Goods Ranking (K/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Countries having similar K/L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otación =&gt; No productive spec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080" y="2757600"/>
            <a:ext cx="862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2- Competitive Marke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-- Goods :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 transport costs &amp; No Tf M =&gt; Same P in all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733920"/>
            <a:ext cx="801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3. Tecnolog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--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me tecnology available in all countries at 0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--  Constant returns to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7242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. Dema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--  Similar D: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nciones de utilidad homotéticas idén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ers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countries have = tastes (equal preferen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66680" y="304920"/>
            <a:ext cx="7848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DELO HO- Siglo XX- 2*2*2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838080"/>
            <a:ext cx="7543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Implicancias Modelo H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95280"/>
            <a:ext cx="8077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aíses X bienes que son relativamente intensivos en factor + abu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aíses M bienes que son relativamente intensivos en factor - abu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2286000"/>
            <a:ext cx="8153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mercio es tool para X factor + abundante &amp; M factor - abund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8280" y="2833560"/>
            <a:ext cx="802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Si factores productivos son inmóviles entre países – según Modelo HO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l comercio de bienes es el sustituto del movimiento de fac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de is the mechanism to acquire  scarce productive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7720" y="4267080"/>
            <a:ext cx="102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ubt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472428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¿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F*- IE- Migraciones?-- ¿Cómo explica esto Modelo H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229360"/>
            <a:ext cx="8077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¿Validity of HO Model in a global where everything mov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808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ST-HO MODEL - LEONTIEFF PARAD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12680" y="1287360"/>
            <a:ext cx="7597800" cy="21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Factor T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Factor K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(HombreAño/MMU$)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(MU$K/MMUS$)   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(MUS$K/HombreAñ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anasta X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182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2551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1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anasta M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170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3091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1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/X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0.93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1.21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1.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9000" y="3954600"/>
            <a:ext cx="66834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EUU X Bs. T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EUU M Bs. K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ost WWII- how can we explain this resul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his Paradox is resistent to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type of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5040" y="90360"/>
            <a:ext cx="8474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040" y="243000"/>
            <a:ext cx="80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DEL  HO- Central Model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-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08108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mparison of HO Model- Ricardia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2 factores L &amp; K =&gt;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sustit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icardo: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Tecnología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Países =&gt;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s-CL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HO : = Tecnología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Países – Neutraliza rol Tecnología en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2887560"/>
            <a:ext cx="83595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Implicancia Central Modelo HO: Ventaja Comparativas: F(Dotación K/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rade Pattern : F(Dotación K/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DC Countries  =&gt; X (K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LDC Countries =&gt; X (L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his patterns look logic (ratio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1055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mpirical Tes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icardian Model : OK – Rejected by teó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HO Model : No – Accepted by teó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Why?     (chicken per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46280" y="9036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DELO HO- Modelo Central -Ext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33520"/>
            <a:ext cx="64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orema Stolper-Samuelso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990720"/>
            <a:ext cx="771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tección “ayuda” de manera no ambigua  factor productivo esca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ego, apertura comercial “ayudaría” al factor productivo abund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752480"/>
            <a:ext cx="72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2.   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orema Rybczynsk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209680"/>
            <a:ext cx="8321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pleno uso factores productivos de un país,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S de un factor, ej. K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producción bs. K+, y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producción del otro bi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j.- País produce 2 bs.: RN (K+) y ropa (T+).  Si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S K =&gt;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prod. RN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ción ro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4880" y="3519360"/>
            <a:ext cx="786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orema Igualación Precio Factores Produ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05288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 un mundo LC y mercados competitivos se generará converg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---  Igualdad precios relativos factores productivos entre DC y L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---  Igualdad precios absolutos factores productivos entre DC y L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7680" y="504360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jo– Este resultado es válido aún cuando no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mig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638680"/>
            <a:ext cx="77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mplicancia =&gt; LC &amp; GL generan Sociedad igualitaria a nivel mun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36040" y="6156360"/>
            <a:ext cx="574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¿Por qué no se le ocurrió a Marx y si a Samuel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21:24:18Z</dcterms:created>
  <dc:creator>Dii</dc:creator>
  <dc:description/>
  <dc:language>en-US</dc:language>
  <cp:lastModifiedBy>PAOLA</cp:lastModifiedBy>
  <dcterms:modified xsi:type="dcterms:W3CDTF">2007-09-03T20:09:13Z</dcterms:modified>
  <cp:revision>25</cp:revision>
  <dc:subject/>
  <dc:title>Ventajas Comparativas y Comercio Internacional</dc:title>
</cp:coreProperties>
</file>