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FA9-3BD9-44D1-95CF-7E38DDB2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BBA-4F7D-4ACC-A056-86982200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73B-E7D3-4444-B69E-242FD548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BBF-CCA3-4C09-9B0C-59D35506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691-5B33-4A30-92D5-A5566175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97A-C392-45AB-8631-BE36412B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624-E343-4465-A0EE-5BAEC62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105-04A0-440A-88DA-BBD32AC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C72-9DDF-4B1F-B6DE-015493DA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A6-60AD-46AE-B41B-3A3D02EC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3DF-BDE6-41D7-950A-F63443E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46B-D713-4873-8329-E7064BE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A33D-6F9B-459E-8850-928AEE466A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13560" y="537372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gíster en Gestión para la Glob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692280"/>
            <a:ext cx="4681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C.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niería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480" y="-572040"/>
            <a:ext cx="4191120" cy="4205880"/>
            <a:chOff x="609480" y="-572040"/>
            <a:chExt cx="4191120" cy="4205880"/>
          </a:xfrm>
        </p:grpSpPr>
        <p:sp>
          <p:nvSpPr>
            <p:cNvPr id="110" name=""/>
            <p:cNvSpPr/>
            <p:nvPr/>
          </p:nvSpPr>
          <p:spPr>
            <a:xfrm>
              <a:off x="609480" y="533520"/>
              <a:ext cx="5238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1200" y="614880"/>
              <a:ext cx="0" cy="26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1200" y="3225960"/>
              <a:ext cx="384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960800">
              <a:off x="904680" y="66240"/>
              <a:ext cx="296784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60800">
              <a:off x="1254240" y="-504000"/>
              <a:ext cx="296820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200" y="1267560"/>
              <a:ext cx="227016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7080" y="2001960"/>
              <a:ext cx="87120" cy="8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4560" y="1757160"/>
              <a:ext cx="436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6320" y="2165400"/>
              <a:ext cx="698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9640" y="2818080"/>
              <a:ext cx="6984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7600" y="3307680"/>
              <a:ext cx="873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-821160"/>
            <a:ext cx="3683160" cy="4478760"/>
            <a:chOff x="4952880" y="-821160"/>
            <a:chExt cx="3683160" cy="4478760"/>
          </a:xfrm>
        </p:grpSpPr>
        <p:sp>
          <p:nvSpPr>
            <p:cNvPr id="122" name=""/>
            <p:cNvSpPr/>
            <p:nvPr/>
          </p:nvSpPr>
          <p:spPr>
            <a:xfrm>
              <a:off x="4952880" y="533520"/>
              <a:ext cx="460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2920" y="615600"/>
              <a:ext cx="0" cy="27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2920" y="3246480"/>
              <a:ext cx="337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960800">
              <a:off x="5216760" y="6012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960800">
              <a:off x="5754600" y="-76140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0040" y="1191240"/>
              <a:ext cx="1457640" cy="21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3800" y="1766520"/>
              <a:ext cx="76680" cy="8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0440" y="1766520"/>
              <a:ext cx="38340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400" y="2177640"/>
              <a:ext cx="61380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8000" y="2835360"/>
              <a:ext cx="61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8880" y="3328920"/>
              <a:ext cx="76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50920" y="551664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ecios relativos: 3 sand./2 drink  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00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resultado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tendría  si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0920" y="4508640"/>
            <a:ext cx="8686800" cy="938520"/>
            <a:chOff x="250920" y="4508640"/>
            <a:chExt cx="8686800" cy="938520"/>
          </a:xfrm>
        </p:grpSpPr>
        <p:sp>
          <p:nvSpPr>
            <p:cNvPr id="136" name=""/>
            <p:cNvSpPr/>
            <p:nvPr/>
          </p:nvSpPr>
          <p:spPr>
            <a:xfrm>
              <a:off x="250920" y="458460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unto C      Mary 2 sandwichs  - 2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eter 3 sandwichs - 4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920" y="4508640"/>
              <a:ext cx="76320" cy="9144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040480" y="3933720"/>
            <a:ext cx="49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nancias del intercamb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 nivel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60948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tercambio entre países (indiv.)  =&gt;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1430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entras + favorable sean los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o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n (indiv) o país + benefici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676520"/>
            <a:ext cx="868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Issu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 (1) gracias al intercambio ambos agentes económicos están mejor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2)  Más comercio preferible a la Autarquía =&gt; &gt; niveles de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ercio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5053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distribución de la gana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 Ganancias de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01336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íses (o empresas o indiv) pueden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productividad total y obtener ganancias adicionales si se especializan en Y  bienes que producen más eficie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ssue:  How do you measure effici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mentos Conceptuales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erc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tercambio bienes y servicios entre países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Impacto del comercio sobre  economía local y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76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dad económica relev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son identificados con sus gobier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uesto: Gobierno trata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x W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es el interés común o bienestar social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iferencia entre comercio entre países y comercio entre regiones de un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uesto básico :  Tj  -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ilidad dentro de 1 paí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. entre  países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  -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movilidad entre país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Fk*; = moneda vs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onedas: $-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barreras Tf &amp; BN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país - Gob.. suplementa su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regulato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cual no sucede a nivel inter-paí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) Significado económic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fronter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Marco legal, tipo moneda, políticas e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pciones populares con respecto a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762120"/>
            <a:ext cx="8610480" cy="990360"/>
            <a:chOff x="228600" y="762120"/>
            <a:chExt cx="8610480" cy="990360"/>
          </a:xfrm>
        </p:grpSpPr>
        <p:sp>
          <p:nvSpPr>
            <p:cNvPr id="54" name=""/>
            <p:cNvSpPr/>
            <p:nvPr/>
          </p:nvSpPr>
          <p:spPr>
            <a:xfrm>
              <a:off x="228600" y="838080"/>
              <a:ext cx="8610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cotomí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regiones de un paí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e países            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07200" y="762120"/>
              <a:ext cx="71280" cy="99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114800" y="838080"/>
            <a:ext cx="47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intra-país entre regiones: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entre países -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otomía país rico- país p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082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 rico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de is problematic 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etencia con países low L co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00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ís pobre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rade is problematic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mpetencia con país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49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oth: 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417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  políticas comerci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) Protección intereses país en relación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i) Afectan distribución ingreso dentr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de – g Relation – World level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table expansión de trad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ción entre (trade - g)   causa - con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or (trade) - cómo funci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55736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67-79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79-91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trade                   11.8                4.4                                                                     growth                  6.1           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Pregunt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trade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mercian l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terminantes del patrón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. ¿pq Chile X u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rea X au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0464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Por qué comercian los paí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1197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ercantilism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– siglo XVII - X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002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Ventaja del comerc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133720"/>
            <a:ext cx="670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tractivo comercio es para generación excedent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565360"/>
            <a:ext cx="685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ncia de X =&gt; estimula economía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&gt; Implica influjo oro – que asocian a riqu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429000"/>
            <a:ext cx="6477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ciones – son un sacrificio para economía local pues :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 para economía local                             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Flujo ext. (pérdida) d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46530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Sugerencia Mercantilist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Promoción X  - vía subsidi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- apoyo Estado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600408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raleja Mercantilist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X son buenas , M son m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762120"/>
            <a:ext cx="7696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cepción está errada en la base, plantea que trade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0 ,  ejemplo : Pó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o que alguien gana vía aumento oro – otro lo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1840" y="2362320"/>
            <a:ext cx="649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ienestar consumidores de un país es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nsum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8120" y="297180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deal:        M &gt;X siempre que alguien financie el déf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6880" y="3645000"/>
            <a:ext cx="26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X =&gt; &lt;  bien par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762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merci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Wf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bien trade es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0 a niv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ntro del país las ganancias no están distribuídas uniformemente , hay algunos que ganan y otros que pi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) Geometría – Gains from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38480"/>
            <a:ext cx="430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autarquía la economia produce en A – tg. entre f de p y curva de utilidad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13480" y="609480"/>
            <a:ext cx="7440480" cy="6674760"/>
            <a:chOff x="2913480" y="609480"/>
            <a:chExt cx="7440480" cy="6674760"/>
          </a:xfrm>
        </p:grpSpPr>
        <p:sp>
          <p:nvSpPr>
            <p:cNvPr id="86" name=""/>
            <p:cNvSpPr/>
            <p:nvPr/>
          </p:nvSpPr>
          <p:spPr>
            <a:xfrm>
              <a:off x="6930720" y="3992760"/>
              <a:ext cx="9039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19720" y="1981080"/>
              <a:ext cx="602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24120" y="2163960"/>
              <a:ext cx="1104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 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25000" y="3992760"/>
              <a:ext cx="70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8960" y="4632840"/>
              <a:ext cx="5022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2360" y="3078360"/>
              <a:ext cx="903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1040" y="2163960"/>
              <a:ext cx="0" cy="329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1040" y="5364360"/>
              <a:ext cx="41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0600" y="3261240"/>
              <a:ext cx="3615840" cy="155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24560" y="2438280"/>
              <a:ext cx="1205280" cy="292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3480" y="3444120"/>
              <a:ext cx="361512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0800000">
              <a:off x="5524920" y="792720"/>
              <a:ext cx="401688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725440" y="609480"/>
              <a:ext cx="4628520" cy="38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42" y="3"/>
                  </a:moveTo>
                  <a:arcTo wR="10800" hR="10800" stAng="-5322946" swAng="53121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42" y="3"/>
                  </a:moveTo>
                  <a:arcTo wR="10800" hR="10800" stAng="-5322946" swAng="531210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2800" y="3444120"/>
              <a:ext cx="100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8520" y="472428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31160" y="426708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440" y="298692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26760" y="399276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35560" y="4175640"/>
              <a:ext cx="60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33360" y="4541400"/>
              <a:ext cx="401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26320" y="2804040"/>
              <a:ext cx="703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38080" y="56386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ercio genera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ntre producción y consumo- ventaja sobr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7220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l comercio =&gt; con la % dotación de recursos – permite mayores niveles 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7:33:32Z</dcterms:created>
  <dc:creator>.</dc:creator>
  <dc:description/>
  <dc:language>en-US</dc:language>
  <cp:lastModifiedBy>PAOLA</cp:lastModifiedBy>
  <dcterms:modified xsi:type="dcterms:W3CDTF">2007-08-27T14:33:01Z</dcterms:modified>
  <cp:revision>24</cp:revision>
  <dc:subject/>
  <dc:title>Economía Internacional</dc:title>
</cp:coreProperties>
</file>