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386-7A2F-4CEA-94C5-C7C0AD99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E25-DDA2-4495-9557-F40743C4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89E6-E262-4814-AD0E-787FCD87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4F8-86C3-42BF-8549-8BDFD72C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723-B4CB-4129-8243-724A7A36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7DC-517C-494E-8250-BF97B5DD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711-6F2A-47D5-8E84-7BF6F177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F32C-7ABD-461A-91A5-835F9809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F85-21A1-4CAD-BB84-E912C1D2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DD95-0A87-4355-9DBF-1553B37C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DA6-67B2-4428-A3CE-FFC7E0F7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AD1-BBDC-4401-BF21-4FF7416A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86AB-43AB-4B28-B00B-766AD3EF87C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International Trade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ricio M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13560" y="5373720"/>
            <a:ext cx="47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agíster en Gestión para la Glob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692280"/>
            <a:ext cx="4681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AC.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geniería Indust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86364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609480" y="-572040"/>
            <a:ext cx="4191120" cy="4205880"/>
            <a:chOff x="609480" y="-572040"/>
            <a:chExt cx="4191120" cy="4205880"/>
          </a:xfrm>
        </p:grpSpPr>
        <p:sp>
          <p:nvSpPr>
            <p:cNvPr id="110" name=""/>
            <p:cNvSpPr/>
            <p:nvPr/>
          </p:nvSpPr>
          <p:spPr>
            <a:xfrm>
              <a:off x="609480" y="533520"/>
              <a:ext cx="52380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71200" y="614880"/>
              <a:ext cx="0" cy="26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71200" y="3225960"/>
              <a:ext cx="384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0960800">
              <a:off x="904680" y="66240"/>
              <a:ext cx="2967840" cy="29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35" y="715"/>
                  </a:moveTo>
                  <a:arcTo wR="10800" hR="10800" stAng="-6658079" swAng="66580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935" y="715"/>
                  </a:moveTo>
                  <a:arcTo wR="10800" hR="10800" stAng="-6658079" swAng="66580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960800">
              <a:off x="1254240" y="-504000"/>
              <a:ext cx="2968200" cy="29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35" y="715"/>
                  </a:moveTo>
                  <a:arcTo wR="10800" hR="10800" stAng="-6658079" swAng="66580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935" y="715"/>
                  </a:moveTo>
                  <a:arcTo wR="10800" hR="10800" stAng="-6658079" swAng="66580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71200" y="1267560"/>
              <a:ext cx="2270160" cy="20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57080" y="2001960"/>
              <a:ext cx="87120" cy="81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44560" y="1757160"/>
              <a:ext cx="436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16320" y="2165400"/>
              <a:ext cx="6984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79640" y="2818080"/>
              <a:ext cx="69840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27600" y="3307680"/>
              <a:ext cx="87300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Z beb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952880" y="-821160"/>
            <a:ext cx="3683160" cy="4478760"/>
            <a:chOff x="4952880" y="-821160"/>
            <a:chExt cx="3683160" cy="4478760"/>
          </a:xfrm>
        </p:grpSpPr>
        <p:sp>
          <p:nvSpPr>
            <p:cNvPr id="122" name=""/>
            <p:cNvSpPr/>
            <p:nvPr/>
          </p:nvSpPr>
          <p:spPr>
            <a:xfrm>
              <a:off x="4952880" y="533520"/>
              <a:ext cx="4604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2920" y="615600"/>
              <a:ext cx="0" cy="27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2920" y="3246480"/>
              <a:ext cx="337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0960800">
              <a:off x="5216760" y="60120"/>
              <a:ext cx="2608200" cy="295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35" y="715"/>
                  </a:moveTo>
                  <a:arcTo wR="10800" hR="10800" stAng="-6658079" swAng="66580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935" y="715"/>
                  </a:moveTo>
                  <a:arcTo wR="10800" hR="10800" stAng="-6658079" swAng="66580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0960800">
              <a:off x="5754600" y="-761400"/>
              <a:ext cx="2608200" cy="295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35" y="715"/>
                  </a:moveTo>
                  <a:arcTo wR="10800" hR="10800" stAng="-6658079" swAng="66580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935" y="715"/>
                  </a:moveTo>
                  <a:arcTo wR="10800" hR="10800" stAng="-6658079" swAng="66580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20040" y="1191240"/>
              <a:ext cx="1457640" cy="213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03800" y="1766520"/>
              <a:ext cx="76680" cy="82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50440" y="1766520"/>
              <a:ext cx="38340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31400" y="2177640"/>
              <a:ext cx="61380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48000" y="2835360"/>
              <a:ext cx="61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68880" y="3328920"/>
              <a:ext cx="767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Z beb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50920" y="5516640"/>
            <a:ext cx="868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recios relativos: 3 sand./2 drink    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=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004080"/>
            <a:ext cx="8686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n resultado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se tendría  si  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50920" y="4508640"/>
            <a:ext cx="8686800" cy="938520"/>
            <a:chOff x="250920" y="4508640"/>
            <a:chExt cx="8686800" cy="938520"/>
          </a:xfrm>
        </p:grpSpPr>
        <p:sp>
          <p:nvSpPr>
            <p:cNvPr id="136" name=""/>
            <p:cNvSpPr/>
            <p:nvPr/>
          </p:nvSpPr>
          <p:spPr>
            <a:xfrm>
              <a:off x="250920" y="4584600"/>
              <a:ext cx="8686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Punto C      Mary 2 sandwichs  - 2 drin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Peter 3 sandwichs - 4 drin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93920" y="4508640"/>
              <a:ext cx="76320" cy="9144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040480" y="3933720"/>
            <a:ext cx="49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Ganancias del intercambi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a nivel Indiv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609480"/>
            <a:ext cx="868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ntercambio entre países (indiv.)  =&gt; 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 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143000"/>
            <a:ext cx="868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ientras + favorable sean los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o 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 P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k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Yn (indiv) o país + benefici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676520"/>
            <a:ext cx="8686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in Issue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 (1) gracias al intercambio ambos agentes económicos están mejor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&gt; 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2514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(2)  Más comercio preferible a la Autarquía =&gt; &gt; niveles de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0481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(3)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ercio =&gt;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505320"/>
            <a:ext cx="868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4)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=&gt; 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distribución de la ganancia come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42926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 Ganancias de especi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5013360"/>
            <a:ext cx="8686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aíses (o empresas o indiv) pueden 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productividad total y obtener ganancias adicionales si se especializan en Y  bienes que producen más eficient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ssue:  How do you measure efficienc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808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mentos Conceptuales de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52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erc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tercambio bienes y servicios entre países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Impacto del comercio sobre  economía local y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766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í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unidad económica relev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41720"/>
            <a:ext cx="8686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ís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son identificados con sus gobiern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uesto: Gobierno trata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x W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es el interés común o bienestar social?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iferencia entre comercio entre países y comercio entre regiones de un paí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puesto básico :  Tj  -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movilidad dentro de 1 país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mov. entre  países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K  - n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movilidad entre país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- Fk*; = moneda vs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monedas: $-US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    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barreras Tf &amp; BN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1250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país - Gob.. suplementa su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der regulator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 cual no sucede a nivel inter-paí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) Significado económic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fronter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Marco legal, tipo moneda, políticas ec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049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cepciones populares con respecto al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8600" y="762120"/>
            <a:ext cx="8610480" cy="990360"/>
            <a:chOff x="228600" y="762120"/>
            <a:chExt cx="8610480" cy="990360"/>
          </a:xfrm>
        </p:grpSpPr>
        <p:sp>
          <p:nvSpPr>
            <p:cNvPr id="54" name=""/>
            <p:cNvSpPr/>
            <p:nvPr/>
          </p:nvSpPr>
          <p:spPr>
            <a:xfrm>
              <a:off x="228600" y="838080"/>
              <a:ext cx="86104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-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cotomí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regiones de un paí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re países            :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07200" y="762120"/>
              <a:ext cx="71280" cy="99036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4114800" y="838080"/>
            <a:ext cx="473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ercio intra-país entre regiones: 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ercio entre países -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1337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cotomía país rico- país p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7082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ís rico =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de is problematic  =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etencia con países low L co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500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ís pobre =&gt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rade is problematic =&gt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competencia con países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497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oth:  WR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9417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l  políticas comercia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) Protección intereses país en relación otros paí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i) Afectan distribución ingreso dentro del 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Trade – g Relation – World level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3284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table expansión de trade =&gt;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lación entre (trade - g)   causa - cons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tor (trade) - cómo funcio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155736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67-79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79-91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trade                   11.8                4.4                                                                     growth                  6.1                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Arial"/>
              </a:rPr>
              <a:t>Pregunta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¿Pq  </a:t>
            </a:r>
            <a:r>
              <a:rPr b="1" lang="es-MX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trade internacio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¿Pq comercian los paí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Factores determinantes del patrón de comer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x. ¿pq Chile X u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¿pq Corea X au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404640"/>
            <a:ext cx="7467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¿Por qué comercian los paí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1197000"/>
            <a:ext cx="685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ercantilism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– siglo XVII - XV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700280"/>
            <a:ext cx="6400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 Ventaja del comerci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2133720"/>
            <a:ext cx="6705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tractivo comercio es para generación excedente 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2565360"/>
            <a:ext cx="6858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mportancia de X =&gt; estimula economía 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&gt; Implica influjo oro – que asocian a riqu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3429000"/>
            <a:ext cx="64771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mportaciones – son un sacrificio para economía local pues :                                                          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 para economía local                                                                                       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Flujo ext. (pérdida) de 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4653000"/>
            <a:ext cx="7315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 Sugerencia Mercantilista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=&gt; Promoción X  - vía subsidio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- apoyo Estado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6004080"/>
            <a:ext cx="6781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raleja Mercantilista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: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X son buenas , M son ma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762120"/>
            <a:ext cx="7696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cepción está errada en la base, plantea que trade =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0 ,  ejemplo : Pó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o que alguien gana vía aumento oro – otro lo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1840" y="2362320"/>
            <a:ext cx="649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Bienestar consumidores de un país es con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onsumo =&gt;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78120" y="2971800"/>
            <a:ext cx="585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Ideal:        M &gt;X siempre que alguien financie el défic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6880" y="3645000"/>
            <a:ext cx="26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X =&gt; &lt;  bien par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l del 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7621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omercio =&gt;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Wf 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143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bien trade es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&gt;0 a nivel 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1600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ntro del país las ganancias no están distribuídas uniformemente , hay algunos que ganan y otros que pi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2819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b) Geometría – Gains from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038480"/>
            <a:ext cx="430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autarquía la economia produce en A – tg. entre f de p y curva de utilidad 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913480" y="609480"/>
            <a:ext cx="7440480" cy="6674760"/>
            <a:chOff x="2913480" y="609480"/>
            <a:chExt cx="7440480" cy="6674760"/>
          </a:xfrm>
        </p:grpSpPr>
        <p:sp>
          <p:nvSpPr>
            <p:cNvPr id="86" name=""/>
            <p:cNvSpPr/>
            <p:nvPr/>
          </p:nvSpPr>
          <p:spPr>
            <a:xfrm>
              <a:off x="6930720" y="3992760"/>
              <a:ext cx="9039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19720" y="1981080"/>
              <a:ext cx="60264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24120" y="2163960"/>
              <a:ext cx="11048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 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25000" y="3992760"/>
              <a:ext cx="7030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28960" y="4632840"/>
              <a:ext cx="50220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22360" y="3078360"/>
              <a:ext cx="9039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21040" y="2163960"/>
              <a:ext cx="0" cy="329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21040" y="5364360"/>
              <a:ext cx="411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20600" y="3261240"/>
              <a:ext cx="3615840" cy="1554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524560" y="2438280"/>
              <a:ext cx="1205280" cy="2926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13480" y="3444120"/>
              <a:ext cx="3615120" cy="384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0800000">
              <a:off x="5524920" y="792720"/>
              <a:ext cx="4016880" cy="384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0800000">
              <a:off x="5725440" y="609480"/>
              <a:ext cx="4628520" cy="384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042" y="3"/>
                  </a:moveTo>
                  <a:arcTo wR="10800" hR="10800" stAng="-5322946" swAng="53121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042" y="3"/>
                  </a:moveTo>
                  <a:arcTo wR="10800" hR="10800" stAng="-5322946" swAng="5312102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22800" y="3444120"/>
              <a:ext cx="100080" cy="91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28520" y="4724280"/>
              <a:ext cx="100440" cy="9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31160" y="4267080"/>
              <a:ext cx="100440" cy="91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5440" y="2986920"/>
              <a:ext cx="100440" cy="91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26760" y="3992760"/>
              <a:ext cx="100440" cy="91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35560" y="4175640"/>
              <a:ext cx="6026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33360" y="4541400"/>
              <a:ext cx="4017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26320" y="2804040"/>
              <a:ext cx="7030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838080" y="56386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ercio genera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ntre producción y consumo- ventaja sobre autarqu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6172200"/>
            <a:ext cx="8381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ol comercio =&gt; con la % dotación de recursos – permite mayores niveles de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17:33:32Z</dcterms:created>
  <dc:creator>.</dc:creator>
  <dc:description/>
  <dc:language>en-US</dc:language>
  <cp:lastModifiedBy>PAOLA</cp:lastModifiedBy>
  <dcterms:modified xsi:type="dcterms:W3CDTF">2007-08-27T14:33:01Z</dcterms:modified>
  <cp:revision>24</cp:revision>
  <dc:subject/>
  <dc:title>Economía Internacional</dc:title>
</cp:coreProperties>
</file>