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40C-11D8-4DF6-916C-443064A1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044-C05D-41AF-8B40-26A7C631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0D97-1A22-43D2-A4EF-4BD5FFFE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DDAF-C7BC-4039-97E0-78E66184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B609-4C95-43B2-8A1C-A787A8CA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F96D-712F-4DA5-B32E-F15E6570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FBDD-0EC1-4277-8D9B-CBC78AD7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A1DF-16E2-4BE7-A8F4-02D0245A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6DC2-F61B-4869-83BD-23DB91F9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17E4-74CA-4811-8E32-DBE73F4E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B2E4-D984-411F-97D4-E006A21C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6573-32D6-4135-A7EA-AAE2DF81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0587-5F17-4086-850C-30F2C451A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1520" y="3022560"/>
            <a:ext cx="822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863640" cy="85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908000" y="620640"/>
          <a:ext cx="4176720" cy="1008000"/>
        </p:xfrm>
        <a:graphic>
          <a:graphicData uri="http://schemas.openxmlformats.org/drawingml/2006/table">
            <a:tbl>
              <a:tblPr/>
              <a:tblGrid>
                <a:gridCol w="417672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IDAD DE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. DE CIENCIAS FÍSICAS Y MATEMÁ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eniería Industri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340000" y="501336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24922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278136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75A Analysis of the Global 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941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ricio Me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4920" y="5589720"/>
            <a:ext cx="47192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íster en Gestión para la Glob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-1015920" algn="ctr"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A GLOBALIZACIÓN: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A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enómenos que han Contribuido a la Glob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.- 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↓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costos transporte y comunica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Revolución tecnológic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(XX) asociada a TV y 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.-  Mayoría PED han acelerado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roceso incorporación a economía mund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Gran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↑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trad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spectacular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↑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flujos K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esplome bloque socialist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 convertido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apitalism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n única alternativa exis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s precios bajos de los bienes producidos constituyen la artillería pesada con que el Capitalismo derrumba la Muralla China y obliga a todos los países a escoger una de las siguientes alternativas:  adoptar el modo de producción capitalista o desaparecer del planeta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(Marx &amp; Engels, </a:t>
            </a:r>
            <a:r>
              <a:rPr b="1" i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Manifiesto Comunista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, 184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9344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80732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743" b="0"/>
          <a:stretch/>
        </p:blipFill>
        <p:spPr>
          <a:xfrm>
            <a:off x="324000" y="866880"/>
            <a:ext cx="835164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3945" r="0" b="0"/>
          <a:stretch/>
        </p:blipFill>
        <p:spPr>
          <a:xfrm>
            <a:off x="324000" y="836640"/>
            <a:ext cx="820872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28676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217440" y="-243000"/>
            <a:ext cx="957888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OB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grandes oportunidades pero desafíos no son men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lema: Max beneficios GL, Min costos y/o compensación perdedores (a nivel nacion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Adquisición tecnología modern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aja PED: aprovecha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oderna P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hile: 50% &gt; mayor g reciente asociado incorporació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od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Acceso e incorporación nuevas ideas que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n el mund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lo XXI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lo conocimiento. Clasificación paí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)  Países productores ideas, esencialmente P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Países usadores ideas, PED que invitan a IE del tipo encl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i) Países adaptadores ideas, PED adquiere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oderna- introducen innovaciones. Requiere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pecialistas locales que entiendan nuevas ideas y proceso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íses exitosos siglo XXI : Países generadores de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¿Cuál es la Capacidad generación ideas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aís que 80% gente no entiende lo que le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9280" y="20520"/>
            <a:ext cx="8812440" cy="682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Arial"/>
              </a:rPr>
              <a:t>GLOBALIZATION COSTS and BENEFITS : OVERVIEW from a SMALL COUN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48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ES" sz="3200" spc="-1" strike="noStrike">
                <a:solidFill>
                  <a:srgbClr val="000000"/>
                </a:solidFill>
                <a:latin typeface="CG Times"/>
              </a:rPr>
              <a:t>Patricio Me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0" r="5644" b="815"/>
          <a:stretch/>
        </p:blipFill>
        <p:spPr>
          <a:xfrm>
            <a:off x="0" y="46080"/>
            <a:ext cx="914400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76312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76312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.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Mayor competencia y eficienci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signación recursos según ventajas comparativas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ficiencia y bienes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xpansión X, motor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(Chile) duplicaron particip. PIB: 15% (PIB) (70s) a 30% (PIB) (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cambia mentalidad empresarial: “su mercado es el mund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sitas empresarios exterior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uevos contactos –conexiones- nuevos negocios.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genera ciclo virtu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Acceso nuevas fuentes financiamient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síntesis, beneficios GL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g histórico 4% antes (1980) </a:t>
            </a:r>
            <a:r>
              <a:rPr b="1" i="1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   6% en los 9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conomía no hay nada gratis (no free lunch)-Mundo GL genera diversos cost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.-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shocks extern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permite alcanzar trayectoria mayor g; pero a cambio, país queda expuesto a shocks exter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enestar pero asociado a &gt; inestabi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hocks ext.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r w y Nº horas trabaj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o genera volatilidad e inestabilidad en Yn famil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hocks provenientes del mundo competitivo.               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da empresa productiva puede ser eliminada del merc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mpresarios y Tj de c/ empresa tienen total incertidumbre respecto a supervivencia futura de su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íntesis,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genera inestabilidad e incertidumbre para to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.-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libre mov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ndo GL 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Todo se mueve : Bs., I, KF, T,    menos ....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grama ref. estruct. o  prog. ajuste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 factor que no puede salir (escapar) del país: 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 de crisis las pagan principalmente los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ta movilidad factor K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apac. Gob. recaudar impues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tor K busca refugio en “paraísos tributarios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ecuencia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 carga tributaria fact. productivos locale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.- 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fectos sobre Mdo. Labo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Tj calificados: OK movilidad intersectorial y flexibilidad produ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 Tj sin calificación o habilidad obsoleta, experimentan serios costos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ecuencia: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iferencial w entre Tj calif. y no calific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vía mercado laboral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desigualdad de Yn entre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conomía GL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o hay fuente laboral garantizada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parece noción “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ame job foreve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lquier empresa puede desaparecer.  Tj rotarán entre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tipos de 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j debieran estar capacitados para hacer esto exitos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rosión  poder sindica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flictos: Economía cerrada—Economía abi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¿Cuál es rol sindicatos?, ¿cuál es “enemigo” de Tj en un mundo G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. BENEFICIOS Y COSTOS DE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Costos de la Glob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 genera empleos part-time: Oportunidad para mujeres y jóve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L presiona Tj a moverse;  moverse en doble sentid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vilidad geogr. y rotación entre trabaj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Cuál es el problema que existe con es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¿Cómo financia Tj mantención, mientras se mueve geográficament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requiere institucionalidad laboral ≠  para enfrentar mundo G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.-  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↑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tensión social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genera ganadores y perdedores. Dicotomía válida para PD y PED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iebres en  sectores económicos, regiones, comunas, gen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 exacerba tensiones dentro de un país al interior de estos gru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OBALIZ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incipios Gen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co políticas: maximizar los beneficios y minimizar los cos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entes económicos “equipados” para aprovechar los beneficios GL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ís establece mecanismos locales para compensar a los “perdedor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1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Restriccione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 GL consens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Gobierno responsabl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Prioridad equil. macro (Rol  Min. H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Gobiern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olíticas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opulista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sanción mercados financie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 Tema conflictivo PD/PED: standard laborales mínimos univer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xistencia mercados globales y competencia glob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 requiere reglas parejas globales pa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“comercio just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- Restriccione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j  PD plantean que debiera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ismo standard laboral en todos paí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-PED producidas por niños o Tj que tienen  entorno laboral deplorab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 competencia desleal y “comercio injust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mercio “justo”,  PED debieran adoptar standard laboral mínim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emás protegería  dignidad y condición laboral de  Tj  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jeciones a este planteamie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a) En un mundo en que todo se mueve, menos T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t. Comp. PED radican justamente  &lt;  costo labor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iveles w mínimo, Nº días vacaciones, condiciones lugar trabajo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penden generalmente nivel Yn/cápita paí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gumento sindicatos  PD es realmente de naturalez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teccionist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quieren proteger fuentes de trabajo de Tj 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.-  GLOBALIZATION :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.- Impresionistic Ele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- Flattener  Globalization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I.- BENEFITS &amp;  COSTS OF GLOB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.- Globalization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- Globalization  Co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II.- POLICIES TO FACE GLOB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.-   International Restricc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-   Rol of the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.-   New Labor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V.-  SOME FINAL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- Restriccione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b) Si personas PD realmente preocupados por niños y Tj PED,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olución no radica e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arreras o prohibir X-P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 perjudicaría claramente a niños y Tj PED; en el caso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iños, los podría empujar a alternativa peor: prostitució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mejores alternativas serían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i)   Ayuda directa de PD a niños de 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ii)  Permitir migración Tj- PED a P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iii) Consumidores PD tienen opción no compra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ienes X-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Rol 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obierno debe persistir en función de diseñar sistemas eficientes seguridad social para enfrentar shocks específicos debidos a la G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ernativa de Gob. no hacer nada ante shocks ext.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es peor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q sería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≠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situación Tj que pierde job debido a GL en relación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otros Tj que quedan cesantes por otros motiv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ectos GL son más visibles: afectan a todo un sector produc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---    motor de actividad económica de una región:  presión polít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ienestar país;  ganadores tienen compensar perde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Rol 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ama asistencia Tj (PD) desplazados por  GL incluy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)   Seguro desempleo por período &gt; seguro desempleo tradi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 Ayuda gubernamental para buscar nuevas fuentes 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i)  Programas capacitación y reconversión labo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v) Compensación costos de traslado para ir a otro lug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E.UU. este tipo de programa tiene extensión de 18 me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L (mercados libres y  libre comercio), para ser aceptada por todos,                      tiene que estar insertada -- institucionalidad social mitigue consecuencias &lt;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Nuevo Entorno Laboral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ndo GL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(i) empresas operan en entorno altamente compet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insumos productivos menos Tj tienen gran movil. interna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urso KH : desempeña  rol princ. en supervivencia empresas.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o incluye obviamente a empresarios (y aparato gerencial) y T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orno productivo empresa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mpetencia automovilístic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loto (gerente) conduce auto; pero todo el equipo cumple rol fundamental para el buen desempeño auto durante la carr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 notoria con respecto al pasado: sistema fordista  requería Tj robot: engranaje más proceso productiv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undo competitivo actual: participación activa de todos para sugerir pequeñas innovaciones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queñas modificaciones explican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ayor competit. empresas + efi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Nuevo Entorno Laboral</a:t>
            </a: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ecuencia: relación estrecha entre productividad y w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  incentivos estimulan  creativi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 si Tj sugiere innovación que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utilidades tiene que recibir compensación correspond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 promociones y escala w Tj debieran estar vinculadas a productividad de éstos. (S. Pub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L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hocks tecnológicos y shocks empresas extr.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productividad.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mpresas locales: flexibilidad y capacidad adaptación ante camb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mpresa GL siempre busca nuevos nichos, nuevas líneas producción, nuevos produc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j. carrera automovilística, auto que se detiene pierde; si competidores van en avión, los que viajan en bicicleta no tienen ninguna chance.---(GL y señales) (empres.-cambio 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mpresarios y Tj debieran estar capacitados para enfrentar camb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¿Cómo se hace esto?,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¿cómo se capacita para enfrentar el camb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-Empresarios (y gerentes) permanentemente informados y conectados con todo lo que sucede en su área en el mundo ex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--Tj tienen que estar programas frecuentes capacitación (efectuados a nivel descentralizado); i.e., a nivel de empres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POLITICAS PARA ENFRENTAR LA 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Nuevo Entorno Laboral</a:t>
            </a: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ndo GL--- legislación laboral tiene que reorientar su funcion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pósito  legislación laboral es la protección a los trabaj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ndo pre -GL, esto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tección fuentes trabajo;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inamov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o en mundo GL ¿qué debiera proteger la legislación laboral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----Tj enfrentan mundo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inestabilidad presente e incertidumbre fut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-----Tj van a rotar y van a cambiar muchas veces de emple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onsecuencia, legislación laboral debiera tener 2 componentes princ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) Mecanismo ingreso para períodos cesantía y para cubrir requerimiento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vilidad laboral geográfica (financiamiento asociado a costos de traslado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ográfico para ir a ocupar empleos en otras regiones)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i) Mecanismo que permita enfrentar cambios tecnológicos laborales  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programa de capacitación y de reconversión labor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LGUNAS OBSERVACIONES FI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GL está para quedars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-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aprender a superar este fenómeno y vivir así.  Críticos GL tienen que tener respuestas concretas para 3 tem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¿Cuál es alternativa no pertenecer mundo GL?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¿Hay ej. exitosos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Demostrar pq costos GL serían &gt; beneficios G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xplicar pq mayoría países prefiere incorporarse al mundo G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un cuando </a:t>
            </a:r>
            <a:r>
              <a:rPr b="1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homogen. consumo, esto no </a:t>
            </a:r>
            <a:r>
              <a:rPr b="1" i="1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todos somos iguale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eber Coca-Cola, no tiene pq transformarnos en norteamerica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Hay que crear institucionalidad GL y local para enfrentar  shocks externos.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Los shocks van a comenzar a ser un fenómeno recurrente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.  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róximos 25 años serán parecidos al mundo actual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 a seguir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GL; pero también van a seguir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tados-N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to probablemente revela incapacidad para imaginar algo disti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5. Próxima discusión: vent./desvent. de distintos modelos de capitalismo: K-ismo norteam., K-ismo europeo y K-ismo asiático. ¿cuál es más relevante para la regió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bviamente </a:t>
            </a:r>
            <a:r>
              <a:rPr b="0" lang="es-CL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alternativa:  generar un capitalismo a la latinoameric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uede que esta solución sea peor que los otros capitalismos conoc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-1015920" algn="ctr"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A GLOBALIZACIÓN: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A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G 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G Times"/>
              </a:rPr>
              <a:t>Elementos Impresionís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Planeta Tierra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“aldea global”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ac Donald’s, Coca-Cola y Whis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MAC-MUNDO:  Jóvenes--- Cines ---Malls y supermerc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Qué tipo de valores estamos adquiriendo en este Mundo Homogéneo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Qué pasa con nuestra identidad?   ¿qué pasa con nuestros valor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        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Somos ahora sólo terrícolas?</a:t>
            </a:r>
            <a:r>
              <a:rPr b="1" lang="es-CL" sz="1600" spc="-1" strike="noStrike">
                <a:solidFill>
                  <a:srgbClr val="000000"/>
                </a:solidFill>
                <a:latin typeface="CG Times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G Times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G Times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CG Times"/>
              </a:rPr>
              <a:t>O bien, </a:t>
            </a:r>
            <a:r>
              <a:rPr b="1" i="1" lang="es-CL" sz="1600" spc="-1" strike="noStrike">
                <a:solidFill>
                  <a:srgbClr val="000000"/>
                </a:solidFill>
                <a:latin typeface="CG Times"/>
              </a:rPr>
              <a:t>¿es Mac-Mundo un imperio fáctico norteamerican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es  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ositivo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ac-Mundo :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erechos Humanos y Democr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ceso GL </a:t>
            </a:r>
            <a:r>
              <a:rPr b="0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xistencia fenómenos globales cruzan front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ís pierde capacidad control lo que sucede dentro de sus fronte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L integra económicamente países; desaparecen mercados locales-nacion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randes productores escala mundial; mercado mundial integrado homogéne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-1015920" algn="ctr"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A GLOBALIZACIÓN: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A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síntesis, países pierden autonomía y grados de libertad.  Entonc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or qué los países se incorporan al mundo globa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tandard PD  y  Modernización tecnológ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incorporación a GL plantea lo sigui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uede una Sociedad renunciar al progres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¿Puede una Sociedad renunciar a mejorar el standard de vida de la generación presente y  de las generaciones futur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luso China ha optado incorporarse al mundo glob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hina ha comprendido incorporación mundo GL implica costos y beneficios; pero,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eneficios superan cost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Reducción de los costos de transporte y de comunica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s  transport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onsiderablemente costo flete marítimo (incluyendo costos portuarios). C(1990)= 40% C(193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 aéreo transporte por pasajero-milla: 0,68¢ (US$) en 19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(1960)= 1/3C(1930)  y C(1990)= 1/73C(193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 comunicación telefónica Nueva York y Londres (3 minut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S$ 245 en 1930.  Año 1990: US$ 3,3.  Año 2000: US$ 1,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sto es incluso inferior a 1/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La revolución tecnológic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siglo XX asociada a TV e informática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ifras ilustrativas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ocializa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masiva TV y computadores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se de precios 1000 (costo de un computador; índice USA):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125.000 en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gnificativa costos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todos benefician revolución tecnológ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l insospechado Intern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ualmente (cifras 2004) Internet es utilizado por casi 500 millon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ersonas.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locidad uso Internet es sorpren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dio demoró 30 años en llegar a 60 millones pers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levisión, 15 años (60 M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so Internet en gran escala 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stos transacciones inter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.-  Mayoría PED han acelerado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ceso incorporación a economía mundial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íses asiáticos:  décadas 70 y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íses latinoamericanos:  décadas 80 y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écada del 90:  China, India, Países del ex-bloque soci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Gran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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Trade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/PIB mundial desde 7% (1950) a 15% (200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es X/PIB década 90  son los más elevados en más de un sig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ués 2ªGM  trade main g  motor de la economía mu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o importante composición X y rol PED: X- manufa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hare X total mundial desde 61% (1970) a 75% (1994).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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-manuf asiáticas y latinoamericana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Fenómenos que han Contribuido a la Globaliz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.-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Espectacular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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flujos K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lujos anuales IE: quintuplicado en 35 años (1960-95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emás % relativo stock IE respecto PIB mundial total se ha m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 duplicado en 35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écada 70 flujos totales IE PD: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US$ 25.000 millones/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écada 90 flujos totales IE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US$ 200.000 millones/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cimiento flujos financieros totales experimenta aceleración &gt; en década 90.  MK: integración mundial.  MK veloc. respuesta casi insta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progreso tecnológico informática y telecomunicacio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n y rápida movil. flujos financ.</a:t>
            </a:r>
            <a:r>
              <a:rPr b="0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rias consec. política económica lo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.- GL  acelerado en década 1990.  ¿Pq? 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Desplome del bloque socialist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ha convertido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apitalism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n única alternativa exis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23:46:38Z</dcterms:created>
  <dc:creator>Paola Bordón</dc:creator>
  <dc:description/>
  <dc:language>en-US</dc:language>
  <cp:lastModifiedBy>PAOLA</cp:lastModifiedBy>
  <dcterms:modified xsi:type="dcterms:W3CDTF">2007-08-27T20:48:24Z</dcterms:modified>
  <cp:revision>69</cp:revision>
  <dc:subject/>
  <dc:title>Macro and Financial Flows in the Global Economy</dc:title>
</cp:coreProperties>
</file>