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1F5-85F3-444C-BBB7-859ADC3C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37C-648A-4B83-B480-7C36732A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D51-0FF3-4EBC-B426-3CE6869F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00A-ED63-4195-A2CB-18FEB712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818-F7AD-46E5-B3E6-E480E57C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B04-D73D-4D96-AFD9-C463ECAA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5A4-7E9C-4FE0-AD82-FA57A97A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9D8-CBB2-46FC-8A61-F351EB1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B7F-6B68-4067-AE39-80482CE8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7BB-B8DA-443E-9207-8CB0E6C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553-DFDD-48FF-981E-8DEA9451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D74-0F48-4AF4-9947-9DBC31C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5D93-569C-455D-9CD8-235F27AF6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176720" cy="10080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75A Analysis of the Global 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nómenos que han Contribuido a la Glob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↓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costos transporte y comunic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volución tecnológ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XX) asociada a TV y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splome bloque social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apitalism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precios bajos de los bienes producidos constituyen la artillería pesada con que el Capitalismo derrumba la Muralla China y obliga a todos los países a escoger una de las siguientes alternativas:  adoptar el modo de producción capitalista o desaparecer del planet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(Marx &amp; Engels, </a:t>
            </a:r>
            <a:r>
              <a:rPr b="1" i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Manifiesto Comunista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, 18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34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073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743" b="0"/>
          <a:stretch/>
        </p:blipFill>
        <p:spPr>
          <a:xfrm>
            <a:off x="324000" y="866880"/>
            <a:ext cx="83516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3945" r="0" b="0"/>
          <a:stretch/>
        </p:blipFill>
        <p:spPr>
          <a:xfrm>
            <a:off x="324000" y="836640"/>
            <a:ext cx="82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867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17440" y="-243000"/>
            <a:ext cx="957888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ndes oportunidades pero desafíos no son men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lema: Max beneficios GL, Min costos y/o compensación perdedores (a nivel na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dquisición tecnología modern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 PED: aprovech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ile: 50% &gt; mayor g reciente asociado incorporació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e incorporación nuevas ideas que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n el mun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XXI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conocimiento. Clasificación paí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Países productores ideas, esencialmente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Países usadores ideas, PED que invitan a IE del tipo encl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Países adaptadores ideas, PED adquier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- introducen innovaciones. Requier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pecialistas locales que entiendan nuevas ideas y proces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íses exitosos siglo XXI : Países generadores de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¿Cuál es la Capacidad generación ideas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aís que 80% gente no entiende lo que l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881244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GLOBALIZATION COSTS and BENEFITS : OVERVIEW from a SMALL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G Times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5644" b="815"/>
          <a:stretch/>
        </p:blipFill>
        <p:spPr>
          <a:xfrm>
            <a:off x="0" y="4608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ayor competencia y eficienci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signación recursos según ventajas comparativa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ficiencia y bienes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xpansión X, moto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(Chile) duplicaron particip. PIB: 15% (PIB) (70s) a 30% (PIB) (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cambia mentalidad empresarial: “su mercado es el mund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itas empresarios exterior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 contactos –conexiones- nuevos negocio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genera ciclo virtu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nuevas fuentes financiamien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síntesis, beneficios GL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g histórico 4% antes (1980) </a:t>
            </a:r>
            <a:r>
              <a:rPr b="1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   6% en los 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conomía no hay nada gratis (no free lunch)-Mundo GL genera diversos cos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shocks extern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permite alcanzar trayectoria mayor g; pero a cambio, país queda expuesto a shocks exter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tar pero asociado a &gt; inest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cks ext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r w y Nº horas trabaj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genera volatilidad e inestabilidad en Yn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hocks provenientes del mundo competitivo.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da empresa productiva puede ser eliminada del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presarios y Tj de c/ empresa tienen total incertidumbre respecto a supervivencia futura de su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tesis,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enera inestabilidad e incertidumbre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libre mov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 se mueve : Bs., I, KF, T,    menos ....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ref. estruct. o  prog. ajuste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factor que no puede salir (escapar) del país: 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de crisis las pagan principalmente los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a movilidad factor K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pac. Gob. recaudar i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K busca refugio en “paraísos tributar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carga tributaria fact. productivos local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fectos sobre Mdo. Labo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calificados: OK movilidad intersectorial y flexibilidad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sin calificación o habilidad obsoleta, experimentan serios costo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iferencial w entre Tj calif. y no cal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vía mercado laboral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sigualdad de Yn entre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nomía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hay fuente laboral garantizad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parece noción “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ame job fore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lquier empresa puede desaparecer.  Tj rotarán entr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ipos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debieran estar capacitados para hacer esto exitos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rosión  poder sindica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lictos: Economía cerrada—Economí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¿Cuál es rol sindicatos?, ¿cuál es “enemigo” de Tj en un mundo G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genera empleos part-time: Oportunidad para mujeres y jóv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presiona Tj a moverse;  moverse en doble senti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vilidad geogr. y rotación entre trabaj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uál es el problema que existe con 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ómo financia Tj mantención, mientras se mueve geográficamen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quiere institucionalidad laboral ≠  para enfrentar mundo G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ensión so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genera ganadores y perdedores. Dicotomía válida para PD y PED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iebres en  sectores económicos, regiones, comunas, 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exacerba tensiones dentro de un país al interior de est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co políticas: maximizar los beneficios y minimizar los cos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entes económicos “equipados” para aprovechar los beneficios G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ís establece mecanismos locales para compensar a los “perdedor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GL consens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 responsab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Prioridad equil. macro (Rol  Min. H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olític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pulist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sanción mercados financi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Tema conflictivo PD/PED: standard laborales mínimos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ncia mercados globales y competencia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requiere reglas parejas globale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“comercio jus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 PD plantean que debie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smo standard laboral en todos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PED producidas por niños o Tj que tienen  entorno laboral deplor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competencia desleal y “comercio injust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ercio “justo”,  PED debieran adoptar standard laboral mín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protegería  dignidad y condición laboral de  Tj  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ciones a este planteami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) En un mundo en que todo se mueve, menos T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. Comp. PED radican justamente  &lt;  costo labo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es w mínimo, Nº días vacaciones, condiciones lugar trabajo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n generalmente nivel Yn/cápita paí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gumento sindicatos  PD es realmente de naturalez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ccion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quieren proteger fuentes de trabajo de Tj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-  GLOBALIZATION :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Impresionistic 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Flattener  Globaliz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.- BENEFITS &amp;  COSTS OF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Globalization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Globalization 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.- POLICIES TO FACE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  International Restricc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  Rol of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.-   New Labor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V.-  SOME FIN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Si personas PD realmente preocupados por niños y Tj PED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ución no radica e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rreras o prohibir X-P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perjudicaría claramente a niños y Tj PED; en el cas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ños, los podría empujar a alternativa peor: prostitució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mejores alternativas sería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)   Ayuda directa de PD a niños de 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)  Permitir migración Tj- PED a 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i) Consumidores PD tienen opción no compr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 X-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obierno debe persistir en función de diseñar sistemas eficientes seguridad social para enfrentar shocks específicos debidos a la G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ernativa de Gob. no hacer nada ante shocks ext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s peor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q sería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situación Tj que pierde job debido a GL en relació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otros Tj que quedan cesantes por otros motiv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ectos GL son más visibles: afectan a todo un sector 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-    motor de actividad económica de una región:  presión polí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tar país;  ganadores tienen compensar perde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asistencia Tj (PD) desplazados por  GL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 Seguro desempleo por período &gt; seguro desempleo tradi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 Ayuda gubernamental para buscar nuevas fuentes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 Programas capacitación y reconversión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v) Compensación costos de traslado para ir a otro lu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E.UU. este tipo de programa tiene extensión de 18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(mercados libres y  libre comercio), para ser aceptada por todos,                      tiene que estar insertada -- institucionalidad social mitigue consecuencias 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(i) empresas operan en entorno altamente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insumos productivos menos Tj tienen gran movil. intern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 KH : desempeña  rol princ. en supervivencia empresa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incluye obviamente a empresarios (y aparato gerencial) y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rno productivo empres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petencia automovilísti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loto (gerente) conduce auto; pero todo el equipo cumple rol fundamental para el buen desempeño auto durante la carr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notoria con respecto al pasado: sistema fordista  requería Tj robot: engranaje más proceso produc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competitivo actual: participación activa de todos para sugerir pequeñas innovacione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queñas modificaciones explican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yor competit. empresas + 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relación estrecha entre productividad y w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 incentivos estimulan  creativ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si Tj sugiere innovación qu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utilidades tiene que recibir compensación correspo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promociones y escala w Tj debieran estar vinculadas a productividad de éstos. (S. Pub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hocks tecnológicos y shocks empresas extr.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productividad.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s locales: flexibilidad y capacidad adaptación ante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 GL siempre busca nuevos nichos, nuevas líneas producción, nuevos produc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. carrera automovilística, auto que se detiene pierde; si competidores van en avión, los que viajan en bicicleta no tienen ninguna chance.---(GL y señales) (empres.-cambio 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rios y Tj debieran estar capacitados para enfrentar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Cómo se hace esto?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ómo se capacita para enfrentar el camb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Empresarios (y gerentes) permanentemente informados y conectados con todo lo que sucede en su área en el mund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Tj tienen que estar programas frecuentes capacitación (efectuados a nivel descentralizado); i.e., a nivel de empr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GL--- legislación laboral tiene que reorientar su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  legislación laboral es la protección a los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pre -GL, esto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tección fuentes trabajo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amov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o en mundo GL ¿qué debiera proteger la legislación laboral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enfrentan mundo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estabilidad presente e incertidumbre fut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van a rotar y van a cambiar muchas veces de emple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, legislación laboral debiera tener 2 componentes princ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Mecanismo ingreso para períodos cesantía y para cubrir requerimient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ilidad laboral geográfica (financiamiento asociado a costos de traslad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gráfico para ir a ocupar empleos en otras regiones)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Mecanismo que permita enfrentar cambios tecnológicos laborales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ama de capacitación y de reconversión labor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LGUNAS OBSERVACIONE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L está para quedar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prender a superar este fenómeno y vivir así.  Críticos GL tienen que tener respuestas concretas para 3 t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uál es alternativa no pertenecer mundo GL?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¿Hay ej. exitos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mostrar pq costos GL serían &gt; beneficios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plicar pq mayoría países prefiere incorporarse al mundo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un cuando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homogen. consumo, esto no </a:t>
            </a:r>
            <a:r>
              <a:rPr b="1" i="1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todos somos igual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eber Coca-Cola, no tiene pq transformarnos en norteameric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ay que crear institucionalidad GL y local para enfrentar  shocks externos.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Los shocks van a comenzar a ser un fenómeno recurrente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óximos 25 años serán parecidos al mundo actual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GL; pero también van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tados-N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o probablemente revela incapacidad para imaginar algo disti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Próxima discusión: vent./desvent. de distintos modelos de capitalismo: K-ismo norteam., K-ismo europeo y K-ismo asiático. ¿cuál es más relevante para la reg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viamente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lternativa:  generar un capitalismo a la latinoameric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que esta solución sea peor que los otros capitalismos conoc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G 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G Times"/>
              </a:rPr>
              <a:t>Elementos Impresion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laneta Tierra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“aldea global”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 Donald’s, Coca-Cola y Whis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MAC-MUNDO:  Jóvenes--- Cines ---Malls y supermer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tipo de valores estamos adquiriendo en este Mundo Homogéne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pasa con nuestra identidad?   ¿qué pasa con nuestros valor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      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Somos ahora sólo terrícolas?</a:t>
            </a:r>
            <a:r>
              <a:rPr b="1" lang="es-CL" sz="1600" spc="-1" strike="noStrike">
                <a:solidFill>
                  <a:srgbClr val="000000"/>
                </a:solidFill>
                <a:latin typeface="CG Times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O bien,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es Mac-Mundo un imperio fáctico norteameric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es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ositivo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-Mundo :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rechos Humanos y Dem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ceso 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istencia fenómenos globales cruzan front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ís pierde capacidad control lo que sucede dentro de sus front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integra económicamente países; desaparecen mercados locales-nac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randes productores escala mundial; mercado mundial integrado homogéne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síntesis, países pierden autonomía y grados de libertad.  Entonc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or qué los países se incorporan al mundo glob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 PD  y  Modernización tecnoló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corporación a GL plantea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l progres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 mejorar el standard de vida de la generación presente y  de las generaciones futu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luso China ha optado incorporarse al mundo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ina ha comprendido incorporación mundo GL implica costos y beneficios; pero,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eneficios superan cos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ducción de los costos de transporte y de comunic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s  transport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siderablemente costo flete marítimo (incluyendo costos portuarios). C(1990)= 40% 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aéreo transporte por pasajero-milla: 0,68¢ (US$) en 19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(1960)= 1/3C(1930)  y C(1990)= 1/73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comunicación telefónica Nueva York y Londres (3 minut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$ 245 en 1930.  Año 1990: US$ 3,3.  Año 2000: US$ 1,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es incluso inferior a 1/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revolución tecnológ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iglo XX asociada a TV e informática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fras ilustrativ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ocializ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asiva TV y computadore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precios 1000 (costo de un computador; índice USA):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125.000 en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tiva costos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s benefician revolución tecnoló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l insospechado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lmente (cifras 2004) Internet es utilizado por casi 500 mill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ersonas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 uso Internet es 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dio demoró 30 años en llegar a 60 millone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visión, 15 años (60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o Internet en gran escala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stos transaccion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asiáticos:  décadas 70 y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latinoamericanos:  décadas 80 y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del 90:  China, India, Países del ex-bloque so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/PIB mundial desde 7% (1950) a 15% (20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X/PIB década 90  son los más elevados en más de un si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ués 2ªGM  trade main g  motor de la economí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 importante composición X y rol PED: X- manuf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are X total mundial desde 61% (1970) a 75% (1994)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manuf asiáticas y latinoamerican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s anuales IE: quintuplicado en 35 años (1960-9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% relativo stock IE respecto PIB mundial total se ha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duplicado en 35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70 flujos totales IE PD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5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90 flujos totales I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00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 flujos financieros totales experimenta aceleración &gt; en década 90.  MK: integración mundial.  MK veloc. respuesta casi insta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eso tecnológico informática y telecomunicac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n y rápida movil. flujos financ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rias consec. política económica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.- GL  acelerado en década 1990.  ¿Pq?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splome del bloque socialis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pitalis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3:46:38Z</dcterms:created>
  <dc:creator>Paola Bordón</dc:creator>
  <dc:description/>
  <dc:language>en-US</dc:language>
  <cp:lastModifiedBy>PAOLA</cp:lastModifiedBy>
  <dcterms:modified xsi:type="dcterms:W3CDTF">2007-08-27T20:48:24Z</dcterms:modified>
  <cp:revision>69</cp:revision>
  <dc:subject/>
  <dc:title>Macro and Financial Flows in the Global Economy</dc:title>
</cp:coreProperties>
</file>