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AC6B-552F-4CFA-9762-19558612A5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CD21-C8BC-4192-9512-1D59EA385B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i.uchile.cl/index.ph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lounge.com/gallery/ipod_family_2005/pf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Comic Sans MS"/>
              </a:rPr>
              <a:t>INTRODUCCIÓN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2763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0" name="" descr="ipod video u2 2.Png"/>
          <p:cNvPicPr/>
          <p:nvPr/>
        </p:nvPicPr>
        <p:blipFill>
          <a:blip r:embed="rId1"/>
          <a:stretch/>
        </p:blipFill>
        <p:spPr>
          <a:xfrm>
            <a:off x="684360" y="174600"/>
            <a:ext cx="78483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556920"/>
            <a:ext cx="876312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17400"/>
            <a:ext cx="914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Valor y Proposición de valor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ecimos que un producto (o servicio) es un conjunto de cualidades que permiten satisfacer las necesidades y deseos de un cliente o conjunto de ellos y por los cuales existe una cierta voluntad a paga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oposición de Valor “Comercial” debe ser no sólo deseable por los posibles clientes, sino que aceptable para la sociedad (éticamente aceptada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 y repartirlo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06400" y="1125360"/>
            <a:ext cx="493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f011e"/>
                </a:solidFill>
                <a:latin typeface="Comic Sans MS"/>
              </a:rPr>
              <a:t>El rol de la competenci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282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 en la definición de la AMA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25360"/>
            <a:ext cx="871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 marketing Transaccional al Marketing rel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CLIENT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981080"/>
            <a:ext cx="7238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Clientes NO son todos Iguales. Hay unos que son más “rentables” que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 Cas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s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Nueva C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90720" y="762120"/>
            <a:ext cx="7162560" cy="4876560"/>
          </a:xfrm>
          <a:prstGeom prst="rect">
            <a:avLst/>
          </a:prstGeom>
          <a:solidFill>
            <a:srgbClr val="ffcc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343400"/>
            <a:ext cx="7162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99072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762120"/>
            <a:ext cx="3581280" cy="48765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657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7150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Diet C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 esencia de discriminación es tomar decisiones respecto a una persona basada en las características que esta persona comparte con un grupo de otras, respecto a las cuales existe un prejuic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You imply that my group affiliation is sufficiently informative for you to know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o I am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what I am like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. And this is incredibly insulting to my dignity as an individual. Just because your statistics indicate that young males are disproportionately violent, this doesn't mean that </a:t>
            </a:r>
            <a:r>
              <a:rPr b="0" i="1" lang="en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" sz="2400" spc="-1" strike="noStrike">
                <a:solidFill>
                  <a:srgbClr val="000000"/>
                </a:solidFill>
                <a:latin typeface="Comic Sans MS"/>
              </a:rPr>
              <a:t> am vio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Algunas Defin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f011e"/>
                </a:solidFill>
                <a:latin typeface="Comic Sans MS"/>
              </a:rPr>
              <a:t>CUSTOMIZACIÓN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2096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M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misas Van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90920" y="3650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P R O D U C T O R 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47920" y="1143000"/>
            <a:ext cx="7696080" cy="1114920"/>
            <a:chOff x="1447920" y="1143000"/>
            <a:chExt cx="7696080" cy="1114920"/>
          </a:xfrm>
        </p:grpSpPr>
        <p:sp>
          <p:nvSpPr>
            <p:cNvPr id="145" name=""/>
            <p:cNvSpPr/>
            <p:nvPr/>
          </p:nvSpPr>
          <p:spPr>
            <a:xfrm>
              <a:off x="1447920" y="114300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950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300.000  VEHICULOS POR PLANTA EFIC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8800" y="16765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2000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60.000  VEHICULOS POR PLANTA EFIC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447920" y="3276720"/>
            <a:ext cx="6858000" cy="1114560"/>
            <a:chOff x="1447920" y="3276720"/>
            <a:chExt cx="6858000" cy="1114560"/>
          </a:xfrm>
        </p:grpSpPr>
        <p:sp>
          <p:nvSpPr>
            <p:cNvPr id="148" name=""/>
            <p:cNvSpPr/>
            <p:nvPr/>
          </p:nvSpPr>
          <p:spPr>
            <a:xfrm>
              <a:off x="1752480" y="327672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2004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400 SKU  EN GONDOLA DE MA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38098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984</a:t>
              </a:r>
              <a:r>
                <a:rPr b="1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3200" spc="-1" strike="noStrike">
                  <a:solidFill>
                    <a:srgbClr val="000000"/>
                  </a:solidFill>
                  <a:latin typeface="ISOCPEUR"/>
                </a:rPr>
                <a:t>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40 SKU  EN GONDOLA DE MAS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895480" y="4952880"/>
            <a:ext cx="5867640" cy="1067040"/>
            <a:chOff x="2895480" y="4952880"/>
            <a:chExt cx="5867640" cy="1067040"/>
          </a:xfrm>
        </p:grpSpPr>
        <p:sp>
          <p:nvSpPr>
            <p:cNvPr id="151" name=""/>
            <p:cNvSpPr/>
            <p:nvPr/>
          </p:nvSpPr>
          <p:spPr>
            <a:xfrm>
              <a:off x="2895480" y="50292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MAYOR PRODUCTIV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77120" y="51055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OFERTA MAS DIFERENCI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>
              <a:off x="5486040" y="5486400"/>
              <a:ext cx="749880" cy="2160"/>
            </a:xfrm>
            <a:prstGeom prst="straightConnector1">
              <a:avLst/>
            </a:prstGeom>
            <a:ln w="50760">
              <a:solidFill>
                <a:srgbClr val="ff6600"/>
              </a:solidFill>
              <a:miter/>
              <a:tailEnd len="med" type="arrow" w="lg"/>
            </a:ln>
          </p:spPr>
        </p:cxnSp>
        <p:sp>
          <p:nvSpPr>
            <p:cNvPr id="154" name=""/>
            <p:cNvSpPr/>
            <p:nvPr/>
          </p:nvSpPr>
          <p:spPr>
            <a:xfrm>
              <a:off x="2971800" y="4952880"/>
              <a:ext cx="5562720" cy="1067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Canon Stakeholders"/>
          <p:cNvPicPr/>
          <p:nvPr/>
        </p:nvPicPr>
        <p:blipFill>
          <a:blip r:embed="rId1"/>
          <a:stretch/>
        </p:blipFill>
        <p:spPr>
          <a:xfrm>
            <a:off x="971640" y="88920"/>
            <a:ext cx="6913440" cy="67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.   Enfasis en todos los Stakeholders no sólo los “dueños”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Elementos Básicos para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981000"/>
            <a:ext cx="83534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onocer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a proposición de valor diferente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ener un proceso de producción (incluyendo diseño) que permita entregar valor a los clientes reteniendo una  parte del valor cre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28464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Caso: Los fabricantes chilenos de camisas de vestir.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1752480"/>
            <a:ext cx="761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El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desarrollo del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un Merc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pen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ndamentalmente del grado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lang="es-ES_tradnl" sz="32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Competencia exist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ese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448400" cy="4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EVOLUCIÓN DEL MARKETING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17720" y="1200240"/>
          <a:ext cx="7032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00240"/>
                    <a:ext cx="7032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80880" y="1143000"/>
            <a:ext cx="8382240" cy="4800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143000"/>
            <a:ext cx="8382240" cy="7621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110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3960" y="1108080"/>
            <a:ext cx="17917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7200" y="1143000"/>
            <a:ext cx="191052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560" y="1143000"/>
            <a:ext cx="18342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gunta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1143000"/>
            <a:ext cx="170640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3880" y="19461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l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568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0520" y="19461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56880" y="19461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Ven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1143000"/>
            <a:ext cx="0" cy="480060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19200" y="18702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pto.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6800" y="262584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4560" y="263196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6160" y="26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0920" y="25909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Esti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en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18120" y="26319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9720" y="358128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5640" y="35812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5616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360" y="3505320"/>
            <a:ext cx="20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e quiere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84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6120" y="35053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P,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3520" y="4460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&gt;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70520" y="446076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24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55440" y="4460760"/>
            <a:ext cx="19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ómo le c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93720" y="4460760"/>
            <a:ext cx="181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un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a la Or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ida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143000"/>
            <a:ext cx="0" cy="7621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905120"/>
            <a:ext cx="838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143000"/>
            <a:ext cx="8382240" cy="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00400" y="2514600"/>
            <a:ext cx="2819520" cy="224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676520"/>
            <a:ext cx="20574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14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Socio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914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914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838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057400" y="3504960"/>
            <a:ext cx="1065240" cy="150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TERMINANTES DE LA DEMANDA</a:t>
            </a:r>
            <a:r>
              <a:rPr b="1" lang="es-ES_tradnl" sz="4000" spc="-1" strike="noStrike">
                <a:solidFill>
                  <a:srgbClr val="af011e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2514600"/>
            <a:ext cx="28195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2514600"/>
            <a:ext cx="14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00400" y="4495680"/>
            <a:ext cx="2819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248160" y="1600200"/>
            <a:ext cx="16002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71840" y="3581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4495680"/>
            <a:ext cx="1447920" cy="1003320"/>
          </a:xfrm>
          <a:custGeom>
            <a:avLst/>
            <a:gdLst/>
            <a:ahLst/>
            <a:rect l="l" t="t" r="r" b="b"/>
            <a:pathLst>
              <a:path w="912" h="632">
                <a:moveTo>
                  <a:pt x="912" y="0"/>
                </a:moveTo>
                <a:cubicBezTo>
                  <a:pt x="868" y="212"/>
                  <a:pt x="824" y="424"/>
                  <a:pt x="672" y="528"/>
                </a:cubicBezTo>
                <a:cubicBezTo>
                  <a:pt x="520" y="632"/>
                  <a:pt x="112" y="608"/>
                  <a:pt x="0" y="6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4495680"/>
            <a:ext cx="1790640" cy="1067040"/>
          </a:xfrm>
          <a:custGeom>
            <a:avLst/>
            <a:gdLst/>
            <a:ahLst/>
            <a:rect l="l" t="t" r="r" b="b"/>
            <a:pathLst>
              <a:path w="1128" h="672">
                <a:moveTo>
                  <a:pt x="120" y="0"/>
                </a:moveTo>
                <a:cubicBezTo>
                  <a:pt x="60" y="208"/>
                  <a:pt x="0" y="416"/>
                  <a:pt x="168" y="528"/>
                </a:cubicBezTo>
                <a:cubicBezTo>
                  <a:pt x="336" y="640"/>
                  <a:pt x="976" y="648"/>
                  <a:pt x="1128" y="6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562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 E M A N D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67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57800" y="1752480"/>
            <a:ext cx="5335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562720" y="609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URGIMIENTO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16765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NO/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89548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GMENTACIO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4191120"/>
            <a:ext cx="2438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(POSICION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5486400"/>
            <a:ext cx="2438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4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800240" y="20574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00600" y="837720"/>
            <a:ext cx="1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838080"/>
            <a:ext cx="6858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23920" y="4648320"/>
            <a:ext cx="838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724280" y="3352320"/>
            <a:ext cx="1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352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. de la Estrategia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an d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83808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ineación con la Estrategia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3716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2438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6576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4952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PROCESO DE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antigu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arketing es el proceso de Planificación y Ejecución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Desarrollo de actividades de análisis,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lanificación, organización, ejecución y control</a:t>
            </a:r>
            <a:r>
              <a:rPr b="0" i="1" lang="es-ES_tradnl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 la concepción , fijación del precio, promoción 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istribución de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Los instrumentos de la estrategia comercial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ideas, bienes y servic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productos” sobre los que cae la acción d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arketing</a:t>
            </a:r>
            <a:r>
              <a:rPr b="0" i="1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a crear intercambios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Objeto del marketing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que satisfagan los objetivos de los individuos y de l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organiza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Beneficios de doble sentido;satisfacción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6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300" spc="-1" strike="noStrike">
                <a:solidFill>
                  <a:srgbClr val="ff0000"/>
                </a:solidFill>
                <a:latin typeface="Comic Sans MS"/>
              </a:rPr>
              <a:t>mutua</a:t>
            </a:r>
            <a:r>
              <a:rPr b="0" lang="es-ES_tradnl" sz="25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558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Marketing es el Centro de cualquier Negoc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ríamos decir que está a carg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02920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s preguntas son cada vez más importantes en cualquier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057400"/>
            <a:ext cx="7239240" cy="268452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qué produc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a qué preci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fun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distribu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60093"/>
                </a:solidFill>
                <a:latin typeface="Times New Roman"/>
              </a:rPr>
              <a:t>¿cómo ve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omic Sans MS"/>
              </a:rPr>
              <a:t>DEFINICIÓN nueva DE MARKETING (AMA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989000"/>
            <a:ext cx="8137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keting es una función de las organizaciones  y un conjunto de procesos,  para CREAR, COMUNICAR y ENTREGAR VALOR a los clientes y para administrar las relaciones con estos clientes en formas que se beneficie la organización y sus “stakehol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¿qué ha cambiado?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158760" y="1793880"/>
            <a:ext cx="89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4 P   </a:t>
            </a:r>
            <a:r>
              <a:rPr b="0" lang="es-CL" sz="2400" spc="-1" strike="noStrike">
                <a:solidFill>
                  <a:srgbClr val="af011e"/>
                </a:solidFill>
                <a:latin typeface="Times New Roman"/>
              </a:rPr>
              <a:t>se cambian por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789360"/>
            <a:ext cx="7343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qué es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, COMUNICAR y ENTREGA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es VAL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……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7280" y="1181160"/>
            <a:ext cx="6624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16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0464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af011e"/>
                </a:solidFill>
                <a:latin typeface="Comic Sans MS"/>
              </a:rPr>
              <a:t>Formas de Crear Valor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2738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2T21:58:54Z</dcterms:created>
  <dc:creator>maximo bosch</dc:creator>
  <dc:description/>
  <dc:language>en-US</dc:language>
  <cp:lastModifiedBy>academico</cp:lastModifiedBy>
  <dcterms:modified xsi:type="dcterms:W3CDTF">2007-08-30T01:58:17Z</dcterms:modified>
  <cp:revision>163</cp:revision>
  <dc:subject/>
  <dc:title>Sin título de diapositiva</dc:title>
</cp:coreProperties>
</file>