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620E-AA25-470F-A688-6B28E664C68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00AD-8ABC-4018-A953-05D40D91AA7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i.uchile.cl/index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ilounge.com/gallery/ipod_family_2005/pf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lounge.com/gallery/ipod_family_2005/pf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Comic Sans MS"/>
              </a:rPr>
              <a:t>INTRODUCCIÓN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fesor: Máximo Bosch 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32763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70" name="" descr="ipod video u2 2.Png"/>
          <p:cNvPicPr/>
          <p:nvPr/>
        </p:nvPicPr>
        <p:blipFill>
          <a:blip r:embed="rId1"/>
          <a:stretch/>
        </p:blipFill>
        <p:spPr>
          <a:xfrm>
            <a:off x="684360" y="174600"/>
            <a:ext cx="784836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556920"/>
            <a:ext cx="876312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617400"/>
            <a:ext cx="914400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f011e"/>
                </a:solidFill>
                <a:latin typeface="Comic Sans MS"/>
              </a:rPr>
              <a:t>Valor y Proposición de valor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ecimos que un producto (o servicio) es un conjunto de cualidades que permiten satisfacer las necesidades y deseos de un cliente o conjunto de ellos y por los cuales existe una cierta voluntad a paga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Proposición de Valor “Comercial” debe ser no sólo deseable por los posibles clientes, sino que aceptable para la sociedad (éticamente aceptada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Formas de Crear Valor…… y repartirl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06400" y="1125360"/>
            <a:ext cx="49309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f011e"/>
                </a:solidFill>
                <a:latin typeface="Comic Sans MS"/>
              </a:rPr>
              <a:t>El rol de la competencia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2828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¿qué ha cambiado en la definición de la AMA?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25360"/>
            <a:ext cx="871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l marketing Transaccional al Marketing rel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0"/>
          <a:ext cx="77724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72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6765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038480"/>
            <a:ext cx="457200" cy="3812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3809880"/>
            <a:ext cx="45720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3733920"/>
            <a:ext cx="45720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3657600"/>
            <a:ext cx="4572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3429000"/>
            <a:ext cx="45720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3886200"/>
            <a:ext cx="45720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3733920"/>
            <a:ext cx="457200" cy="228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3429000"/>
            <a:ext cx="45720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3124080"/>
            <a:ext cx="45720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2971800"/>
            <a:ext cx="4572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2666880"/>
            <a:ext cx="45720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3429000"/>
            <a:ext cx="4572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276720"/>
            <a:ext cx="4572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819520"/>
            <a:ext cx="4572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590920"/>
            <a:ext cx="45720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2286000"/>
            <a:ext cx="45720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2057400"/>
            <a:ext cx="4572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3276720"/>
            <a:ext cx="457200" cy="1522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1240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26668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24382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2133720"/>
            <a:ext cx="457200" cy="1522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1828800"/>
            <a:ext cx="457200" cy="22860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5029200"/>
            <a:ext cx="457200" cy="533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56272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ff"/>
                </a:solidFill>
                <a:latin typeface="Times New Roman"/>
              </a:rPr>
              <a:t>Costo de adquisición de los comp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1219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99"/>
                </a:solidFill>
                <a:latin typeface="Arial"/>
              </a:rPr>
              <a:t>Ganancias por precios prem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19051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9900"/>
                </a:solidFill>
                <a:latin typeface="Arial"/>
              </a:rPr>
              <a:t>Ganancias por refer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25909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Ganancias por  reducción de costos opera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355284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ccff"/>
                </a:solidFill>
                <a:latin typeface="Arial"/>
              </a:rPr>
              <a:t>Ganancias por aumento de compras y altos bal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45720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Ganancias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6461280"/>
            <a:ext cx="822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f011e"/>
                </a:solidFill>
                <a:latin typeface="Comic Sans MS"/>
              </a:rPr>
              <a:t> </a:t>
            </a:r>
            <a:r>
              <a:rPr b="1" lang="es-ES_tradnl" sz="3200" spc="-1" strike="noStrike">
                <a:solidFill>
                  <a:srgbClr val="af011e"/>
                </a:solidFill>
                <a:latin typeface="Comic Sans MS"/>
              </a:rPr>
              <a:t>CLIENT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981080"/>
            <a:ext cx="72388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Clientes NO son todos Iguales. Hay unos que son más “rentables” que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sos: Cas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s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Nueva C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0720" y="762120"/>
            <a:ext cx="7162560" cy="4876560"/>
          </a:xfrm>
          <a:prstGeom prst="rect">
            <a:avLst/>
          </a:pr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343400"/>
            <a:ext cx="716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990720" y="762120"/>
            <a:ext cx="3581280" cy="48765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762120"/>
            <a:ext cx="3581280" cy="48765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3657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4876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715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so Diet C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1371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esencia de discriminación es tomar decisiones respecto a una persona basada en las características que esta persona comparte con un grupo de otras, respecto a las cuales existe un prejuic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Comic Sans MS"/>
              </a:rPr>
              <a:t>You imply that my group affiliation is sufficiently informative for you to know </a:t>
            </a:r>
            <a:r>
              <a:rPr b="0" i="1" lang="en" sz="2400" spc="-1" strike="noStrike">
                <a:solidFill>
                  <a:srgbClr val="000000"/>
                </a:solidFill>
                <a:latin typeface="Comic Sans MS"/>
              </a:rPr>
              <a:t>who I am</a:t>
            </a:r>
            <a:r>
              <a:rPr b="0" lang="en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" sz="2400" spc="-1" strike="noStrike">
                <a:solidFill>
                  <a:srgbClr val="000000"/>
                </a:solidFill>
                <a:latin typeface="Comic Sans MS"/>
              </a:rPr>
              <a:t>what I am like</a:t>
            </a:r>
            <a:r>
              <a:rPr b="0" lang="en" sz="2400" spc="-1" strike="noStrike">
                <a:solidFill>
                  <a:srgbClr val="000000"/>
                </a:solidFill>
                <a:latin typeface="Comic Sans MS"/>
              </a:rPr>
              <a:t>. And this is incredibly insulting to my dignity as an individual. Just because your statistics indicate that young males are disproportionately violent, this doesn't mean that </a:t>
            </a:r>
            <a:r>
              <a:rPr b="0" i="1" lang="en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" sz="2400" spc="-1" strike="noStrike">
                <a:solidFill>
                  <a:srgbClr val="000000"/>
                </a:solidFill>
                <a:latin typeface="Comic Sans MS"/>
              </a:rPr>
              <a:t> am viol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Algunas Defini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f011e"/>
                </a:solidFill>
                <a:latin typeface="Comic Sans MS"/>
              </a:rPr>
              <a:t>CUSTOMIZACIÓN</a:t>
            </a:r>
            <a:endParaRPr b="1" lang="en-US" sz="28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2096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B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misas Van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90920" y="36504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 R O D U C T O R E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447920" y="1143000"/>
            <a:ext cx="7696080" cy="1114920"/>
            <a:chOff x="1447920" y="1143000"/>
            <a:chExt cx="7696080" cy="1114920"/>
          </a:xfrm>
        </p:grpSpPr>
        <p:sp>
          <p:nvSpPr>
            <p:cNvPr id="145" name=""/>
            <p:cNvSpPr/>
            <p:nvPr/>
          </p:nvSpPr>
          <p:spPr>
            <a:xfrm>
              <a:off x="1447920" y="114300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1950</a:t>
              </a:r>
              <a:r>
                <a:rPr b="1" lang="es-MX" sz="3200" spc="-1" strike="noStrike">
                  <a:solidFill>
                    <a:srgbClr val="000000"/>
                  </a:solidFill>
                  <a:latin typeface="ISOCPEUR"/>
                </a:rPr>
                <a:t>  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300.000  VEHICULOS POR PLANTA EFIC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28800" y="167652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2000</a:t>
              </a: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3200" spc="-1" strike="noStrike">
                  <a:solidFill>
                    <a:srgbClr val="000000"/>
                  </a:solidFill>
                  <a:latin typeface="ISOCPEUR"/>
                </a:rPr>
                <a:t> 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60.000  VEHICULOS POR PLANTA EFIC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447920" y="3276720"/>
            <a:ext cx="6858000" cy="1114560"/>
            <a:chOff x="1447920" y="3276720"/>
            <a:chExt cx="6858000" cy="1114560"/>
          </a:xfrm>
        </p:grpSpPr>
        <p:sp>
          <p:nvSpPr>
            <p:cNvPr id="148" name=""/>
            <p:cNvSpPr/>
            <p:nvPr/>
          </p:nvSpPr>
          <p:spPr>
            <a:xfrm>
              <a:off x="1752480" y="3276720"/>
              <a:ext cx="655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2004</a:t>
              </a: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3200" spc="-1" strike="noStrike">
                  <a:solidFill>
                    <a:srgbClr val="000000"/>
                  </a:solidFill>
                  <a:latin typeface="ISOCPEUR"/>
                </a:rPr>
                <a:t> 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400 SKU  EN GONDOLA DE MAS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47920" y="3809880"/>
              <a:ext cx="65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1984</a:t>
              </a: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3200" spc="-1" strike="noStrike">
                  <a:solidFill>
                    <a:srgbClr val="000000"/>
                  </a:solidFill>
                  <a:latin typeface="ISOCPEUR"/>
                </a:rPr>
                <a:t>  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40 SKU  EN GONDOLA DE MAS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895480" y="4952880"/>
            <a:ext cx="5867640" cy="1067040"/>
            <a:chOff x="2895480" y="4952880"/>
            <a:chExt cx="5867640" cy="1067040"/>
          </a:xfrm>
        </p:grpSpPr>
        <p:sp>
          <p:nvSpPr>
            <p:cNvPr id="151" name=""/>
            <p:cNvSpPr/>
            <p:nvPr/>
          </p:nvSpPr>
          <p:spPr>
            <a:xfrm>
              <a:off x="2895480" y="50292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MAYOR PRODUCTIV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77120" y="51055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OFERTA MAS DIFERENCI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/>
            <p:nvPr/>
          </p:nvCxnSpPr>
          <p:spPr>
            <a:xfrm>
              <a:off x="5486040" y="5486400"/>
              <a:ext cx="749880" cy="2160"/>
            </a:xfrm>
            <a:prstGeom prst="straightConnector1">
              <a:avLst/>
            </a:prstGeom>
            <a:ln w="50760">
              <a:solidFill>
                <a:srgbClr val="ff6600"/>
              </a:solidFill>
              <a:miter/>
              <a:tailEnd len="med" type="arrow" w="lg"/>
            </a:ln>
          </p:spPr>
        </p:cxnSp>
        <p:sp>
          <p:nvSpPr>
            <p:cNvPr id="154" name=""/>
            <p:cNvSpPr/>
            <p:nvPr/>
          </p:nvSpPr>
          <p:spPr>
            <a:xfrm>
              <a:off x="2971800" y="4952880"/>
              <a:ext cx="5562720" cy="1067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Canon Stakeholders"/>
          <p:cNvPicPr/>
          <p:nvPr/>
        </p:nvPicPr>
        <p:blipFill>
          <a:blip r:embed="rId1"/>
          <a:stretch/>
        </p:blipFill>
        <p:spPr>
          <a:xfrm>
            <a:off x="971640" y="88920"/>
            <a:ext cx="6913440" cy="6769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.   Enfasis en todos los Stakeholders no sólo los “dueños”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Elementos Básicos para Crear Valo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981000"/>
            <a:ext cx="83534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nocer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ener una proposición de valor diferente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ener un proceso de producción (incluyendo diseño) que permita entregar valor a los clientes reteniendo una  parte del valor cread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28464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Caso: Los fabricantes chilenos de camisas de vestir.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2120" y="1752480"/>
            <a:ext cx="76197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El</a:t>
            </a:r>
            <a:r>
              <a:rPr b="0" lang="es-ES_tradnl" sz="32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ivel de desarrollo del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Marketing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n un Mercado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depende</a:t>
            </a:r>
            <a:r>
              <a:rPr b="0" lang="es-ES_tradnl" sz="32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fundamentalmente del grado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0" lang="es-ES_tradnl" sz="32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Competencia existen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n ese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448400" cy="42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EVOLUCIÓN DEL MARKETING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17720" y="1200240"/>
          <a:ext cx="70326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7720" y="1200240"/>
                    <a:ext cx="7032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80880" y="1143000"/>
            <a:ext cx="8382240" cy="4800600"/>
          </a:xfrm>
          <a:prstGeom prst="rect">
            <a:avLst/>
          </a:prstGeom>
          <a:solidFill>
            <a:srgbClr val="ffcccc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143000"/>
            <a:ext cx="838224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040" y="110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3960" y="1108080"/>
            <a:ext cx="179172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vel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7200" y="1143000"/>
            <a:ext cx="191052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i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560" y="1143000"/>
            <a:ext cx="183420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guntas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10280" y="1143000"/>
            <a:ext cx="170640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ón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1143000"/>
            <a:ext cx="0" cy="4800600"/>
          </a:xfrm>
          <a:prstGeom prst="line">
            <a:avLst/>
          </a:prstGeom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3880" y="19461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&l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1143000"/>
            <a:ext cx="0" cy="4800600"/>
          </a:xfrm>
          <a:prstGeom prst="line">
            <a:avLst/>
          </a:prstGeom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70520" y="194616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56880" y="194616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Cómo Ven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34320" y="1143000"/>
            <a:ext cx="0" cy="4800600"/>
          </a:xfrm>
          <a:prstGeom prst="line">
            <a:avLst/>
          </a:prstGeom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19200" y="187020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pto.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6800" y="2625840"/>
            <a:ext cx="10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4560" y="263196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56160" y="263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0920" y="25909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Cómo Estim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en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18120" y="263196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9720" y="35812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5640" y="35812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561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360" y="3505320"/>
            <a:ext cx="20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e quiere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84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6120" y="350532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P,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3520" y="44607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&gt;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70520" y="446076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324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55440" y="4460760"/>
            <a:ext cx="196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Cómo le c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93720" y="4460760"/>
            <a:ext cx="181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un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da la Or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alida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63120" y="1143000"/>
            <a:ext cx="0" cy="76212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143000"/>
            <a:ext cx="0" cy="76212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905120"/>
            <a:ext cx="838224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200400" y="2514600"/>
            <a:ext cx="2819520" cy="224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676520"/>
            <a:ext cx="20574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14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Socio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66880" y="9144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4120" y="9144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838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581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057400" y="3504960"/>
            <a:ext cx="1065240" cy="150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ETERMINANTES DE LA DEMANDA</a:t>
            </a: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2514600"/>
            <a:ext cx="2819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2514600"/>
            <a:ext cx="144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2514600"/>
            <a:ext cx="144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200400" y="4495680"/>
            <a:ext cx="28195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8168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248160" y="1600200"/>
            <a:ext cx="160020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171840" y="35812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4495680"/>
            <a:ext cx="1447920" cy="1003320"/>
          </a:xfrm>
          <a:custGeom>
            <a:avLst/>
            <a:gdLst/>
            <a:ahLst/>
            <a:rect l="l" t="t" r="r" b="b"/>
            <a:pathLst>
              <a:path w="912" h="632">
                <a:moveTo>
                  <a:pt x="912" y="0"/>
                </a:moveTo>
                <a:cubicBezTo>
                  <a:pt x="868" y="212"/>
                  <a:pt x="824" y="424"/>
                  <a:pt x="672" y="528"/>
                </a:cubicBezTo>
                <a:cubicBezTo>
                  <a:pt x="520" y="632"/>
                  <a:pt x="112" y="608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4495680"/>
            <a:ext cx="1790640" cy="1067040"/>
          </a:xfrm>
          <a:custGeom>
            <a:avLst/>
            <a:gdLst/>
            <a:ahLst/>
            <a:rect l="l" t="t" r="r" b="b"/>
            <a:pathLst>
              <a:path w="1128" h="672">
                <a:moveTo>
                  <a:pt x="120" y="0"/>
                </a:moveTo>
                <a:cubicBezTo>
                  <a:pt x="60" y="208"/>
                  <a:pt x="0" y="416"/>
                  <a:pt x="168" y="528"/>
                </a:cubicBezTo>
                <a:cubicBezTo>
                  <a:pt x="336" y="640"/>
                  <a:pt x="976" y="648"/>
                  <a:pt x="1128" y="6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5562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00400" y="5562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 E M A N 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167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257800" y="1752480"/>
            <a:ext cx="5335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562720" y="609480"/>
            <a:ext cx="2438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URGIMIENTO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1676520"/>
            <a:ext cx="2438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TERNO/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2895480"/>
            <a:ext cx="2438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GMENTACION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4191120"/>
            <a:ext cx="2438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(POSICIONA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5486400"/>
            <a:ext cx="2438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S 4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800240" y="20574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800600" y="837720"/>
            <a:ext cx="1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838080"/>
            <a:ext cx="6858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723920" y="4648320"/>
            <a:ext cx="838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724280" y="3352320"/>
            <a:ext cx="180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3352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32767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. de la Estrategia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52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n d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838080"/>
            <a:ext cx="175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ineación con la Estrategia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13716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24382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365760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49528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152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PROCESO DE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EFINICIÓN antigua DE MARKETING (AMA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rketing es el proceso de Planificación y Ejecución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Desarrollo de actividades de análisis,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planificación, organización, ejecución y control</a:t>
            </a:r>
            <a:r>
              <a:rPr b="0" i="1" lang="es-ES_tradnl" sz="28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e la concepción , fijación del precio, promoción 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istribución de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Los instrumentos de la estrategia comercial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ideas, bienes y servicios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productos” sobre los que cae la acción de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Marketing</a:t>
            </a:r>
            <a:r>
              <a:rPr b="0" i="1" lang="es-ES_tradnl" sz="25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para crear intercambios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Objeto del marketing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que satisfagan los objetivos de los individuos y de la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organizacione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Beneficios de doble sentido;satisfacción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mutua</a:t>
            </a:r>
            <a:r>
              <a:rPr b="0" lang="es-ES_tradnl" sz="25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5587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Marketing es el Centro de cualquier Negoc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ríamos decir que está a carg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5029200"/>
            <a:ext cx="7391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s preguntas son cada vez más importantes en cualquier 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057400"/>
            <a:ext cx="7239240" cy="268452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qué produc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a qué precio ven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cómo difund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cómo distribu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cómo ven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EFINICIÓN nueva DE MARKETING (AMA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989000"/>
            <a:ext cx="8137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keting es una función de las organizaciones  y un conjunto de procesos,  para CREAR, COMUNICAR y ENTREGAR VALOR a los clientes y para administrar las relaciones con estos clientes en formas que se beneficie la organización y sus “stakehold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¿qué ha cambiado?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158760" y="1793880"/>
            <a:ext cx="89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4 P   </a:t>
            </a:r>
            <a:r>
              <a:rPr b="0" lang="es-CL" sz="2400" spc="-1" strike="noStrike">
                <a:solidFill>
                  <a:srgbClr val="af011e"/>
                </a:solidFill>
                <a:latin typeface="Times New Roman"/>
              </a:rPr>
              <a:t>se cambian por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CREAR, COMUNICAR y ENTREGA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789360"/>
            <a:ext cx="7343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o qué es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, COMUNICAR y ENTREGA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es VAL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Formas de Crear Valor……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87280" y="1181160"/>
            <a:ext cx="662472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0160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0464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Formas de Crear Valo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2738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21:58:54Z</dcterms:created>
  <dc:creator>maximo bosch</dc:creator>
  <dc:description/>
  <dc:language>en-US</dc:language>
  <cp:lastModifiedBy>academico</cp:lastModifiedBy>
  <dcterms:modified xsi:type="dcterms:W3CDTF">2007-08-30T01:58:17Z</dcterms:modified>
  <cp:revision>163</cp:revision>
  <dc:subject/>
  <dc:title>Sin título de diapositiva</dc:title>
</cp:coreProperties>
</file>