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BDE5F6-AC0E-42EF-B0C8-0A6933647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C4B077-87E9-4231-A175-6DE9390F3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EE66E9-8609-4B6A-894B-A74BC3FAA5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30864E-A5AB-4F02-A35C-4D78E8EBF6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A71EC-54FB-4C68-8F93-F0FBC1B691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98473-B955-4E90-8ACF-1DED4EF1D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4D414-A777-4A05-8A02-84E3EBB24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9CA19-EC2C-4A80-B829-440C652D0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853AC-81AB-46CC-9636-3ECB67CEB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C2679-C25B-4A09-AD6F-6A6803D8D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8BD50-5889-4C01-8E50-E3083CAF1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3C6D55-8EF1-4A47-9130-E542E7A98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91470-CEF1-4296-8A42-D846A289A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ED2D0-B4E5-4561-8B31-B7E829E04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8B11D-A9E6-464A-88F8-4D0B7D7DD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00597-6917-44CE-B1A8-786EC97CC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69E34-EF0A-4E48-9132-D1CF209BC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5418CD-CA42-4EAA-ABE3-46063E72D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48DBDC-AC5C-430A-9AFB-157AD7130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03384E-B470-4191-ABB2-E203D5E77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45CC4B-3929-4848-BA72-59B00EBDC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1F8D26-B94C-4BCA-B0B0-FC5CAECCD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12C709-9828-4B4C-ABC3-50C171667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FA9AB3-8ED9-42BD-898A-3DB32A9CF6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5801-4070-4AA4-907A-E0DC6B8BE1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EB79-FFF3-491A-AF38-9F9C8F8013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ICING</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33cc"/>
                </a:solidFill>
                <a:latin typeface="Arial"/>
              </a:rPr>
              <a:t>Formas de Discriminación de Precios</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TROS EJEMPLOS TRADICIONALES</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os tapa dura/ tapa blanda</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ículas/Videos</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y el 486SX</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aestros son las lineas aé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MENSIONES</a:t>
            </a:r>
            <a:endParaRPr b="0" lang="en-US" sz="3600" spc="-1" strike="noStrike">
              <a:solidFill>
                <a:srgbClr val="000000"/>
              </a:solidFill>
              <a:latin typeface="Arial"/>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aso (Fed Ex)</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Usuaria (Adobe Phoptoshop,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werpoint)</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locidad de Operación (Mathematica)</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ción de Imagen  (Photodisk)</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LECCIONES PARA EL DISEÑO</a:t>
            </a:r>
            <a:endParaRPr b="0" lang="en-US" sz="36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ence por diseñar la solución de “alto nivel”.</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asegúrese que después podrá eliminar algunas de sus características.</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ces la solución de mala calidad puede resultar más costosa que la de “alto ni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BSERVACIÓN</a:t>
            </a:r>
            <a:endParaRPr b="0" lang="en-US" sz="3600" spc="-1" strike="noStrike">
              <a:solidFill>
                <a:srgbClr val="000000"/>
              </a:solidFill>
              <a:latin typeface="Arial"/>
            </a:endParaRPr>
          </a:p>
        </p:txBody>
      </p:sp>
      <p:sp>
        <p:nvSpPr>
          <p:cNvPr id="151"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87000"/>
          </a:bodyPr>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ría un grupo de consumidores que no tendría acceso al produ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es muy poca</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z probablemente muchas</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ce el mercado, divida en segmentos, y encuentre coportamientos distintos (elasticidades , urgencias, gustos, neces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o sabe cuantas versiones, haga 3 </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onsumidores tenemos aversión a los extremos.</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aso de los Micro on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OR SEGMENTOS</a:t>
            </a:r>
            <a:endParaRPr b="0" lang="en-US" sz="3600" spc="-1" strike="noStrike">
              <a:solidFill>
                <a:srgbClr val="000000"/>
              </a:solidFill>
              <a:latin typeface="Arial"/>
            </a:endParaRPr>
          </a:p>
        </p:txBody>
      </p:sp>
      <p:sp>
        <p:nvSpPr>
          <p:cNvPr id="157"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e son las diferentes sensibilidades al precio.</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ta de cobrar por el mismo (exactamente) producto distintos precios, de acuerdo a las sensibilidades (elastici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59"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1200" y="457200"/>
            <a:ext cx="8085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TIPOS DE P. NO LINEALES</a:t>
            </a:r>
            <a:endParaRPr b="0" lang="en-US" sz="3600" spc="-1" strike="noStrike">
              <a:solidFill>
                <a:srgbClr val="000000"/>
              </a:solidFill>
              <a:latin typeface="Arial"/>
            </a:endParaRPr>
          </a:p>
        </p:txBody>
      </p:sp>
      <p:sp>
        <p:nvSpPr>
          <p:cNvPr id="163"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7240" y="663480"/>
            <a:ext cx="8762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NERAS DE DIFERENCIAR EL PRECIO</a:t>
            </a:r>
            <a:endParaRPr b="0" lang="en-US" sz="3600" spc="-1" strike="noStrike">
              <a:solidFill>
                <a:srgbClr val="000000"/>
              </a:solidFill>
              <a:latin typeface="Arial"/>
            </a:endParaRPr>
          </a:p>
        </p:txBody>
      </p:sp>
      <p:sp>
        <p:nvSpPr>
          <p:cNvPr id="109" name="PlaceHolder 2"/>
          <p:cNvSpPr>
            <a:spLocks noGrp="1"/>
          </p:cNvSpPr>
          <p:nvPr>
            <p:ph/>
          </p:nvPr>
        </p:nvSpPr>
        <p:spPr>
          <a:xfrm>
            <a:off x="990720" y="1619280"/>
            <a:ext cx="7162560" cy="4114800"/>
          </a:xfrm>
          <a:prstGeom prst="rect">
            <a:avLst/>
          </a:prstGeom>
          <a:noFill/>
          <a:ln w="0">
            <a:noFill/>
          </a:ln>
        </p:spPr>
        <p:txBody>
          <a:bodyPr lIns="90000" rIns="90000" tIns="46800" bIns="46800" anchor="t">
            <a:normAutofit fontScale="90000"/>
          </a:bodyPr>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ersonalizad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da usuario le cobramos un precio distinto. </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ersionalización del Product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ueden ofrecer variantes del producto a distintos precios y cada usuario elige.</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or Segmentos</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obramos distinto a distintos grupos </a:t>
            </a:r>
            <a:endParaRPr b="0" lang="en-US" sz="22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No Lineale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de Líneas de Producto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ndling</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ield management</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p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65"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364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67" name=""/>
          <p:cNvGraphicFramePr/>
          <p:nvPr/>
        </p:nvGraphicFramePr>
        <p:xfrm>
          <a:off x="900000" y="2417760"/>
          <a:ext cx="7115400" cy="2595600"/>
        </p:xfrm>
        <a:graphic>
          <a:graphicData uri="http://schemas.openxmlformats.org/presentationml/2006/ole">
            <p:oleObj progId="Excel.Sheet.12" r:id="rId1" spid="">
              <p:embed/>
              <p:pic>
                <p:nvPicPr>
                  <p:cNvPr id="168" name="" descr=""/>
                  <p:cNvPicPr/>
                  <p:nvPr/>
                </p:nvPicPr>
                <p:blipFill>
                  <a:blip r:embed="rId2"/>
                  <a:stretch/>
                </p:blipFill>
                <p:spPr>
                  <a:xfrm>
                    <a:off x="900000" y="2417760"/>
                    <a:ext cx="7115400" cy="25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08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70" name=""/>
          <p:cNvGraphicFramePr/>
          <p:nvPr/>
        </p:nvGraphicFramePr>
        <p:xfrm>
          <a:off x="380880" y="2286000"/>
          <a:ext cx="8382240" cy="1882800"/>
        </p:xfrm>
        <a:graphic>
          <a:graphicData uri="http://schemas.openxmlformats.org/presentationml/2006/ole">
            <p:oleObj progId="Excel.Sheet.12" r:id="rId1" spid="">
              <p:embed/>
              <p:pic>
                <p:nvPicPr>
                  <p:cNvPr id="171"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72"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Comparación con políticas de precios lineales</a:t>
            </a:r>
            <a:endParaRPr b="0" lang="en-US" sz="3600" spc="-1" strike="noStrike">
              <a:solidFill>
                <a:srgbClr val="000000"/>
              </a:solidFill>
              <a:latin typeface="Times New Roman"/>
            </a:endParaRPr>
          </a:p>
        </p:txBody>
      </p:sp>
      <p:sp>
        <p:nvSpPr>
          <p:cNvPr id="174"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76"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77"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179"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183"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185" name="PlaceHolder 1"/>
          <p:cNvSpPr>
            <a:spLocks noGrp="1"/>
          </p:cNvSpPr>
          <p:nvPr>
            <p:ph type="title"/>
          </p:nvPr>
        </p:nvSpPr>
        <p:spPr>
          <a:xfrm>
            <a:off x="590400" y="549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cc"/>
                </a:solidFill>
                <a:latin typeface="Arial"/>
              </a:rPr>
              <a:t>PRECIO DE PAQUETES (BUNDLING)</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0" y="1589040"/>
          <a:ext cx="9144000" cy="3679920"/>
        </p:xfrm>
        <a:graphic>
          <a:graphicData uri="http://schemas.openxmlformats.org/presentationml/2006/ole">
            <p:oleObj progId="Excel.Sheet.12" r:id="rId1" spid="">
              <p:embed/>
              <p:pic>
                <p:nvPicPr>
                  <p:cNvPr id="190"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324000" y="620640"/>
            <a:ext cx="8591400" cy="5924520"/>
            <a:chOff x="324000" y="620640"/>
            <a:chExt cx="8591400" cy="5924520"/>
          </a:xfrm>
        </p:grpSpPr>
        <p:graphicFrame>
          <p:nvGraphicFramePr>
            <p:cNvPr id="192" name=""/>
            <p:cNvGraphicFramePr/>
            <p:nvPr/>
          </p:nvGraphicFramePr>
          <p:xfrm>
            <a:off x="324000" y="620640"/>
            <a:ext cx="8496000" cy="5924520"/>
          </p:xfrm>
          <a:graphic>
            <a:graphicData uri="http://schemas.openxmlformats.org/presentationml/2006/ole">
              <p:oleObj progId="Excel.Sheet.12" r:id="rId1" spid="">
                <p:embed/>
                <p:pic>
                  <p:nvPicPr>
                    <p:cNvPr id="193" name="" descr=""/>
                    <p:cNvPicPr/>
                    <p:nvPr/>
                  </p:nvPicPr>
                  <p:blipFill>
                    <a:blip r:embed="rId2"/>
                    <a:stretch/>
                  </p:blipFill>
                  <p:spPr>
                    <a:xfrm>
                      <a:off x="324000" y="620640"/>
                      <a:ext cx="8496000" cy="5924520"/>
                    </a:xfrm>
                    <a:prstGeom prst="rect">
                      <a:avLst/>
                    </a:prstGeom>
                    <a:ln w="0">
                      <a:noFill/>
                    </a:ln>
                  </p:spPr>
                </p:pic>
              </p:oleObj>
            </a:graphicData>
          </a:graphic>
        </p:graphicFrame>
        <p:sp>
          <p:nvSpPr>
            <p:cNvPr id="194" name=""/>
            <p:cNvSpPr/>
            <p:nvPr/>
          </p:nvSpPr>
          <p:spPr>
            <a:xfrm flipV="1">
              <a:off x="6953400" y="169488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076480" y="222876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3600" y="16383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197" name=""/>
            <p:cNvSpPr/>
            <p:nvPr/>
          </p:nvSpPr>
          <p:spPr>
            <a:xfrm>
              <a:off x="7391520" y="2171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ERSONALIZADOS</a:t>
            </a:r>
            <a:endParaRPr b="0" lang="en-US" sz="3600" spc="-1" strike="noStrike">
              <a:solidFill>
                <a:srgbClr val="000000"/>
              </a:solidFill>
              <a:latin typeface="Arial"/>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ios personales (gásfiter,abogados,..)</a:t>
            </a:r>
            <a:endParaRPr b="0" lang="en-US" sz="3200" spc="-1" strike="noStrike">
              <a:solidFill>
                <a:srgbClr val="000000"/>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ácil en la Internet (caso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324000" y="228600"/>
          <a:ext cx="8496000" cy="5924520"/>
        </p:xfrm>
        <a:graphic>
          <a:graphicData uri="http://schemas.openxmlformats.org/presentationml/2006/ole">
            <p:oleObj progId="Excel.Sheet.12" r:id="rId1" spid="">
              <p:embed/>
              <p:pic>
                <p:nvPicPr>
                  <p:cNvPr id="200"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1" name=""/>
          <p:cNvSpPr/>
          <p:nvPr/>
        </p:nvSpPr>
        <p:spPr>
          <a:xfrm flipH="1" flipV="1">
            <a:off x="2076480" y="1047600"/>
            <a:ext cx="6400800" cy="3810240"/>
          </a:xfrm>
          <a:prstGeom prst="line">
            <a:avLst/>
          </a:prstGeom>
          <a:ln w="381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324000" y="228600"/>
          <a:ext cx="8496000" cy="5924520"/>
        </p:xfrm>
        <a:graphic>
          <a:graphicData uri="http://schemas.openxmlformats.org/presentationml/2006/ole">
            <p:oleObj progId="Excel.Sheet.12" r:id="rId1" spid="">
              <p:embed/>
              <p:pic>
                <p:nvPicPr>
                  <p:cNvPr id="205"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6"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210"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211"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213"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0" y="2276640"/>
          <a:ext cx="9144000" cy="2219040"/>
        </p:xfrm>
        <a:graphic>
          <a:graphicData uri="http://schemas.openxmlformats.org/presentationml/2006/ole">
            <p:oleObj progId="Excel.Sheet.12" r:id="rId1" spid="">
              <p:embed/>
              <p:pic>
                <p:nvPicPr>
                  <p:cNvPr id="215"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218"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1"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3"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VERSIONAMIENTO</a:t>
            </a:r>
            <a:endParaRPr b="0" lang="en-US" sz="3600" spc="-1" strike="noStrike">
              <a:solidFill>
                <a:srgbClr val="000000"/>
              </a:solidFill>
              <a:latin typeface="Arial"/>
            </a:endParaRPr>
          </a:p>
        </p:txBody>
      </p:sp>
      <p:sp>
        <p:nvSpPr>
          <p:cNvPr id="11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demos hacer que nuestro producto no sea el mismo para tod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permite que existan diferentes preci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a consumidor elegirá la “versión” que le convenga.</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bajamos con una LINEA de PRODUCTOS. Los precios deben ponerse con el objetivo de maximizar el ingreso de la Lin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5"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obrevender</a:t>
            </a:r>
            <a:endParaRPr b="0" lang="en-US" sz="36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er intencionalmente más asientos que la capacidad del av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laciones y no- aparicion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sto, el 15% de los asientos estarían desocup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oceso Sobrereserva</a:t>
            </a:r>
            <a:endParaRPr b="0" lang="en-US" sz="3600" spc="-1" strike="noStrike">
              <a:solidFill>
                <a:srgbClr val="000000"/>
              </a:solidFill>
              <a:latin typeface="Arial"/>
            </a:endParaRPr>
          </a:p>
        </p:txBody>
      </p:sp>
      <p:sp>
        <p:nvSpPr>
          <p:cNvPr id="229"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232"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234"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236"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9999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6666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39"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240"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241"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242"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scriminación de Precios</a:t>
            </a:r>
            <a:endParaRPr b="0" lang="en-US" sz="3600" spc="-1" strike="noStrike">
              <a:solidFill>
                <a:srgbClr val="000000"/>
              </a:solidFill>
              <a:latin typeface="Arial"/>
            </a:endParaRPr>
          </a:p>
        </p:txBody>
      </p:sp>
      <p:sp>
        <p:nvSpPr>
          <p:cNvPr id="249"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20880" y="1911240"/>
            <a:ext cx="1358640" cy="394992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20880" y="1911240"/>
            <a:ext cx="755640" cy="4413240"/>
          </a:xfrm>
          <a:prstGeom prst="line">
            <a:avLst/>
          </a:prstGeom>
          <a:ln w="12600">
            <a:solidFill>
              <a:srgbClr val="6666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20880" y="3511440"/>
            <a:ext cx="6083280" cy="1663920"/>
          </a:xfrm>
          <a:prstGeom prst="line">
            <a:avLst/>
          </a:prstGeom>
          <a:ln w="3816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20880" y="3511440"/>
            <a:ext cx="2806560" cy="1663920"/>
          </a:xfrm>
          <a:prstGeom prst="line">
            <a:avLst/>
          </a:prstGeom>
          <a:ln w="12600">
            <a:solidFill>
              <a:srgbClr val="9999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256"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362320" y="3879720"/>
            <a:ext cx="0" cy="191160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907560" y="3886200"/>
            <a:ext cx="1460520" cy="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1371600" y="3193560"/>
            <a:ext cx="0" cy="259740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907920" y="3200400"/>
            <a:ext cx="470160" cy="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262"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Precio Turista</a:t>
            </a:r>
            <a:endParaRPr b="0" lang="en-US" sz="2400" spc="-1" strike="noStrike">
              <a:solidFill>
                <a:srgbClr val="000000"/>
              </a:solidFill>
              <a:latin typeface="Times New Roman"/>
            </a:endParaRPr>
          </a:p>
        </p:txBody>
      </p:sp>
      <p:sp>
        <p:nvSpPr>
          <p:cNvPr id="263"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264"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265"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266"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267"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68"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Demanda Turista</a:t>
            </a:r>
            <a:endParaRPr b="0" lang="en-US" sz="2400" spc="-1" strike="noStrike">
              <a:solidFill>
                <a:srgbClr val="000000"/>
              </a:solidFill>
              <a:latin typeface="Times New Roman"/>
            </a:endParaRPr>
          </a:p>
        </p:txBody>
      </p:sp>
      <p:sp>
        <p:nvSpPr>
          <p:cNvPr id="269"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Demanda Busines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ecisión de Reservas</a:t>
            </a:r>
            <a:endParaRPr b="0" lang="en-US" sz="3600" spc="-1" strike="noStrike">
              <a:solidFill>
                <a:srgbClr val="000000"/>
              </a:solidFill>
              <a:latin typeface="Arial"/>
            </a:endParaRPr>
          </a:p>
        </p:txBody>
      </p:sp>
      <p:sp>
        <p:nvSpPr>
          <p:cNvPr id="271"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una aerolínea tiene un asiento disponible en un vuelo futuro</a:t>
            </a:r>
            <a:endParaRPr b="0" lang="en-US" sz="2400" spc="-1" strike="noStrike">
              <a:solidFill>
                <a:srgbClr val="000000"/>
              </a:solidFill>
              <a:latin typeface="Arial"/>
            </a:endParaRPr>
          </a:p>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 establecido dos tarifas para ese vuelo:</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125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nt $75 (sólo con reserva previa) </a:t>
            </a:r>
            <a:endParaRPr b="0" lang="en-US" sz="20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liente potencial llama para reservar por $75 </a:t>
            </a:r>
            <a:endParaRPr b="0" lang="en-US" sz="24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debe hacer la aerolínea? </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arle a $75, o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azarle la reserva, apostando a que habrá otro pasajero que pague $12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ximizar E(Beneficio)</a:t>
            </a:r>
            <a:endParaRPr b="0" lang="en-US" sz="36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Max el beneficio, se deben evaluar riesgos y beneficios de c/opción: </a:t>
            </a:r>
            <a:endParaRPr b="0" lang="en-US" sz="28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pto por $75, arriesgo posible venta de $125</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hazo por $75, arriesgo asiento desocupado porque la demanda de $125 no alcanza</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cisión correcta depende de la demanda esper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br>
              <a:rPr sz="3600"/>
            </a:br>
            <a:r>
              <a:rPr b="0" lang="es-ES_tradnl" sz="3600" spc="-1" strike="noStrike">
                <a:solidFill>
                  <a:srgbClr val="0033cc"/>
                </a:solidFill>
                <a:latin typeface="Arial"/>
              </a:rPr>
              <a:t>Método Anidado de Reserva</a:t>
            </a:r>
            <a:endParaRPr b="0" lang="en-US" sz="3600" spc="-1" strike="noStrike">
              <a:solidFill>
                <a:srgbClr val="000000"/>
              </a:solidFill>
              <a:latin typeface="Arial"/>
            </a:endParaRPr>
          </a:p>
        </p:txBody>
      </p:sp>
      <p:sp>
        <p:nvSpPr>
          <p:cNvPr id="275"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283"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284"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285"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286"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287"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288"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289"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290"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291"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292"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295"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asos Famosos </a:t>
            </a:r>
            <a:endParaRPr b="0" lang="en-US" sz="36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íneas Aérea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S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pones y Scanners de Supermer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29528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298" name=""/>
          <p:cNvSpPr/>
          <p:nvPr/>
        </p:nvSpPr>
        <p:spPr>
          <a:xfrm>
            <a:off x="457200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299" name=""/>
          <p:cNvSpPr/>
          <p:nvPr/>
        </p:nvSpPr>
        <p:spPr>
          <a:xfrm>
            <a:off x="457200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300" name=""/>
          <p:cNvSpPr/>
          <p:nvPr/>
        </p:nvSpPr>
        <p:spPr>
          <a:xfrm>
            <a:off x="129528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302"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303"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304"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305"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306"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17"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illón tiene  wtp $60, 2 millones wtp $20?</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rva de Demanda (próx. Diapositiva)</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ongamos que ponemos sólo un precio</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60 obtenemos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 también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si discriminamos obtenemos 100</a:t>
            </a: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blemas</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o conocemos la voluntad a pagar</a:t>
            </a:r>
            <a:endParaRPr b="0" lang="en-US" sz="2800" spc="-1" strike="noStrike">
              <a:solidFill>
                <a:srgbClr val="000000"/>
              </a:solidFill>
              <a:latin typeface="Arial"/>
            </a:endParaRPr>
          </a:p>
          <a:p>
            <a:pPr lvl="2" marL="10857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URVA DE DEMANDA</a:t>
            </a:r>
            <a:endParaRPr b="0" lang="en-US" sz="3600" spc="-1" strike="noStrike">
              <a:solidFill>
                <a:srgbClr val="000000"/>
              </a:solidFill>
              <a:latin typeface="Arial"/>
            </a:endParaRPr>
          </a:p>
        </p:txBody>
      </p:sp>
      <p:sp>
        <p:nvSpPr>
          <p:cNvPr id="119"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27"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128"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129"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5"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6"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7"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50000"/>
              </a:lnSpc>
              <a:spcBef>
                <a:spcPts val="72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blemas</a:t>
            </a:r>
            <a:endParaRPr b="0" lang="en-US" sz="2900" spc="-1" strike="noStrike">
              <a:solidFill>
                <a:srgbClr val="000000"/>
              </a:solidFill>
              <a:latin typeface="Arial"/>
            </a:endParaRPr>
          </a:p>
          <a:p>
            <a:pPr lvl="2" marL="1143000" indent="-228600">
              <a:lnSpc>
                <a:spcPct val="150000"/>
              </a:lnSpc>
              <a:spcBef>
                <a:spcPts val="7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o conocemos la voluntad a pagar</a:t>
            </a:r>
            <a:endParaRPr b="0" lang="en-US" sz="3200" spc="-1" strike="noStrike">
              <a:solidFill>
                <a:srgbClr val="000000"/>
              </a:solidFill>
              <a:latin typeface="Arial"/>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 SOLUCIÓN DE QUICKEN</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para  Windows a $20</a:t>
            </a:r>
            <a:endParaRPr b="0" lang="en-US" sz="3200" spc="-1" strike="noStrike">
              <a:solidFill>
                <a:srgbClr val="000000"/>
              </a:solidFill>
              <a:latin typeface="Arial"/>
            </a:endParaRPr>
          </a:p>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Deluxe a $6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7-06-04T13:19:08Z</dcterms:modified>
  <cp:revision>44</cp:revision>
  <dc:subject/>
  <dc:title>PRICING</dc:title>
</cp:coreProperties>
</file>