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4C40-A147-4D5C-A4C1-1B56A92B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B071-57D7-471E-A1DC-7BB6AB8A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EF5C-81EC-4E1A-838C-2BE72DF4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C0592-9766-46F6-9343-54115BF5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E36A-E7B9-4A4A-9706-0226A0E9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1CA6-608F-4EF8-91A1-3247695D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F49D-4426-4773-8166-A936D233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9C64-1DB4-4731-BA34-9B280A88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6DCD-1823-4F85-B0AB-FAD3623C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EDE3-6146-4F2D-A462-18F48F88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D0D4-DC0E-4678-B23D-84A9A2E3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B223-6048-4118-8DC5-21AFEE93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DDE0-735A-4B17-A12A-4E905CC6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F25F-E783-4CC3-8E5C-12B623EB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B3D2-D671-4764-90D4-FD1CFED2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0D95-3F3F-4331-B20F-4EF0AB21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A985-E3EC-4159-B559-7648AB58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E1A1E-FBC9-4E88-9218-932E9F24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D9FD-3EA1-412D-90F3-88216263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8E9E6-4FDA-4BE1-8AD3-54A1B6D2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36D0-F56B-4A15-ACDF-A9FCF307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073D-C6BA-4755-94B7-9A66CF77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0BB5C-CC26-45AF-9C17-6CAE1F2D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AA2CD-1E78-42BF-AD5D-8B9ECC21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8EC2-075A-4562-BC29-1AF33D359DD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F2F2-7723-49CD-BD92-B6769985BC2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MAR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CREACIÓN DE 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 existir Calidad de ver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rrores se p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en  dimensión importante para los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importante entender que los consumidores usan pequeños trucos para evalu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algunos casos se puede “capacitar” a los 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EA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ealtad es R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aumentar la “Lealtad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gramas de Frec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abas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s distintas asociaciones que hace el consumidor al oir o ver el nombre de la mar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junto de esas Asociaciones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AG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asociaciones pueden incluir entre o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 del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celeb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ímb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ntidad gobierna las Asoc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IDENTIDAD DE MARC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28880" y="609480"/>
            <a:ext cx="7086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Trampa de la Imagen de Mar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68200" y="304920"/>
            <a:ext cx="860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B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ATRO PERSPECTIVAS DE LA IDENTIDAD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/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 o Reg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Ó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fican la elección rut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si todas las semanas compro jabón, no tengo que tomar una decisión cada vez, simplemente “echo” Le Sancy en el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en el riesgo en decisiones más complej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Cuando compro un equipo de audio la marca Sony me indica que ciertas cosas estoy seguro que NO me van a pas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marca me puede producir beneficios emocion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or algo la gente compra Gucci, o anda mostrando la Marca de algunos de sus comp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algún sentido de “perten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”. (La gente que tiene un computador Apple siente cierto grado de identificación con otros que usan la misma marca, y eso les hace sentirse b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549360"/>
            <a:ext cx="85309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Símb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LITICA DE</a:t>
            </a: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ún la mezcla de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ara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oble (o Tri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cada producto la empresa le asigna una marca y un posicionamiento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Detergentes OMO, DRIVE, SK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la política tradicional de empresas como Procter &amp; Gamble y L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TAJA:  La empresa no “juega” su reputación en el resultado de un producto en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6477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AR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arca Paraguas acoge a varias Categorías de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as empresas usan su nombre como marca Paraguas. Daewoo, Sony, IB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793880"/>
            <a:ext cx="7925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LÍNEA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647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JERARQUÍAS DE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varios niveles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a Asada....  Produc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marcas pueden ser un activo tan valioso, ¿porqué no se contabiliz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incipales atributos de la Marc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Young&amp;Rubic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s diferentes, claramente diferenciadas por la gente, con identidad propia, ú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EV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esten de acuerdo con las expectativas, necesidades, anhelos y fantasías  de las perso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ya generado en el respeto y la confianza de la población general. Proceso lento que requiere conocimiento y una cierta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sean conocidas y estén presentes en el mundo cotidiano de las persona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8040" y="212760"/>
            <a:ext cx="84679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Valor de Marc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ALTAD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5840" y="611280"/>
            <a:ext cx="7921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oce usted esta m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R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Marcas de esta clase Producto conoce 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op of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4080" y="382680"/>
            <a:ext cx="8683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00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CONOCIMIENTO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4673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RECONOCIMIENTO Vs. RECOR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 Young</cp:lastModifiedBy>
  <dcterms:modified xsi:type="dcterms:W3CDTF">2007-05-28T01:25:48Z</dcterms:modified>
  <cp:revision>48</cp:revision>
  <dc:subject/>
  <dc:title>Sin título de diapositiva</dc:title>
</cp:coreProperties>
</file>