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A220-AAE0-417E-A10F-8D64B5F3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48E8-E93A-4FAB-8271-F93720A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B4BD-E59F-49E8-B9B6-A0065C62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8D06-57B8-473A-8567-4A2AF8AC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B97D-8BAC-419A-9BAE-94D51E71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287-3392-4411-8EC4-F8FCD9DA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355E-09DC-4B7F-B1D8-2917CC93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D207-0328-455D-8D09-2AA46871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6311-54FA-4311-A78D-7BA87179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3989-C33E-4230-88EF-CBDE4E0A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5A4B-8DB1-4F13-AC0D-C574CFFB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C98D-EEEB-4C3A-970D-8D7697F0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0947-6064-4AE8-A28A-23BD5981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2EC1-C8E6-4D2C-B93A-0FFB350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D479-F134-4FFB-A7E8-FDEB6F0B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AB68-4F56-4D62-8021-BB9EDED5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FC84-FBC3-49D5-9EC6-DDF8CD67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8175-A1EB-4034-8381-68DEBA16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EFC9-475D-41A4-91D5-84BA4F10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9F45-DB76-4329-892A-E07A3A8E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FBC9-9E6E-4461-A2BD-898B22D7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9483-E6BC-40D5-AEF1-B7BB959F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08A1-7891-45E9-9939-3212A90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9D90-0DDB-415F-AC3C-C0428FE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EB09-498E-4A31-B604-E2F76FD87C2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D58-D0F1-48FB-88DC-44A110DB7B9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7-05-28T01:25:48Z</dcterms:modified>
  <cp:revision>48</cp:revision>
  <dc:subject/>
  <dc:title>Sin título de diapositiva</dc:title>
</cp:coreProperties>
</file>