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AC35-E308-4894-89C8-3E225C30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B647-87E2-4E06-9C78-1F891AC7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EB45-A3FD-4808-BD04-A65636C2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5505-4BFF-48FC-BC12-D5BBCD15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03D9-EC26-478A-A3FD-D9EC1DA1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AF57-6DD7-494F-8A8F-B1330838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DEF7-3FB7-48B3-B2D8-A48FF76C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0C77-5FB6-4370-A5F3-D3F3B664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32B2-846F-4AEE-AE66-538A0194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3A08-BDC3-4708-A6F6-11E3F3BC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EB6A-E44D-4BC7-ACBD-1F026BD7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5FAC-7A86-464A-8DE5-5ECC8F07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064E-002D-43AB-AE1C-C13814B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916C-19C5-4A20-86D0-98375E0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E9FC-2744-4F38-91A6-AFCFE214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978C-F515-4838-9D92-02270E57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03E2-8B6B-4198-A69A-B38E7362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98AB-3CF3-4DE6-8B74-58B45A64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D6ED-2310-43F0-9D04-3067E41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EA77-A573-4F0F-9BDE-50EB6193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CC5C-73AD-4B9D-82BD-E4F02DF9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DB61-2105-4BA3-B34C-71EE7AB9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D5AD-A674-4037-ADCC-F9CCF327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2E35-50EA-4EAE-9E63-DBDE0A7B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DABA-ABD4-470D-A593-5243FCF4DCE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85E4-22D1-4DE9-A48D-C369338C4C0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7-05-28T01:25:48Z</dcterms:modified>
  <cp:revision>48</cp:revision>
  <dc:subject/>
  <dc:title>Sin título de diapositiva</dc:title>
</cp:coreProperties>
</file>