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EF69-4FF2-460F-BBBD-D9D16F4C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C01-B2DE-452D-B5A3-B8D1E02C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C19C-86F0-4319-AD7C-A073A8A1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8F4C-1A43-4B54-8CE4-4CC02B31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43F-44B8-485E-95D2-4F56D8F0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23EE-3D5A-4708-A796-6B413656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96E-54FD-4CD6-BCD6-F8523C3F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989-02DF-46FA-9DE0-5CAC87CF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C0BF-6A16-4E1E-9210-0C2FC0E8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1515-0919-4AB9-8225-887AB4F2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531F-37E5-4979-A178-2F3E2782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C3C2-A75F-4211-B97C-AB9D9BD0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8D42-6C30-432B-9426-8F16DA9D3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6440" y="2405160"/>
            <a:ext cx="8332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035760" cy="4829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24360" y="836640"/>
            <a:ext cx="194292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3429000"/>
            <a:ext cx="194328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3860640"/>
            <a:ext cx="194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s próxim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5928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1672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6: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5445000"/>
            <a:ext cx="215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is de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609300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is de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48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88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616572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587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264000" cy="520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7:Validació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2781360"/>
            <a:ext cx="179892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todas las decisiones fueron tomadas de manera correcta y cumplen los criterios de presu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sale este mens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16360" y="5950080"/>
            <a:ext cx="216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351400" cy="4281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36240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39640" y="3284640"/>
            <a:ext cx="208764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39640" y="1989000"/>
            <a:ext cx="208764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0920" y="225396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328464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72360" y="2060640"/>
            <a:ext cx="2376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tomadas las decisiones deben transferir lo que hicieron a la carpeta que contendrá su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787640" y="3716280"/>
            <a:ext cx="15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37227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170480" cy="3095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1280" y="119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s de grabar se les pide una confirmación, debido a que si graban no pueden volver a cargar sus decisiones. Es por eso que se les recomienda grabar solamente cuando estén completamente seguros de que sus decisiones son defini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134400" cy="233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1280" y="206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pantalla les entrega un mensaje que su jugada a sido creada satisfactori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516720" y="133020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9: Entrega de Ju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413000"/>
            <a:ext cx="59752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isma carpeta de la que sacaron los archivos en el comienzo, se les creará un archivo con exten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MBA2007.dz”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  es la industri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” es la firm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ARCHIVO ES EL QUE DEBEN MANDAR AL CORREO IND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84720" y="4941720"/>
            <a:ext cx="247824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732720" y="2421000"/>
            <a:ext cx="19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MBA2007.d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9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975280" cy="478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620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1: Inicio MARKS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59640" y="1844640"/>
            <a:ext cx="201600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brir el programa MARKSTRAT les aparece la siguiente panta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lo deben presionar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00680" y="5661000"/>
            <a:ext cx="8650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96360" y="5445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659640" y="6021360"/>
            <a:ext cx="936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430280"/>
            <a:ext cx="6264360" cy="5011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71640" y="907920"/>
            <a:ext cx="4429440" cy="261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68360" y="3213000"/>
            <a:ext cx="230328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3213000"/>
            <a:ext cx="647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2205000"/>
            <a:ext cx="647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95280" y="907560"/>
            <a:ext cx="2376360" cy="1258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2: Cargar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716280"/>
            <a:ext cx="2016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ndo acá pueden cargar los archivos que les envié por 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885080" y="2852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156360" y="2852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113440" cy="368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4886280" cy="3210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1763640" y="4127040"/>
            <a:ext cx="2160720" cy="57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708360" y="4149720"/>
            <a:ext cx="4824360" cy="57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63640" y="1052640"/>
            <a:ext cx="2160720" cy="25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708360" y="3428640"/>
            <a:ext cx="216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360" y="5013360"/>
            <a:ext cx="20163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á pueden definir de donde son llamados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01080" y="1700280"/>
            <a:ext cx="0" cy="4176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740360" y="587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143400" cy="491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04000" y="2975040"/>
            <a:ext cx="20160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á pueden definir el “path” para rescatar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3357720"/>
            <a:ext cx="720720" cy="10080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716000" y="380052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6480000" cy="5185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77080" y="2924280"/>
            <a:ext cx="2087640" cy="208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pecifican la carpeta en la que guardaron los archivos que les m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347640" y="3933720"/>
            <a:ext cx="3529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54680" cy="4682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32720" y="620640"/>
            <a:ext cx="180000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cargados los archivos deben salir en esta panta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 seleccio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916000" y="1341360"/>
            <a:ext cx="3816360" cy="27352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149720"/>
            <a:ext cx="1800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n la carga presionando el botón de transferencia de archivos desde el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058920" y="4940280"/>
            <a:ext cx="3817800" cy="936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4:Transferencia de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7726320" cy="6180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246708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50920" y="404640"/>
            <a:ext cx="1873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549360"/>
            <a:ext cx="2592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133720"/>
            <a:ext cx="1800000" cy="115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907920"/>
            <a:ext cx="180036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cá toman su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987640" y="1341360"/>
            <a:ext cx="273672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035760" cy="4829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42920" y="1197000"/>
            <a:ext cx="3673440" cy="122400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1268280"/>
            <a:ext cx="20876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os para basar la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s de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s de Mercado       (Los que mandaron a ha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5:Análisis de Dato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284720" y="134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3:19:37Z</dcterms:created>
  <dc:creator>Blas Duarte Lange</dc:creator>
  <dc:description/>
  <dc:language>en-US</dc:language>
  <cp:lastModifiedBy>William Young</cp:lastModifiedBy>
  <dcterms:modified xsi:type="dcterms:W3CDTF">2007-10-03T02:39:36Z</dcterms:modified>
  <cp:revision>15</cp:revision>
  <dc:subject/>
  <dc:title>Diapositiva 1</dc:title>
</cp:coreProperties>
</file>