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225F-3D7B-4330-BEDA-A90262FD2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3A48-8745-495E-B825-8463000F9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9BC2-4575-4A50-A051-EDF2B8AA7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A980-0A6C-4147-A207-0DBDA48B1F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3AF7-C413-494F-81A4-F0164D6A93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975B-421D-471E-96BC-CEC8C03FC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D91A-B442-4114-9787-5C92F5512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8FCF-B57C-4A80-9647-A01487690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F2D0-4A51-47EB-A7FB-A3CFD54B6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29F3-FB73-4A90-93BB-F350583EB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EC4E-91F6-40D6-9D34-D740BF970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38C6-DDF3-4992-9541-2DF52BA5A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C73B-91B1-4E80-A28E-72BA2FEAAA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77R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F72F-1510-4EA5-B1E4-A2C44E7B57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1CFD-A46D-48F8-AA17-CE5B15CE7A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B5D5-0570-4A6F-B7BF-EB613AE367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57E7-7495-4503-9B81-4DC048D45E3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E282-D267-45EA-B353-203812C92C0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A273-027C-4BD9-BF93-DC7BA03A59E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0D6A-A20A-40BD-B698-F1B8BF8BCF0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70DD-889B-4674-AFAB-87613F9BF8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D40E-C4AD-44BE-B3C2-23655E44EBB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5ADB-AB1A-4491-B2EF-1C004A9CF76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4952-6A85-47D6-84C0-13790D7A87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54AC-359D-4F11-BC76-12B3D82551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BE21-A28A-47E0-BAA8-B5702B8C87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BD81-D520-4127-8094-A16A9589DD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4C1F-7182-477F-A92E-5797A991A8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3C27-51D6-40DE-957F-42E89DBF52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4A8C-805D-4AAF-98D6-EED5831D25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B28E-9838-4AD8-BFCD-CFC1F3DDEF5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Verdana"/>
              </a:rPr>
              <a:t>MODELOS DE DIFUSIÓN</a:t>
            </a: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3600"/>
            </a:br>
            <a:r>
              <a:rPr b="1" lang="es-ES_tradnl" sz="44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Uno de los modelos de difusión más conocid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l de Bas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ADOP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FA4D-C21F-4DE1-9A7F-0FAFA96741A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11000" y="1600200"/>
            <a:ext cx="81277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La suma de efectos de “innovadores” e “imitadores” los expresa Bass con la siguiente ecuación: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800" spc="-1" strike="noStrike">
                <a:solidFill>
                  <a:srgbClr val="cccc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del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acumuladas previas al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     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 : Mercado potencial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: Coeficiente de innov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q : Coeficiente de imit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520B-15DA-4035-B298-3467C237CF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7320" y="684000"/>
            <a:ext cx="805176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Ventas (t) = p (O - Vt ) + q Vt (O - Vt ) / O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 = 0.04  q = 0.6  O = 5000   O: Mercado Potencial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: Coeficiente de innovación q:  Coeficiente de imitació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9A6E-D6D7-4C4D-AE1F-B3FBB07A6638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96E0-87C6-4A59-818E-2B10159560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CD7A-725F-49AE-9C0D-E62C3E09C6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EF88-9779-47D9-86F3-1435C59F61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69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0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4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7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89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2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990C-F2AA-4523-BBFF-BECB9FE4C1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6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7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0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0587-5739-430A-AE98-4FAD5A51A1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7-10-03T02:45:00Z</dcterms:modified>
  <cp:revision>408</cp:revision>
  <dc:subject/>
  <dc:title>77n</dc:title>
</cp:coreProperties>
</file>