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8265-C1B1-4ADB-BCEA-5C74F5383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5B66-3D44-40BB-9949-A79F0585D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E710-D742-4CD1-9DDB-236C0F6F2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2CDE-4E7C-4AEB-970E-FD0B63E38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4DA8-5CC4-43A6-B85E-6913FF26D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3C41-2FA1-4F05-B3B9-68F5E4361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6BBB-3F05-476E-B068-8DA4BF826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E596-AF4A-4408-90B7-C566C8EBA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68B1-FD36-446C-B9F3-D43104E48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6771-617C-4933-A443-441B0A20E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2F24-573E-4648-97DE-727A50352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2ACA-B094-4F3F-AD05-A0FA27935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74B0-FB16-4DBC-BC50-BFCD2A5A31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70AF-DC9B-4E4B-9E05-30106A84D8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8498-C4B1-4E6C-8BE1-A6F92F6B7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AEF3-48A4-4E1F-9B80-32E114461C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DDBC-5610-430E-A33C-462168244E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9282-2283-452B-A558-420D99DDF0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2E66-938E-4FCC-9980-5ECE184DC0F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C8AA-D27D-417A-8C75-5815804767F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8065-72BE-4265-840E-C762979F3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DC9F-1DC2-4CF6-A982-B3476171C6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5E42-E5C2-43EB-813A-39C645DF0D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69CD-8B78-4A8F-ADD6-E126A81AF2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5BFA-E6CA-4D2B-9D90-49127B461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C839-213E-410A-81C1-6AE5B3E855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FCD4-A1E6-4FAF-9DEA-A60A54C910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DF51-F27A-49CA-8243-82E7FE77DA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8B92-969C-49DD-8F38-6699F72FF2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BE8A-6F31-4BA5-B96D-CF3519F01C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3BA4-83AA-4F34-AB64-D36A65890C2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B24F-0946-491C-87E5-69FDD0D10F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D1E7-EB8A-4040-A3EB-D53D6DD73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2521-C6D3-4ED9-B231-EC24968039AA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5C65-9CA5-4CB6-B10F-3C0E9666DA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7925-ECAD-4D81-9399-62C8B4D140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C2B6-C4B9-41A4-A3BC-ED8B825A7A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4BE7-4014-4DA9-B131-D03373808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BCF4-1812-4726-AA69-C3ADD0FE7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7-10-03T02:45:00Z</dcterms:modified>
  <cp:revision>408</cp:revision>
  <dc:subject/>
  <dc:title>77n</dc:title>
</cp:coreProperties>
</file>