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FECC-FC5F-45BF-9043-25FB044D4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D676-0879-4459-8999-60C8458FF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8D0D-BBD5-4EFA-97F9-85D699325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9E08-2EC1-4B8D-9DE5-40ABA2140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4691-2ED7-491A-B4D2-1D52B60F8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6700-2FFD-4F73-BBE5-8B0DF8721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8AA1-FB65-4917-A988-3F009045E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EBCE-E402-41BB-9F57-1C4A0193B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0650-4B7E-484E-A890-0AF42A221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0969-1172-4447-A935-59DEBE1A8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A83C-E1A4-44DC-89FC-7B4527A3F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DFA0-3407-494F-B51A-97C46B6BD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A81-1C67-4385-BBF8-3CD56044F5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7C1E-CE0B-4106-8E7D-380165D039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2C1E-893A-4E9E-8795-A3B6AA9A4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3DF0-1A69-4CC3-A0D2-DBFA9F9DD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2007-15B5-4105-BAAA-1D3975F9C5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CDF9-8549-4DFA-9C1A-A29CC6C796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4B08-1080-4499-9AF0-4B897A0A1B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E1DE-AC0C-4DF8-BDC7-E0411E67385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6786-EE35-4F6D-9DDC-5087C7443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D9CC-444B-457A-A607-7971E63174C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9351-2953-4384-A6B9-DD93585A230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AFCD-C43D-47F9-AB7C-7552EA934A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ECAE-1FB4-45D9-9692-38DA56BFDC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92AA-EDE5-4BFB-9C55-14032BDD15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20A9-60D2-40C3-97CC-BB9BDC93BF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0E7D-A142-4F3F-8FB5-63B395B015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B4C8-7C06-4F2C-84FE-968B07D7EF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B8E7-1321-4CC6-8A22-1B077BE4B8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8064-7DD1-4616-9E43-981ACA54DAD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C2DB-FCE9-4EC6-811B-B0A3F11FBA0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D8F0-87F6-4AC5-AD42-85E8DC9C2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C9A2-156D-4C55-8BF2-E9E6A5645501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5796-3363-4546-97DA-E48DFCFB3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B4BC-2F91-4F55-A1B8-CD9826205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39B9-564F-4A13-ABEB-C1A537DE4F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E288-B0A5-40E3-9E7C-F9F5EF42B6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4468-4C12-4DBF-B977-D73D4644F0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7-10-03T02:45:00Z</dcterms:modified>
  <cp:revision>408</cp:revision>
  <dc:subject/>
  <dc:title>77n</dc:title>
</cp:coreProperties>
</file>