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F9F1-5EBF-4964-8305-E770F0017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9D3A-E2B0-4486-8315-4BAB88FF0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6F6B-9027-4CB0-8CDA-CF0CA8B58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26D9-7E14-47E2-AEB8-835FFFE7E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427A-6B87-4EA9-B842-AB1FEB390E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2E54-20B8-4BB5-8967-876604EED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C5F9-5C6A-44C3-8108-690C2120F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FE33-A740-4A64-897D-7EE94DF58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F643-78CB-4897-B123-B44E84698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022C-4A15-4203-A3A8-8A2FB95C1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A959-3D74-40F7-8584-54B286387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CCC5-5B84-46B4-87A7-FE77A99F4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A6E7-14BA-4549-BE49-A860DE5042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96EE-2986-404F-B0D6-7BDC07D97A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A514-6172-4B31-89F7-42E7CA039D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6C07-3C54-4B4F-BBDB-93EE52639F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53D6-FAD9-4071-B713-C73AB77FAC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C142-3C92-4E55-9CD5-AA6C46A5AED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0396-D71B-4524-A51A-16B96BCBEF3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3683-B0F2-4D19-856E-57B18310C4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EAB9-32BA-4E6D-A1B2-5EC5C7B75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DB13-56E0-40CE-8BCE-ED499C9A0D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6989-8CDF-4DF7-9479-7408923780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E846-5F71-4F5F-BF08-2F91384081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0BDF-812C-40F7-A63B-EDBD968F29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39EB-ED89-4BA1-BCA1-39402B5A6D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B4CF-DB83-4171-9C20-A6E0C578B2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3AB5-1456-4057-8F7C-781CC54B7E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08AF-6349-4C12-A566-5FC6DC842E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0935-243F-4389-ABE7-3E9B53A9F6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027C-4618-4F47-BB33-8855E7459D7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3A20-7C29-4569-AB40-F4B56558CE8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9B17-9EC3-4DAD-8EF0-BD3B6F9E31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ACFF-1356-41FB-8DFB-3642323D3F51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DB2E-5B73-4068-91BC-4F20AB7B46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1330-E360-4333-A7E2-01EC6C243C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8A4B-C115-4E24-997F-F6E6D59153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EA9B-F2FF-4447-9915-4398760643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1A99-FDAE-4996-845B-E3011C7C1D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7-10-03T02:45:00Z</dcterms:modified>
  <cp:revision>408</cp:revision>
  <dc:subject/>
  <dc:title>77n</dc:title>
</cp:coreProperties>
</file>