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299-59C0-4FE3-BA6E-09D71267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014-C8F8-40CD-BE60-624AB1AE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DB4-000A-4F2F-864F-DA5EC9B9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287-4398-41F6-A8A2-682E085D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2FA3-D9CE-4C2A-8A4B-D91DE41D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C463-58EE-4803-BFDE-E7622B1C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0412-BAEE-4DE5-9F88-A6F3FFD4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68A6-59E3-4EF5-A910-CBBCA65A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784E-3FB3-41FA-9881-FB5DE171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C79A-BD47-4C2C-A352-019CE114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37DE-6FA3-475A-AB6D-8D506628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F3B-76CF-4D0F-A3C2-51E65CB4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B09C-CC9C-42EC-AAC4-DCAE0503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F6D0-A6DB-42A8-AD52-85F1FF58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5412-F4AC-4577-AE7E-0D674F8A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ABD6-5BAC-4D9E-9404-D9B7DEE3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BDA9-0995-45D0-9441-91CF6AE0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8659E-8207-421C-9FB5-54262C42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905DF-FA1F-4820-9501-6DB7E20F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4290-C3BF-40EA-A2E6-3FEE4DD6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F2C1-2B92-463A-A377-E14A3964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E0C17-3292-4FBF-AB7F-C91C87C1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D24-3E21-4B75-AE7E-40EA212C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1ACEA-2BF0-4CE7-991E-83BCDA8D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A032-C060-433D-AAC1-EEDC03BD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FEFAC-E84C-44DB-B774-536640B4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ABE1A-3997-4365-897B-536D304D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DF3D-BC49-4FAF-B154-F39DA56D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61E9D-7574-4C1C-AE0B-6A4ECE96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5689-29DD-48DA-B259-9D65789E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4823A-0183-4BBC-979A-10EA20CE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C583-ACA3-49EF-AFA0-72166492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1DC98-6693-470B-8DB1-382EA549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D48-7184-404C-A989-EB94C884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85F33-80AE-434E-8883-EBDDE085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4547D-C794-48A0-84D4-358CAABD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668D-6A5C-47D2-9A0F-1ACBF8B2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ACE5-22CE-400F-A1B9-A3FFDBF3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DA1F6-2E23-47EE-AB07-827A5A7F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F23E9-9E69-43C7-8809-79DE2DD5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AC08-5D80-4A57-B219-6C473F86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E52F5-DB93-4B40-8D0B-350BEB4A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7B45-582B-4167-8B63-FAA9CC4F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B911-37BE-4472-9DC5-1B2AE32F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101-6D3C-46C3-A558-7C3A6FAF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339C6-241A-4E35-8F3A-EC37DADA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A80DD-9FC6-4CB5-92A0-ACDF86C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2FD3D-1E0E-45E6-9AD9-DD8BAB71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0700C-1462-451C-9295-5C83D62C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BD80D-ABE0-45AB-94CD-E7C209B3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EF525-A989-4A45-955E-BDE99A93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67F28-DD8B-44FB-AFC4-C18B9E92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08300-2CC2-4F1F-B417-20D44D8C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47D3A-C1DD-45F4-B8DC-5A979C2F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F5C60-D381-4972-8689-BB838193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238-45F1-4130-8E50-BE520D44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D2D77-969B-4ABA-B8CF-495C1DF8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FE673-30FE-4927-8B4E-C694B337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8F0B0-BD8A-4281-874F-3720D800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7D68D-64CC-44E9-B64E-483279CB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C77EE-F14D-4189-B2F3-51D0D9D7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C52F6-4ADA-4B3A-ABFF-A450485A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D1D40-5552-4797-99C0-4430E377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C341-4143-4F63-82F9-934B3C0F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AF4D6-F9FC-4A3D-BF1C-7BAF201C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9C212-6BFE-4005-85BF-41E97E06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4D3-DDB0-42F8-BC6E-A9357F8F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A79DA-F88A-4F11-838C-1F32C236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78A81-03B6-4F49-B581-B96FF3CE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68515-931A-4AE8-8C07-CE9A9B52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16F-F434-4D99-92C6-CE1D267F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D1D-EC16-4F17-BB20-55332035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7C4F-102E-410D-B130-E406974AD37A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0D05-DE36-4778-BE48-DB90D06D4845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3AAA-E763-4629-B592-88D006948DCE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986B-565A-4250-B775-5805FEF97DE4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7EB6-C56A-448B-BDB0-E4F692E7F29F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6B5C-D0A5-4ADA-8228-0F8E212E825E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ate_pattern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 Título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ugo M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mora@ing.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¿Tercera aproximación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lementos que nos falta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ormalizar mejores práct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atrones de diseñ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Nota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ormalizar análisis y diseñ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Lo veremos entre RUP y U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are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3 semanas desde día entrega (antes semana 18 sep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Se entregará durante esta sema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justarse al tiemp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Recepción consultas 24x7: ucursos o ma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Más compleja, valdrá el doble que la anter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area (2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Resolver problema similar, para el juego de Ajedre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Diseño de cl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so enlace dinám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hay algún if then else, justificarlo muy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lasmar esto en un documento de diseño que indique las decisiones que tomaron y su just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mplementación Jav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levar el diseño a la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area (2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e entregarán algunos tests unitarios básicos y algunas convenciones de nombres y estructu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Bonus por tests unitarios (JUnit) cread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Primer contr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onceptos OO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lementos de análisis y diseño con UM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echa: entre 8 y 29 sep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bjetiv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73200"/>
            <a:ext cx="7480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jempl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Juego Ga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Queremos poder saber si alguien gan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aber a qué jugador le toca jug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Jugar (colocar ficha en posició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Condiciones bor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No se puede colocar una ficha en posición ocupa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i un jugador intenta una jugada inválida, sigue siendo su tur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i hace jugada válida, es el turno del sigui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(Tests Unitario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Formalización tests unitari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Necesitamos definir interfa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ómo crear un jue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omo llegar a un estado determin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jar una posición utiliz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idar que no se puede colocar allí otra fic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ómo hacer la jug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eamos primera aproximación para propuesta de interfa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No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1809720" cy="1571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5572080" y="1357200"/>
            <a:ext cx="21290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Primera aproxim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581040" y="1957320"/>
            <a:ext cx="3409920" cy="3810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terminar turn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Cuando un jugador hace jugada válid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Si jugadorActual es X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80000"/>
              </a:lnSpc>
              <a:spcBef>
                <a:spcPts val="374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Arial"/>
              </a:rPr>
              <a:t>Jugador Actual = 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Si n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80000"/>
              </a:lnSpc>
              <a:spcBef>
                <a:spcPts val="374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Arial"/>
              </a:rPr>
              <a:t>JugadorActual = 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Colocar fich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Si no esta ocupada es valida y coloco fich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Si está ocupada: jugada inválid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Para qué diferenciar Ficha X de Ficha 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Puede ser la misma con atributo distint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bservacion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vitemos condiciones (if then els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iertas cosas dependen del esta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Jugador actual es estado del jue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Ocupada o no es estado de posi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Patrón de diseño S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en.wikipedia.org/wiki/State_pattern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(veracidad discutida, revisar otras fuentes ademá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Segunda Aproxim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Coloc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casilla ocupada envía mensaje alerta (no se puede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casilla desocupada permite juga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staOcupada es triv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uego de colocar efectivamente una ficha se cambia el estado del juego (método otroJugado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Turno va al estado del juego (Jugador) y retorna su nomb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473040" y="1890720"/>
            <a:ext cx="36259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3:21:27Z</dcterms:created>
  <dc:creator>Hugo</dc:creator>
  <dc:description/>
  <dc:language>en-US</dc:language>
  <cp:lastModifiedBy>Hugo</cp:lastModifiedBy>
  <dcterms:modified xsi:type="dcterms:W3CDTF">2007-08-18T04:40:56Z</dcterms:modified>
  <cp:revision>8</cp:revision>
  <dc:subject/>
  <dc:title>Ejemplo Diseño Java</dc:title>
</cp:coreProperties>
</file>