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F69-CBED-4298-9BF1-A650EC2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BB6-65A3-47D9-868A-CD659DB1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81C-7371-472F-B277-B7DAE340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279-04BE-4D87-AD6C-351B566B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86CC-8AA7-46FB-B807-B5C2BA01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69D0-06E7-41DC-8AAD-651E2A7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56F-FC09-49E0-8169-054E37FE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F00-CB6B-4A22-AA7D-2D7B8EB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6A50-B62E-453D-BE88-987BA5D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F852-D81E-4E0D-A02C-747A866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0F67-35CC-458D-ACCB-6209A04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B22-ADC8-4F3B-8BEC-83AB2C8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FD6B-1022-4BBA-A4A8-922AE04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3BD3-9060-4000-A867-E41C4231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A94C-A057-4ED0-95A8-8DDB6DC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B56B-7EB3-45F8-8225-8E6BDEF6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A08-EAF1-4567-B8C8-8B4705F5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875B-02A4-46EB-920B-BE844915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3C6A-7B6A-4C45-8606-45BB45DF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259E-AA9F-4ACF-813B-FBEBE3E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3DA4-11C3-4FE1-9A31-456B6E79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C793-B5F8-40C5-8925-273A765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4AE-5413-4455-83B5-A52A5D6D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BD25-D508-4E0F-BBF2-05B0DB7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2634-4EAB-4BE8-91BF-87F96E26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07E4-2982-472D-9EB4-2F1C886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0FCC-8C71-4117-A764-843F073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60CF-FC56-4B22-9971-A9F4DC9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0AE6-9301-4AE3-AF28-E086E8EC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DF8A-6D28-4D82-9418-6FFC6F0B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0309-6042-4B9D-A41A-A9AE8BCA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09B3-C641-4E28-9BD4-4719A0CE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61D7A-8D70-477D-AD2B-682A2256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059-8835-4540-A8DF-0FAE799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1C41B-7B76-45C9-83D0-3975A9E6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7241-C8A5-44BB-B9E4-42B1921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12D8-0D3A-49DC-A6FE-19286F5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0870-D1E8-4B58-8EE6-BE5EA1E1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B267-E187-4A41-B577-EAACAE3D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E6CF-E55C-4D5E-B6D6-3B2DA47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DF8E-F4FB-4A9E-A901-A08D46C2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AA73-FC07-45F4-9557-719E3987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CA48-1D0F-4E94-B690-25808168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8A1B-8B66-4289-B521-BEA853F5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E91-29AB-4786-9C29-ABCFE3C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19A5-BDA6-41F1-8F03-4D4E945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7EDF-4510-4A4D-814A-B12E4BB4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2C360-53EE-4E3E-8FA1-ECC07D5C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53CA-2623-44F1-94F3-582B5DB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83C1-D1D2-403E-9EFE-27607552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FC42-369A-4354-896D-197CE23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AED1-104F-424B-9C75-8C44CEF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9FD25-50FF-47D4-A137-AE57848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59A0-2285-4FF1-9393-6863897F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54CB-A425-4C2A-A6D8-239DFB31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87F-A2B2-4CE6-9900-2E9B4CF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1111-E70D-42B6-97DA-749F28FD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FDEB-BAF4-48FB-938A-CD1A1151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9437-0D9F-42FC-BE1E-F7E89CAE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A0B0-78ED-49CD-A02E-3E9C3773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7B2D-BC06-4AF9-BFB4-DD5B5FBB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E1BB4-23A3-4021-A2BF-1F2363AF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D200-E749-4BED-AD2A-F05C63F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2CE6-82D4-4162-AAAA-DF71F82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F403-CC93-49FB-B050-46E0FA6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E4340-2CE0-467F-8C24-4C3CBBA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410-01A3-4B31-A541-E6067C9C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88D01-70EA-4ED6-955A-1B9A13BC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D1805-CF07-44DD-AE8E-24864B4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62FAA-240A-48FB-84FD-62A0B846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470-7856-4C14-BC4A-E6F3378C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D30-0D4C-4D2B-8EC8-19C4882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085D-A06B-4307-8073-76C5039790D0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06F-4FF6-4F9D-9F3A-377751669DF8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6E71-4AE0-4E70-9FFF-75A8875BB2DC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5D0-893C-45AC-A3C4-9F61D7AE21DF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2A9-7D55-4943-A78C-681E28B970AC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8BB-8EEF-430C-A3BF-D4C0ECCD83C7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ate_pattern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Tercera aproximación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lementos que nos falta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mejores práct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ormalizar análisis y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o veremos entre RUP y U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 semanas desde día entrega (antes semana 18 sep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e entregará durante esta sem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justarse al tiemp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Recepción consultas 24x7: ucursos o 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ás compleja, valdrá el doble que la anteri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Resolver problema similar, para el juego de Ajedr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Diseño de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o enlace dinám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hay algún if then else, justificarlo muy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smar esto en un documento de diseño que indique las decisiones que tomaron y su just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mplementación Ja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levar el diseño a la prác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area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e entregarán algunos tests unitarios básicos y algunas convenciones de nombres y estructur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onus por tests unitarios (JUnit) cre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 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nceptos OO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lementos de análisis y diseño con U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echa: entre 8 y 29 se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73200"/>
            <a:ext cx="748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ego Ga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Queremos poder saber si alguien gan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aber a qué jugador le toca jug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Jugar (colocar ficha en posició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diciones bor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o se puede colocar una ficha en posición ocupa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un jugador intenta una jugada inválida, sigue siendo su tur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Si hace jugada válida, es el turno del sigui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(Tests Unitario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ormalización tests unitari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Necesitamos definir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crear un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mo llegar a un estado determin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jar una posición utili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idar que no se puede colocar allí otra fi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ómo hacer la jug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eamos primera aproximación para propuesta de interfa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180972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5572080" y="1357200"/>
            <a:ext cx="2129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Primer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581040" y="1957320"/>
            <a:ext cx="3409920" cy="3810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terminar tur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Cuando un jugador hace jugada 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jugadorActual es X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 Actual = 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425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"/>
              </a:rPr>
              <a:t>Si 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80000"/>
              </a:lnSpc>
              <a:spcBef>
                <a:spcPts val="374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Arial"/>
              </a:rPr>
              <a:t>JugadorActual = 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 fich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no esta ocupada es valida y coloco fich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Si está ocupada: jugada inváli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ara qué diferenciar Ficha X de Ficha 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Arial"/>
              </a:rPr>
              <a:t>Puede ser la misma con atributo distint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servacio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vitemos condiciones (if then els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ertas cosas dependen del est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ugador actual es estado del jue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cupada o no es estado de posi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atrón de diseño St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en.wikipedia.org/wiki/State_pattern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(veracidad discutida, revisar otras fuentes adem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Segunda Aproxim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Coloc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ocupada envía mensaje alerta (no se puede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Arial"/>
              </a:rPr>
              <a:t>casilla desocupada permite juga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staOcupada es triv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Luego de colocar efectivamente una ficha se cambia el estado del juego (método otroJugado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Turno va al estado del juego (Jugador) y retorna su nomb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473040" y="1890720"/>
            <a:ext cx="36259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3:21:27Z</dcterms:created>
  <dc:creator>Hugo</dc:creator>
  <dc:description/>
  <dc:language>en-US</dc:language>
  <cp:lastModifiedBy>Hugo</cp:lastModifiedBy>
  <dcterms:modified xsi:type="dcterms:W3CDTF">2007-08-18T04:40:56Z</dcterms:modified>
  <cp:revision>8</cp:revision>
  <dc:subject/>
  <dc:title>Ejemplo Diseño Java</dc:title>
</cp:coreProperties>
</file>