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882-71C1-409F-9B99-CA27C4DF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10D-BD57-4369-9519-4235D03D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36A-A2CA-4171-8D40-2EC4C705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001-C433-4A77-B65C-0C54979D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5207-6193-4D62-9BC6-DF337204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254-D639-4EE3-9F59-8FF31109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B84E-324C-442B-9208-4CC913CB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F742-84DF-45EF-B1C7-EA34AC9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8D4-5224-42C8-B659-212E935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FF5-0312-4F13-91A1-2B1B716F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545C-9EEF-4978-8A81-ACB5E0E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A66-25AF-4DF1-99E0-6069CB5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A1D8-903C-41D7-A169-256AAC1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3F28-F706-4B3C-9307-ADA5EFD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45B6-1917-4556-B738-5D9811D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A8A8-E986-4761-B995-F3712B42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FEA-D5C6-4240-A75F-2A6612F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9916-0B33-4CFD-B7F0-EF6C692E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0412-01CC-484C-95D0-EC21F52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0939-8C14-4763-8B5B-E02A7D7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95FD-E210-4C4B-A097-9B835C51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A9E0-027F-4C69-A8AE-CDC3186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4A3-A285-4F78-8446-22BA8CE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04F3-F988-441B-97B3-9A2272DA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903F-E348-4EBA-8E23-1EFFD16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76DF-77B1-4802-89B4-C7C5E56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70B7-CD15-4E66-8B7E-FA8429D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9DD2-5EA7-4919-94B2-1C47F8CD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AFE7-595C-427F-8676-5E6CC305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5304-32FB-4822-936D-40D75ABD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E89D-7B73-4F33-803B-0274E8C2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D235-2CC4-4661-8860-59E8235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F1AB-54F0-49C2-B694-8F3FDE3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8A4-5FD9-45E2-A9CC-224861AC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6834-2BD8-4373-813E-66EB8099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2A1E-8AED-484D-B5F1-F3B2489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3B2A-DB19-4E33-8F56-A66C3BE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5B91-0B94-44A0-BC4C-17F6457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C673-1958-46FD-BC33-B83DD35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A8B9-477C-41FB-9C36-8AF16E9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7F48-B6FF-48E1-9EA0-CA77E507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9480-6F41-490E-A61C-20BD294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06E3-77A5-4F4A-BABC-D8E9D650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0023-13F9-4A6E-8A19-D64D1FE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E54-5662-4187-8842-9B3AB553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AF82-EEFE-4D16-95AA-5F71A6A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0E22-F561-4C61-ADB8-DF6AED2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D65F-3AAA-4E96-A7A5-F3269A11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15045-16F1-4300-84F4-79E6EFA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8DF1-30F2-4FCE-9EBE-E013234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71E0-C4AC-47A1-B458-429914D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0F66-9C9C-49D2-9C66-0B0F7F4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6FF6-2CA7-4C57-86D0-E939BF0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4621E-9BC8-4910-87CC-44A2D7D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CC60-ADD3-404C-A202-5A1FE4BB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F6E-0F12-4AFE-B1E3-D70156D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3DFF-8D86-4D13-AEC7-C1060DBC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68E1-AAA8-4E2B-8D03-828F71CF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4F88-FC67-4169-99CF-B848756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8369-2591-4078-9B57-1827755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F903-A20F-4B7E-A4CF-975AC80F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4E1B-08F7-4914-A003-EDC148E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3BA0-E130-48D3-9DF7-00639E5C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8B96-D8F6-40E8-882C-014994B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7141-9A8B-4831-8259-FE777E1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8CD5-F0F6-4C56-A9CB-44DF00B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39E-350F-435E-B9C1-68E48A1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B53F-B6FE-469C-930D-AA0B4C17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2EDC-D612-42F2-AFFA-54AF1DA4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479F-CFFD-430D-804C-2AED6519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F38-071E-473F-8958-08579CA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2A0-D1DF-42DC-A1D5-0898C93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CD81-D64D-449B-A6C4-C12031043B1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5CF-753F-44B4-AB87-828BCE82674C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1428-C820-4797-B615-52119EBDC312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C82-7F6F-4A58-A871-B2965839793D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029-AF54-4B3C-91B6-32610802685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8E21-2A81-463E-B24B-C114304A286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te_pattern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Tercera aproximación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lementos que nos falt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mejores prác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análisis y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o veremos entre RUP y 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 semanas desde día entrega (antes semana 18 sep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e entregará durante esta sem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justarse al tiem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cepción consultas 24x7: ucursos o 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ás compleja, valdrá el doble que l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Resolver problema similar, para el juego de Ajedr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Diseño de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o enlace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ay algún if then else, justificarlo muy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smar esto en un documento de diseño que indique las decisiones que tomaron y su just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mplementación Ja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levar el diseño a l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e entregarán algunos tests unitarios básicos y algunas convenciones de nombres y estructu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onus por tests unitarios (JUnit) cre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nceptos OO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lementos de análisis y diseño con U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echa: entre 8 y 29 se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748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ego G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Queremos poder saber si alguien gan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aber a qué jugador le toca jug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gar (colocar ficha en posició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diciones bor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 se puede colocar una ficha en posición ocup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un jugador intenta una jugada inválida, sigue siendo su tur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hace jugada válida, es el turno del sigui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(Tests Unitar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ormalización tests unitari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ecesitamos definir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crear un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o llegar a un estado determin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jar una posición util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idar que no se puede colocar allí otra fi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hacer la jug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eamos primera aproximación para propuesta de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180972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5572080" y="1357200"/>
            <a:ext cx="2129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81040" y="1957320"/>
            <a:ext cx="3409920" cy="3810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terminar tu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Cuando un jugador hace jugada 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jugadorActual es 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 Actual = 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Actual = 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 fich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no esta ocupada es valida y coloco fich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está ocupada: jugada in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ara qué diferenciar Ficha X de Ficha 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Puede ser la misma con atributo disti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servacio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vitemos condiciones (if then els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ertas cosas dependen del est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ugador actual es estado del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cupada o no es estado de posi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atrón de diseño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State_pattern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(veracidad discutida, revisar otras fuentes adem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Segund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ocupada envía mensaje alerta (no se puede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desocupada permite jug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taOcupada es triv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uego de colocar efectivamente una ficha se cambia el estado del juego (método otroJugad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urno va al estado del juego (Jugador) y retorna su nomb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73040" y="1890720"/>
            <a:ext cx="36259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3:21:27Z</dcterms:created>
  <dc:creator>Hugo</dc:creator>
  <dc:description/>
  <dc:language>en-US</dc:language>
  <cp:lastModifiedBy>Hugo</cp:lastModifiedBy>
  <dcterms:modified xsi:type="dcterms:W3CDTF">2007-08-18T04:40:56Z</dcterms:modified>
  <cp:revision>8</cp:revision>
  <dc:subject/>
  <dc:title>Ejemplo Diseño Java</dc:title>
</cp:coreProperties>
</file>