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917D-1927-4245-B59E-8440F83B9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B7DE-D78B-44CF-A3B6-D7CD1BD7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B1D1-201E-4A96-AC4A-4479EDE2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2466-8411-42DC-BC6A-9B944BC5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BBE1-095A-40BD-80A5-B1C9CE989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C179-BDF4-43AE-A5FC-FFAA507F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17DD-993C-493E-96D2-67ADBE85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D3F4-EFDE-421F-8873-E88F1FBC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5900-19E7-420D-8FF1-8FA9B856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CAC4-356B-432F-B58D-7704052B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4142-3CDA-4793-87E7-B987C4EC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7BBE-30FF-4601-B293-A11FE6DA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B06D-9AC9-4D8E-980D-3062725E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B1DE-1FBE-401E-9F96-342347A1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0109-6775-4777-84F0-A4EBFEE4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239D-7A93-4820-9164-C69235094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FBD9-ACE3-4FC9-A8AE-5CC21D51A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5791A-7516-4B00-A3A0-79D3B9C99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288DA-2B4F-4852-9C1D-0A9C55FE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615BB-0577-4E26-AC1C-6262BF9E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6F2E6-F28A-4836-BA4F-62AFD92A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AAAC1-68EC-40C2-B31A-4D8334B6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BC90-B117-49BC-AC03-3C86DCAF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867F8-CA56-4ED0-A755-940409E2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AD4FD-CA79-4F6C-9C14-0EAFC6DB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EFE8B-124A-4FC7-A949-87C05A7A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F2C33-51B4-4A3B-B9B7-9D78A118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C0A97-D2EF-4768-8F16-C9203B8A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F59CF-661F-4267-8EAC-A5E6A26D6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D0582-CEA0-4BC5-AF9F-9F7245AB8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A469C-3379-4D7C-BF36-60F26868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2381E-987B-47A5-9E5B-9277CA36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92B19-EE91-4933-B8E9-B9E78849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410E-249C-4E11-B80D-92DF0FF9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2CFD2-8A0F-4BF8-AEFE-61FC997A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8D377-00D1-4F21-B062-6200B188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6FACD-B4BA-4D09-97BB-C6863F3C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EB2B4-9827-465B-BDAF-06BD639A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60D58-67B4-42B8-8C17-E6F889EB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C81DC-3E23-491B-ACD5-664EC903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4C6F1-DEFA-49D8-8C8C-6FAF102F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1FA6E-20E3-43AB-8843-40A501E34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403B7-B896-471D-A02D-78BA96C08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3FC51-B4AD-4B66-8EF4-87359AE4A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6963-93E4-4903-91E9-5D27C847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CB7EB-39B4-4812-A7AE-8287B039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20B6B-4585-4459-AC50-9DAF32B5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03877-7DF3-4F27-83C2-576C9139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CDF50-EAF0-435A-B8A9-2B889730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3E7F0-198C-46BA-A662-378E6AB2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4DDB9-B229-40FE-9B24-2675750F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902E7-A292-45A1-9FE6-92D3131B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C089D-2CAB-44D5-B6B2-10E83351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8BF7F-BB94-4AE1-9E48-4CEF01CF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076A2-74F6-44EB-BACB-D86A3EF37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3E12-0F83-46BA-B75B-CE98E984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C5A58-600A-4481-AF77-5A8AD5439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9F242-956A-4DC0-AA67-30F1516D7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841EB-F4DA-4C7E-B0CF-CD6790E5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FBAAD-971E-4107-8584-61631756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34578-1DAE-444B-9E30-520ED747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4401B-686E-475D-AF5E-EE7246A1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A21C8-FE81-4B54-BC37-61D292B1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C2244-344F-4811-8C79-EA68B063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6280E-98B3-44BE-AB7F-C955DBDE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2F2F5-ED63-438A-86A1-B4DD2DA8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3386-66C3-4C1C-94F1-7FA57E0D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7C0E1-084D-42FA-A950-735AB660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E52E4-1F0B-459D-BF82-DEA8C23EA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02218-E89D-47E0-A15C-09B09590F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A129-B73B-4783-BFEA-15E6D0FB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AE57-66ED-4AA8-9441-A527E2F4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1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15 Forma libre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C018-46A9-4703-AC96-0EBBFA09F82C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10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12 Forma libre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5A7E-4F1C-47CD-9FE5-C162B1EB86C5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10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12 Forma libre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03AD-AA9A-4A42-8FAB-5AF44DAD4A30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0C9F-B678-4814-A2C2-CC503FDA38B6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11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15 Forma libre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B4A6-3B92-41C5-A887-6C7B6794AA39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01D3-8628-4566-ACD6-6139AA21BF72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tate_pattern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1 Título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Hugo Mo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hmora@ing.uchile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¿Tercera aproximación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657600" cy="45259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4267080" y="1600200"/>
            <a:ext cx="3657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Elementos que nos falta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Formalizar mejores práctic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Patrones de diseñ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Notació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Formalizar análisis y diseñ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Lo veremos entre RUP y U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Tare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3 semanas desde día entrega (antes semana 18 sept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Se entregará durante esta seman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Ajustarse al tiemp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Recepción consultas 24x7: ucursos o mai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Más compleja, valdrá el doble que la anteri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Tarea (2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Resolver problema similar, para el juego de Ajedrez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Diseño de clas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so enlace dinám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hay algún if then else, justificarlo muy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lasmar esto en un documento de diseño que indique las decisiones que tomaron y su justific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Implementación Jav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levar el diseño a la prác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Tarea (2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Se entregarán algunos tests unitarios básicos y algunas convenciones de nombres y estructur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Bonus por tests unitarios (JUnit) cread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Primer contro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Conceptos OO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Jav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Elementos de análisis y diseño con UM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Fecha: entre 8 y 29 sep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7467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Objetivo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57" name="3 Marcador de contenido" descr=""/>
          <p:cNvPicPr/>
          <p:nvPr/>
        </p:nvPicPr>
        <p:blipFill>
          <a:blip r:embed="rId1"/>
          <a:stretch/>
        </p:blipFill>
        <p:spPr>
          <a:xfrm>
            <a:off x="450720" y="1573200"/>
            <a:ext cx="7480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Ejemplo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Juego Ga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Queremos poder saber si alguien ganó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Saber a qué jugador le toca jug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Jugar (colocar ficha en posición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Condiciones bor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No se puede colocar una ficha en posición ocupad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Si un jugador intenta una jugada inválida, sigue siendo su turn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Si hace jugada válida, es el turno del siguien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(Tests Unitario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Formalización tests unitario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Necesitamos definir interfaz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Cómo crear un jueg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Como llegar a un estado determinad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jar una posición utiliz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idar que no se puede colocar allí otra fich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Cómo hacer la jugad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Veamos primera aproximación para propuesta de interfaz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Nota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1809720" cy="15714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"/>
          <p:cNvPicPr/>
          <p:nvPr/>
        </p:nvPicPr>
        <p:blipFill>
          <a:blip r:embed="rId2"/>
          <a:stretch/>
        </p:blipFill>
        <p:spPr>
          <a:xfrm>
            <a:off x="5572080" y="1357200"/>
            <a:ext cx="212904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Primera aproxima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581040" y="1957320"/>
            <a:ext cx="3409920" cy="38102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2670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Determinar turn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Arial"/>
              </a:rPr>
              <a:t>Cuando un jugador hace jugada válid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425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Si jugadorActual es X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80000"/>
              </a:lnSpc>
              <a:spcBef>
                <a:spcPts val="374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Arial"/>
              </a:rPr>
              <a:t>Jugador Actual = 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425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Si n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80000"/>
              </a:lnSpc>
              <a:spcBef>
                <a:spcPts val="374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Arial"/>
              </a:rPr>
              <a:t>JugadorActual = X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Colocar fich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Arial"/>
              </a:rPr>
              <a:t>Si no esta ocupada es valida y coloco fich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Arial"/>
              </a:rPr>
              <a:t>Si está ocupada: jugada inválid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¿Para qué diferenciar Ficha X de Ficha O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Arial"/>
              </a:rPr>
              <a:t>Puede ser la misma con atributo distinto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Observacion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Evitemos condiciones (if then else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Ciertas cosas dependen del estad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Jugador actual es estado del jueg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Ocupada o no es estado de posició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Patrón de diseño St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://en.wikipedia.org/wiki/State_pattern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(veracidad discutida, revisar otras fuentes ademá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Segunda Aproxima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2670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Colocar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Arial"/>
              </a:rPr>
              <a:t>casilla ocupada envía mensaje alerta (no se puede)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Arial"/>
              </a:rPr>
              <a:t>casilla desocupada permite juga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estaOcupada es trivi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Luego de colocar efectivamente una ficha se cambia el estado del juego (método otroJugado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Turno va al estado del juego (Jugador) y retorna su nomb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6" descr=""/>
          <p:cNvPicPr/>
          <p:nvPr/>
        </p:nvPicPr>
        <p:blipFill>
          <a:blip r:embed="rId1"/>
          <a:stretch/>
        </p:blipFill>
        <p:spPr>
          <a:xfrm>
            <a:off x="473040" y="1890720"/>
            <a:ext cx="362592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8T03:21:27Z</dcterms:created>
  <dc:creator>Hugo</dc:creator>
  <dc:description/>
  <dc:language>en-US</dc:language>
  <cp:lastModifiedBy>Hugo</cp:lastModifiedBy>
  <dcterms:modified xsi:type="dcterms:W3CDTF">2007-08-18T04:40:56Z</dcterms:modified>
  <cp:revision>8</cp:revision>
  <dc:subject/>
  <dc:title>Ejemplo Diseño Java</dc:title>
</cp:coreProperties>
</file>