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6CF-D74A-4AD3-8110-50D926DA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A5D-947C-4020-9878-B614467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BA5-9831-4F43-A1D6-57F9B7B1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310-49C7-4EB8-921B-144386F4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5B2D-591D-468D-9E9A-14C27761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2C1B-E047-4A2F-82CB-C4A95B16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56BD-9738-4117-8F38-83CA8C3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5595-FCB8-41DC-A16A-A599BAAD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F179-DCA8-47A2-ACB9-68BCEBB1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50EC-95E6-41AE-BA0E-75E9A90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3917-B37F-4EF0-93FE-6751CC7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2AB-FDB2-4B38-ABAC-BA9F2287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C102-463C-4FBF-8A72-C36FCD2E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EE2A-C8A2-4A4A-A08F-DC9B74A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592F-6C74-4D78-8638-9930F025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419E-F342-4129-BF07-9A52D8B6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BADD-0A84-4AD8-B26A-2FE59CCE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2D80-E8D2-4A0B-9B07-C5E56AE0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65CF-824B-4F57-8C59-81367B6C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AC5C-477F-4C6A-8878-F4176ECD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6147-125B-4FE4-9BBF-3FB129FF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8866-9AF2-4FB4-9921-163D151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96A-3647-4199-8B95-1E471622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CFE1-FDA4-4BB7-BFE4-8D280922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801A-5DAB-4D55-BF1F-2B79301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56AA-9BB2-4AEA-9C73-F29B6487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88BA-CA63-45C4-96A6-B74A916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3781-A860-40A2-ACE7-6F1FE0D2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ADCD-0327-4D71-BA5F-672FAB7B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9E82-EC7C-40FE-B05A-85494C75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EA19-5888-429D-81ED-CC0D6435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E4D7A-DDCB-46D9-93BD-B34BED84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5DC4-3823-4C5B-8787-84472A0D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7CB-5506-4A0F-9BDD-237AE518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6E64-9E90-4D9C-A318-61D0374C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9C96-E20B-44F2-AC0D-1EE40A04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E2B7-B908-4854-B8BE-4C38F913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A10F-F910-415E-B069-C768B57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1D06-249B-4FD9-9651-C7FD058A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5FEC-5B69-404F-B8ED-EB68C08A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A134A-8D18-4B93-888C-8C0B762D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B646-8DEC-4DD3-B9D2-7E971548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5109-4821-45BA-A4BC-55C35053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69392-8791-4BE7-A4EA-AD455FCE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11E-F830-4F78-9B9C-1DC479C7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C97F-C545-4E39-B489-EB8AEF2C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AE5E-D889-41ED-AED9-939DFC77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C550-209D-4FC2-89FC-75270703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F423F-A0CE-4300-9FC3-BB50061A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F5DC-FA08-4B45-8BBA-1D524C19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42348-C5E2-4477-8ACD-B8E494F6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78522-5C59-47C0-A1BF-746E107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021AD-1888-459E-888B-F22D0ED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E1ABE-E022-41DD-8A40-412C9C75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0642-DC31-465C-9236-A7875F88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A19-EA8A-4BA5-8AC1-8C8385FE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8CD7-9DEF-484E-B1E2-B191299A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41C0F-95A6-4D4D-A2C6-A7BA8FE4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162E-DE96-4E22-8278-F2C0788D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A8C2-E888-4BCE-A399-6E8D3EC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6B91-0175-4039-A781-431D75DA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796E7-D7B3-4E10-8094-171EFC49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A3E3-D733-4C68-9978-C1A49065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069A-B91A-4556-848F-B6FC2FF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8A8F2-05B9-4585-8D56-57C8C7C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22A5-6BC4-471A-AC32-4A191BEB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0F8-535C-4890-B78D-6980974B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17CF5-0943-4536-8B6D-DAD7CFC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4D36C-9B94-467C-BA45-40432F80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FC4F4-82DB-4C11-9CF2-E21044D7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C98-C382-4076-86B2-B36BC8D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877-435D-44D3-8C13-0463CA3C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49E-DA82-4A77-BD65-AF246770E290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D97-F120-4860-94B1-39774484EE17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EA2C-4D49-4217-81CE-A2D8A7A2099E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1C56-5797-4C4D-AC58-C331676386C0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7151-E259-4C5F-A3F0-06CBFE32C1E7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722B-3581-4F6E-9E22-C8BBB8D3FC16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ugo M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mora@ing.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Facilita el cambio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uy importante: en todo proceso de cambio es vital determinar qué se quiere conserv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Queremos conservar cierto comporta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aso: software se “mejora” u optimi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Funciona más ráp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ero ya no resuelve el problema para el cual fue constru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Simplifica integr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erteza de que componentes testeados funcionan bi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l encontrar que “algo no funciona” en programa de 100 clases, es muy importante saber cuáles están b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Document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xplicita el contrato, que muchas veces no se plasma en un documento de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rogramadores prefieren escribir tests unitarios que un documento de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Les gusta programar y no escribir documentos. De lo contrario, serían escritor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 Separación 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Interfaz-Implement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as pruebas deben ser conceptua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Qué es lo que espero de este objeto, sin pensar en cómo lo voy a constru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est-Driven Develop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xtreme Programming (X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o primero que hago es definir los t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El qué espero de mi diseñ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ólo después viene el có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Un buen diseño DEBE hacer eso en dicho ord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Unit Tests explicitan e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bligan a pensar mejor el proble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Frameworks para unit test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Herramientas según lenguaj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malltalk: SUn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#: AutoTest for .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ava: JUn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utomatizan definición y ejecución de t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lase que prueba una o más cl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DEs entregan reportes visuales de cantidad de tests pasados y n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JUni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Implementación de unit tests más popular para 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www.junit.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Junit – notación 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(versión 4 – Java5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ublic class PruebaCirculo 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@Tes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ublic void pruebaPosicion() 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irculo c = new Circulo(1,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X() ==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Y() ==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.mover(3,5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X() == 3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Y() == 5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Notación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@Test es una anotación java (introducidas en java 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ndica que el método que sigue es una prueb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sado por IDE para mostrar resultados y saber qué ejecu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ssertTrue indica que se espera que lo que viene sea cier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clus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4" name="3 Marcador de contenido" descr=""/>
          <p:cNvPicPr/>
          <p:nvPr/>
        </p:nvPicPr>
        <p:blipFill>
          <a:blip r:embed="rId1"/>
          <a:stretch/>
        </p:blipFill>
        <p:spPr>
          <a:xfrm>
            <a:off x="360360" y="1596960"/>
            <a:ext cx="7650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jetivos p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3 Marcador de contenido" descr=""/>
          <p:cNvPicPr/>
          <p:nvPr/>
        </p:nvPicPr>
        <p:blipFill>
          <a:blip r:embed="rId1"/>
          <a:stretch/>
        </p:blipFill>
        <p:spPr>
          <a:xfrm>
            <a:off x="347760" y="1596960"/>
            <a:ext cx="7662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Demo Eclip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¿Unit testing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n computer programming,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unit testing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is a procedure used to validate that individual units of source code are working properly. A unit is the smallest testable part of an application. In procedural programming a unit may be an individual program, function, procedure, etc., while in object-oriented programming, the smallest unit is always a class; which may be a base/super class, abstract class or derived/child class. Units are distinguished from modules in that modules are typically made up of un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Fuente: Wikip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 sea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Buscamos comprobar que la implementación cumple con ciertas condi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e condiciones y post condicio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cordar idea de “contrat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ás de esto cuando veamos casos de u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stas condiciones serán idealmente conceptuales e independientes de la implemen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Idea detrá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7480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jemp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3 Marcador de contenido" descr=""/>
          <p:cNvPicPr/>
          <p:nvPr/>
        </p:nvPicPr>
        <p:blipFill>
          <a:blip r:embed="rId1"/>
          <a:stretch/>
        </p:blipFill>
        <p:spPr>
          <a:xfrm>
            <a:off x="341280" y="1590840"/>
            <a:ext cx="76024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n jav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class Circulo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ivate int x, 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Circulo(int x, int y)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this.x = x;  this.y = 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mover(int x, int y)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int getX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return x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 //getY análog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trat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l crear círculo, la posición es la que se indicó en el constru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Después de mover, la figura cambia su posi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4 Conector recto"/>
          <p:cNvSpPr/>
          <p:nvPr/>
        </p:nvSpPr>
        <p:spPr>
          <a:xfrm>
            <a:off x="1928880" y="414324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5 Conector recto"/>
          <p:cNvSpPr/>
          <p:nvPr/>
        </p:nvSpPr>
        <p:spPr>
          <a:xfrm>
            <a:off x="1928880" y="442908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6 Conector recto"/>
          <p:cNvSpPr/>
          <p:nvPr/>
        </p:nvSpPr>
        <p:spPr>
          <a:xfrm>
            <a:off x="1928880" y="500076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7 Conector recto"/>
          <p:cNvSpPr/>
          <p:nvPr/>
        </p:nvSpPr>
        <p:spPr>
          <a:xfrm>
            <a:off x="1928880" y="471492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8 Conector recto"/>
          <p:cNvSpPr/>
          <p:nvPr/>
        </p:nvSpPr>
        <p:spPr>
          <a:xfrm>
            <a:off x="1928880" y="528624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9 Conector recto"/>
          <p:cNvSpPr/>
          <p:nvPr/>
        </p:nvSpPr>
        <p:spPr>
          <a:xfrm>
            <a:off x="1928880" y="557208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0 Conector recto"/>
          <p:cNvSpPr/>
          <p:nvPr/>
        </p:nvSpPr>
        <p:spPr>
          <a:xfrm flipH="1">
            <a:off x="206964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13 Conector recto"/>
          <p:cNvSpPr/>
          <p:nvPr/>
        </p:nvSpPr>
        <p:spPr>
          <a:xfrm>
            <a:off x="1928880" y="585792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14 Conector recto"/>
          <p:cNvSpPr/>
          <p:nvPr/>
        </p:nvSpPr>
        <p:spPr>
          <a:xfrm flipH="1">
            <a:off x="247608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15 Conector recto"/>
          <p:cNvSpPr/>
          <p:nvPr/>
        </p:nvSpPr>
        <p:spPr>
          <a:xfrm flipH="1">
            <a:off x="288144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16 Conector recto"/>
          <p:cNvSpPr/>
          <p:nvPr/>
        </p:nvSpPr>
        <p:spPr>
          <a:xfrm flipH="1">
            <a:off x="328572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17 Conector recto"/>
          <p:cNvSpPr/>
          <p:nvPr/>
        </p:nvSpPr>
        <p:spPr>
          <a:xfrm flipH="1">
            <a:off x="369108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18 Conector recto"/>
          <p:cNvSpPr/>
          <p:nvPr/>
        </p:nvSpPr>
        <p:spPr>
          <a:xfrm flipH="1">
            <a:off x="409572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19 Conector recto"/>
          <p:cNvSpPr/>
          <p:nvPr/>
        </p:nvSpPr>
        <p:spPr>
          <a:xfrm flipH="1">
            <a:off x="450072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20 CuadroTexto"/>
          <p:cNvSpPr/>
          <p:nvPr/>
        </p:nvSpPr>
        <p:spPr>
          <a:xfrm>
            <a:off x="1785960" y="5857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21 CuadroTexto"/>
          <p:cNvSpPr/>
          <p:nvPr/>
        </p:nvSpPr>
        <p:spPr>
          <a:xfrm>
            <a:off x="2738520" y="60246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22 CuadroTexto"/>
          <p:cNvSpPr/>
          <p:nvPr/>
        </p:nvSpPr>
        <p:spPr>
          <a:xfrm>
            <a:off x="3571920" y="59961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23 CuadroTexto"/>
          <p:cNvSpPr/>
          <p:nvPr/>
        </p:nvSpPr>
        <p:spPr>
          <a:xfrm>
            <a:off x="1643040" y="5072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24 CuadroTexto"/>
          <p:cNvSpPr/>
          <p:nvPr/>
        </p:nvSpPr>
        <p:spPr>
          <a:xfrm>
            <a:off x="1643040" y="450072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25 Elipse"/>
          <p:cNvSpPr/>
          <p:nvPr/>
        </p:nvSpPr>
        <p:spPr>
          <a:xfrm>
            <a:off x="2214720" y="5286240"/>
            <a:ext cx="571320" cy="5716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26 CuadroTexto"/>
          <p:cNvSpPr/>
          <p:nvPr/>
        </p:nvSpPr>
        <p:spPr>
          <a:xfrm>
            <a:off x="6150960" y="450072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rculo c = New Circulo(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27 CuadroTexto"/>
          <p:cNvSpPr/>
          <p:nvPr/>
        </p:nvSpPr>
        <p:spPr>
          <a:xfrm>
            <a:off x="6314400" y="4929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mover(3,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28 Elipse"/>
          <p:cNvSpPr/>
          <p:nvPr/>
        </p:nvSpPr>
        <p:spPr>
          <a:xfrm>
            <a:off x="3000240" y="4143240"/>
            <a:ext cx="571680" cy="5716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est unitario clase Circu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irculo c = new Circulo(1, 1)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X() sea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Y() sea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.mover(3,5)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X() sea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Y() sea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0:48:55Z</dcterms:created>
  <dc:creator>Hugo</dc:creator>
  <dc:description/>
  <dc:language>en-US</dc:language>
  <cp:lastModifiedBy>Hugo</cp:lastModifiedBy>
  <dcterms:modified xsi:type="dcterms:W3CDTF">2007-08-18T03:02:19Z</dcterms:modified>
  <cp:revision>14</cp:revision>
  <dc:subject/>
  <dc:title>Unit testing</dc:title>
</cp:coreProperties>
</file>