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A46-CFA5-4B0D-AB78-5864ECA0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908-56A8-498C-AC05-860935CC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CE8-C237-4FDA-AC2A-CFD8F01B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938-7BBB-46C4-A2F4-DB86EEF0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0C7E-C9C9-4B3B-A32D-1664EAFC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4DF0-D325-4E91-B227-071F5C7F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8647-84A3-4DFB-9AA1-61808425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8A8C-FA80-4AC4-BD7C-B5223F66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8555-B9FE-48C9-8BD8-916ECE0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BC65-E63E-4FF2-AB9A-4F27455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3D57-4A3E-4C60-949C-6FCE0A7A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F4D-9C6E-499C-A741-523C0792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4A62-53EC-4164-BE86-1C66E945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3B91-37DD-4FEB-ACA5-F27243EC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8296-87E7-4EB7-830D-B4763D95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2C26-1D39-4A3E-BC06-18AC42F4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98B-A688-425B-A370-2B1FED91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7F97-F0AC-43B4-8F12-85FE5E60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37C0-7B48-47C0-84D5-894633AE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B6AD-C5A8-479B-9686-D7FA26D0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8E02-90DE-4FE9-A326-096045D3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4C24-A3E9-4811-94F4-17028521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0F9-5FFB-4E69-9635-E31A7FCC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BD34-C60A-4BA0-A96C-C5C185CA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FEA0-0840-49BC-9436-E126DE6C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CA1E6-4FFC-461E-AC52-35B05104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FCEE-2600-4CD8-BD57-5047254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2E3B-15D9-40A8-AF46-5D36B51C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EDE1-7EDA-484B-9750-36FCA7D6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7BBB-5B0D-438A-878E-63753A9F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48E74-BBCA-44C1-A81A-BB5B5234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89D3-11B3-4165-BB03-39395F54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3EA08-FE3D-4CB4-85BA-A8A13685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2DB-9114-4B7A-A416-E0AB024F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5FAF-0823-41BD-8EDE-0C061850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5B8F-B95D-4C43-B861-C30FBB0E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607A-EA45-4CCE-BC97-75022618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5977B-E787-4FBD-B621-CCEB510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9E5A4-5AED-4B42-BE5B-100754E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03AC-4A76-42CF-8FA8-232F546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AD1C-7A65-4754-A12F-41E44E03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AA59-6CF7-483E-9A3F-3CE80375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265FC-54B0-474C-8BED-DDE802D7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3A0BB-A94E-4AFB-BE81-90F6599C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9F6-E2FC-4981-9CE5-1F11702E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91B1-25EE-43C0-A46E-753287F8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5912-E718-4550-B40B-9EAACE62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4629D-7CC8-4569-95C4-FB4FE1CE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082FD-A7D7-443E-B445-07FF6D89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A743D-28B3-4C61-9BCB-4FAF571A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88D3-0BE8-4A05-8FDF-A6E65BE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209D0-A6AC-4053-87B6-05AAC4BF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5C51-46DA-4E68-AF19-72D9EDDE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CD69-BA5D-4F9E-A169-4BAA5972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13C7-ECF6-4179-A254-9FDCFDED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00E-5304-4DC9-90D2-C8EE9F0E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8973-1EC0-47BA-899D-5BA81B90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038B5-10D1-407A-A8D6-0F188CD7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9CE6C-2FE2-4AAB-B210-0DC45F05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4A14-EBC1-4C27-A1DC-C4AD32BC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16F87-0B78-4595-85AC-1DB17268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9B9AB-1036-4219-A6D1-321D8A2F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2CA8C-2094-4D4E-8CFC-ED00A441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00EAF-CBFB-4979-8185-8A3FCD02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4293A-8946-4617-8640-33DDDE4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86081-C36F-4D36-B6D3-111D8E2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953-3448-487E-BBCC-E2C2F7AB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E7255-5608-434B-BFC4-04AC6DBB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85494-A897-43E6-B50C-982180F6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C0F44-C9E0-4527-A4A9-4D4F8B6C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F7B-523B-44F7-AC4B-ADF55539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AF0-C4BA-4084-AD9F-F6F5EB80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3FBA-225F-4016-B47C-2C4C3B2D6E46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B9E9-6655-4EF7-94E2-E78A9328EFEE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A930-BB13-4774-ABE8-46BB71EE2FAF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6848-6F6B-4F5B-B601-84C268922C74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F1C4-B6F4-4AED-B31B-799D348B13CF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B992-416B-4934-9214-6310C151D112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ugo M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mora@ing.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Facilita el cambio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uy importante: en todo proceso de cambio es vital determinar qué se quiere conserv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Queremos conservar cierto comporta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aso: software se “mejora” u optimi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Funciona más ráp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ero ya no resuelve el problema para el cual fue constru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Simplifica integració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erteza de que componentes testeados funcionan bi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l encontrar que “algo no funciona” en programa de 100 clases, es muy importante saber cuáles están b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Documentació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xplicita el contrato, que muchas veces no se plasma en un documento de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rogramadores prefieren escribir tests unitarios que un documento de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Les gusta programar y no escribir documentos. De lo contrario, serían escritor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 Separación 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Interfaz-Implementació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as pruebas deben ser conceptua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Qué es lo que espero de este objeto, sin pensar en cómo lo voy a constru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est-Driven Develop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xtreme Programming (XP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o primero que hago es definir los te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El qué espero de mi diseñ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ólo después viene el có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Un buen diseño DEBE hacer eso en dicho ord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Unit Tests explicitan e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Obligan a pensar mejor el proble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Frameworks para unit test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Herramientas según lenguaj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malltalk: SUn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#: AutoTest for .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Java: JUn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utomatizan definición y ejecución de te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lase que prueba una o más cl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DEs entregan reportes visuales de cantidad de tests pasados y n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JUni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Implementación de unit tests más popular para ja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www.junit.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Junit – notación 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(versión 4 – Java5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ublic class PruebaCirculo 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@Tes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ublic void pruebaPosicion() 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irculo c = new Circulo(1, 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X() == 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Y() == 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.mover(3,5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X() == 3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Y() == 5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Notación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@Test es una anotación java (introducidas en java 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ndica que el método que sigue es una prueb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sado por IDE para mostrar resultados y saber qué ejecu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ssertTrue indica que se espera que lo que viene sea cier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clus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4" name="3 Marcador de contenido" descr=""/>
          <p:cNvPicPr/>
          <p:nvPr/>
        </p:nvPicPr>
        <p:blipFill>
          <a:blip r:embed="rId1"/>
          <a:stretch/>
        </p:blipFill>
        <p:spPr>
          <a:xfrm>
            <a:off x="360360" y="1596960"/>
            <a:ext cx="7650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jetivos p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3 Marcador de contenido" descr=""/>
          <p:cNvPicPr/>
          <p:nvPr/>
        </p:nvPicPr>
        <p:blipFill>
          <a:blip r:embed="rId1"/>
          <a:stretch/>
        </p:blipFill>
        <p:spPr>
          <a:xfrm>
            <a:off x="347760" y="1596960"/>
            <a:ext cx="7662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Demo Eclip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¿Unit testing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just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n computer programming,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unit testing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is a procedure used to validate that individual units of source code are working properly. A unit is the smallest testable part of an application. In procedural programming a unit may be an individual program, function, procedure, etc., while in object-oriented programming, the smallest unit is always a class; which may be a base/super class, abstract class or derived/child class. Units are distinguished from modules in that modules are typically made up of un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Fuente: Wikipe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 sea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Buscamos comprobar que la implementación cumple con ciertas condi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e condiciones y post condicio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cordar idea de “contrat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ás de esto cuando veamos casos de u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stas condiciones serán idealmente conceptuales e independientes de la implement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Idea detrá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3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74804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jemp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3 Marcador de contenido" descr=""/>
          <p:cNvPicPr/>
          <p:nvPr/>
        </p:nvPicPr>
        <p:blipFill>
          <a:blip r:embed="rId1"/>
          <a:stretch/>
        </p:blipFill>
        <p:spPr>
          <a:xfrm>
            <a:off x="341280" y="1590840"/>
            <a:ext cx="76024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n jav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class Circulo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ivate int x, 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Circulo(int x, int y)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this.x = x;  this.y = 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mover(int x, int y)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int getX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return x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 //getY análog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trat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l crear círculo, la posición es la que se indicó en el constru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Después de mover, la figura cambia su posi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4 Conector recto"/>
          <p:cNvSpPr/>
          <p:nvPr/>
        </p:nvSpPr>
        <p:spPr>
          <a:xfrm>
            <a:off x="1928880" y="414324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5 Conector recto"/>
          <p:cNvSpPr/>
          <p:nvPr/>
        </p:nvSpPr>
        <p:spPr>
          <a:xfrm>
            <a:off x="1928880" y="442908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6 Conector recto"/>
          <p:cNvSpPr/>
          <p:nvPr/>
        </p:nvSpPr>
        <p:spPr>
          <a:xfrm>
            <a:off x="1928880" y="5000760"/>
            <a:ext cx="3357360" cy="144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7 Conector recto"/>
          <p:cNvSpPr/>
          <p:nvPr/>
        </p:nvSpPr>
        <p:spPr>
          <a:xfrm>
            <a:off x="1928880" y="4714920"/>
            <a:ext cx="3357360" cy="144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8 Conector recto"/>
          <p:cNvSpPr/>
          <p:nvPr/>
        </p:nvSpPr>
        <p:spPr>
          <a:xfrm>
            <a:off x="1928880" y="528624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9 Conector recto"/>
          <p:cNvSpPr/>
          <p:nvPr/>
        </p:nvSpPr>
        <p:spPr>
          <a:xfrm>
            <a:off x="1928880" y="557208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10 Conector recto"/>
          <p:cNvSpPr/>
          <p:nvPr/>
        </p:nvSpPr>
        <p:spPr>
          <a:xfrm flipH="1">
            <a:off x="2069640" y="4002120"/>
            <a:ext cx="180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13 Conector recto"/>
          <p:cNvSpPr/>
          <p:nvPr/>
        </p:nvSpPr>
        <p:spPr>
          <a:xfrm>
            <a:off x="1928880" y="5857920"/>
            <a:ext cx="3357360" cy="144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14 Conector recto"/>
          <p:cNvSpPr/>
          <p:nvPr/>
        </p:nvSpPr>
        <p:spPr>
          <a:xfrm flipH="1">
            <a:off x="2476080" y="4002120"/>
            <a:ext cx="180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15 Conector recto"/>
          <p:cNvSpPr/>
          <p:nvPr/>
        </p:nvSpPr>
        <p:spPr>
          <a:xfrm flipH="1">
            <a:off x="288144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16 Conector recto"/>
          <p:cNvSpPr/>
          <p:nvPr/>
        </p:nvSpPr>
        <p:spPr>
          <a:xfrm flipH="1">
            <a:off x="3285720" y="4002120"/>
            <a:ext cx="180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17 Conector recto"/>
          <p:cNvSpPr/>
          <p:nvPr/>
        </p:nvSpPr>
        <p:spPr>
          <a:xfrm flipH="1">
            <a:off x="369108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18 Conector recto"/>
          <p:cNvSpPr/>
          <p:nvPr/>
        </p:nvSpPr>
        <p:spPr>
          <a:xfrm flipH="1">
            <a:off x="409572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19 Conector recto"/>
          <p:cNvSpPr/>
          <p:nvPr/>
        </p:nvSpPr>
        <p:spPr>
          <a:xfrm flipH="1">
            <a:off x="450072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20 CuadroTexto"/>
          <p:cNvSpPr/>
          <p:nvPr/>
        </p:nvSpPr>
        <p:spPr>
          <a:xfrm>
            <a:off x="1785960" y="5857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21 CuadroTexto"/>
          <p:cNvSpPr/>
          <p:nvPr/>
        </p:nvSpPr>
        <p:spPr>
          <a:xfrm>
            <a:off x="2738520" y="60246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22 CuadroTexto"/>
          <p:cNvSpPr/>
          <p:nvPr/>
        </p:nvSpPr>
        <p:spPr>
          <a:xfrm>
            <a:off x="3571920" y="59961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23 CuadroTexto"/>
          <p:cNvSpPr/>
          <p:nvPr/>
        </p:nvSpPr>
        <p:spPr>
          <a:xfrm>
            <a:off x="1643040" y="5072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24 CuadroTexto"/>
          <p:cNvSpPr/>
          <p:nvPr/>
        </p:nvSpPr>
        <p:spPr>
          <a:xfrm>
            <a:off x="1643040" y="450072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25 Elipse"/>
          <p:cNvSpPr/>
          <p:nvPr/>
        </p:nvSpPr>
        <p:spPr>
          <a:xfrm>
            <a:off x="2214720" y="5286240"/>
            <a:ext cx="571320" cy="5716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26 CuadroTexto"/>
          <p:cNvSpPr/>
          <p:nvPr/>
        </p:nvSpPr>
        <p:spPr>
          <a:xfrm>
            <a:off x="6150960" y="450072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rculo c = New Circulo(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27 CuadroTexto"/>
          <p:cNvSpPr/>
          <p:nvPr/>
        </p:nvSpPr>
        <p:spPr>
          <a:xfrm>
            <a:off x="6314400" y="4929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mover(3,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28 Elipse"/>
          <p:cNvSpPr/>
          <p:nvPr/>
        </p:nvSpPr>
        <p:spPr>
          <a:xfrm>
            <a:off x="3000240" y="4143240"/>
            <a:ext cx="571680" cy="5716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est unitario clase Circu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irculo c = new Circulo(1, 1)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X() sea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Y() sea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.mover(3,5)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X() sea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Y() sea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0:48:55Z</dcterms:created>
  <dc:creator>Hugo</dc:creator>
  <dc:description/>
  <dc:language>en-US</dc:language>
  <cp:lastModifiedBy>Hugo</cp:lastModifiedBy>
  <dcterms:modified xsi:type="dcterms:W3CDTF">2007-08-18T03:02:19Z</dcterms:modified>
  <cp:revision>14</cp:revision>
  <dc:subject/>
  <dc:title>Unit testing</dc:title>
</cp:coreProperties>
</file>