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D9F-AB7B-4FE9-9396-D2215635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95D-E5FC-44FB-B922-8F71311D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AC8-B688-4645-A5DB-5732CBA5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EFE-F25B-4851-88D8-DB352929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9392-D41B-4E07-B42F-676C62074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06B0-F74A-4B00-BB72-645A330F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C5DD-367C-4C7C-AA29-81E6C51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20CC-67F3-4487-ABE1-691B5F7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B4BB-C79D-4BA2-9EBE-2C746611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9EF5-EE15-40C2-A14C-90A6A0BE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72FD-3EC4-4694-888E-F612393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536D-1569-4A84-8013-0AF5B9D1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BF7F-DF40-41F2-A750-400FB0BB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8203-B5BA-4A2D-97DA-2A4DB10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8549-685C-4BEE-A537-F8AE7A35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4F0D-E4BA-4055-83C4-D68E23ED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CBFF-6909-4A2D-A82C-639646B2A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0DF9-A186-4B55-94C4-1DB73909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6D0A7-E552-4AE5-8B86-E1A16702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71B7-F969-4BEF-8E70-2FEDCEF9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815C-FDDF-4D9A-81FB-2C6B8C33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BFF6-9F57-40FF-87FC-543CDC8E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713-4DE9-4023-841C-4A41BCEE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BBF3-84AF-4B8A-BEC5-31ED2CD3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6A8E7-8852-4A31-8EE7-411A2B95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03DA-0364-4033-8AB1-52BF4DD8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34493-0C00-4723-867A-389F2FB3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12634-34C1-475D-8359-3AC6F48F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331ED-CBFF-4840-898C-A3276B70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66C7-3953-48D7-9793-FF7EA320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56941-60EF-48FB-AF1D-368BDA7D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76FDB-906B-415F-838D-816A6E22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EBA1-D7EA-4194-94F1-86557AE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1F7-2B17-4F28-8173-E956ABD9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B56A-8B8A-420C-A94C-3EDA8344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1442-FE0D-4DFD-A55B-92BC1F91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D9DC-83CD-420B-A798-D8FEDD8D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F8EE8-0CC5-4240-9679-6BE4E84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5B78-6B16-4983-BA3B-BA2FA07A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5CAEF-3024-4FF4-B998-3F53B5CB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11946-8282-4AA6-8C85-FE103FC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451B-4FAC-41B7-8D0C-8D31B011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77FA-9914-4E49-A202-80CD795F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3FF08-30C3-4023-8D6E-B322805B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D18-B72B-4FE7-8D6D-DDAC805A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7437-2CC1-41A6-93D5-1B0809A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22ABA-DB2F-4B51-9408-700005A0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EF44-7D85-4563-B62F-37B54CF3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80CD6-CD25-4010-B4EE-2D2D3894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F9080-AB05-44F0-8441-E438B9E0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7E69E-CCD3-44EA-8E6E-B7C2A19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EE893-C9C8-4398-AD86-DB8D0C00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552A3-7C3E-433E-970B-43D12F8E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CBA47-E87F-4D79-AD97-7E430695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0B4C-1391-474B-810F-8A292EF0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A38-5DD7-4198-9F9A-235B8201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1E648-38D2-4D17-B7E9-042E0EE3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9A17C-0F7D-4851-A945-D13362D7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FE691-201F-480E-A0AE-76B91079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DD09D-F37A-458A-AC61-4F3C004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92011-B495-480E-A758-07D39E0A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AC427-E20A-4496-BA7C-FB605C23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21F7C-5CE7-4261-94A4-9ED890E0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23899-6D84-418C-AC3B-7FFA062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7DC4C-C0B5-4B58-90F2-BE8826EE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F5709-7EEC-4355-B167-9C9826B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14B-7CAC-4D98-8D67-F23F07E0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6DC4B-3CDE-4AAF-9C19-397D519D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27B93-0496-4605-BB1D-51B68E16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99CAD-0745-4182-A559-C895A6CD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C9B-D943-49E4-951A-2A7D30B5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2B65-B667-46AE-9D69-17CD76D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2EA1-ED71-4EE2-9863-2902663F9A23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40A9-08E6-479D-9025-968FDA61D959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10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12 Forma libre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7C53-7940-433B-B27D-9C12E0612B6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60D2-7DEB-4FB0-9A4F-89AD72EEBF52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5BB3-86A1-4D31-B44D-EF12D18A03E5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1570-38C8-4DD5-A468-F909C9272D0A}" type="slidenum">
              <a:rPr b="0" lang="es-CL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1 Título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ugo M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hmora@ing.uchile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Facilita el cambio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Muy importante: en todo proceso de cambio es vital determinar qué se quiere conserv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Queremos conservar cierto comporta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aso: software se “mejora” u optimiz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Funciona más ráp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ero ya no resuelve el problema para el cual fue constru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Simplifica integr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erteza de que componentes testeados funcionan bi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l encontrar que “algo no funciona” en programa de 100 clases, es muy importante saber cuáles están b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Document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xplicita el contrato, que muchas veces no se plasma en un documento de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Programadores prefieren escribir tests unitarios que un documento de diseñ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Les gusta programar y no escribir documentos. De lo contrario, serían escritor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Beneficios: Separación 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Interfaz-Implementación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as pruebas deben ser conceptua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Qué es lo que espero de este objeto, sin pensar en cómo lo voy a constru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est-Driven Developmen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xtreme Programming (XP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Lo primero que hago es definir los t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El qué espero de mi diseñ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ólo después viene el cóm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Un buen diseño DEBE hacer eso en dicho ord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Unit Tests explicitan es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Obligan a pensar mejor el proble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Frameworks para unit test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Herramientas según lenguaj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Smalltalk: SUn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#: AutoTest for .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Java: JUn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utomatizan definición y ejecución de te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lase que prueba una o más cl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DEs entregan reportes visuales de cantidad de tests pasados y n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JUni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Implementación de unit tests más popular para jav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www.junit.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Junit – notación </a:t>
            </a:r>
            <a:br>
              <a:rPr sz="4100"/>
            </a:br>
            <a:r>
              <a:rPr b="0" lang="es-ES_tradnl" sz="4100" spc="-1" strike="noStrike">
                <a:solidFill>
                  <a:srgbClr val="ffffff"/>
                </a:solidFill>
                <a:latin typeface="Franklin Gothic Book"/>
              </a:rPr>
              <a:t>(versión 4 – Java5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ublic class PruebaCirculo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@Tes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ublic void pruebaPosicion() {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irculo c = new Circulo(1,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X() ==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Y() == 1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.mover(3,5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X() == 3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assertTrue(c.getY() == 5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Notación (2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@Test es una anotación java (introducidas en java 5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Indica que el método que sigue es una prueb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sado por IDE para mostrar resultados y saber qué ejecu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ssertTrue indica que se espera que lo que viene sea cier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clus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4" name="3 Marcador de contenido" descr=""/>
          <p:cNvPicPr/>
          <p:nvPr/>
        </p:nvPicPr>
        <p:blipFill>
          <a:blip r:embed="rId1"/>
          <a:stretch/>
        </p:blipFill>
        <p:spPr>
          <a:xfrm>
            <a:off x="360360" y="1596960"/>
            <a:ext cx="7650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bjetivos presentació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7" name="3 Marcador de contenido" descr=""/>
          <p:cNvPicPr/>
          <p:nvPr/>
        </p:nvPicPr>
        <p:blipFill>
          <a:blip r:embed="rId1"/>
          <a:stretch/>
        </p:blipFill>
        <p:spPr>
          <a:xfrm>
            <a:off x="347760" y="1596960"/>
            <a:ext cx="76626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Demo Eclip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¿Unit testing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just">
              <a:lnSpc>
                <a:spcPct val="8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In computer programming,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unit testing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 is a procedure used to validate that individual units of source code are working properly. A unit is the smallest testable part of an application. In procedural programming a unit may be an individual program, function, procedure, etc., while in object-oriented programming, the smallest unit is always a class; which may be a base/super class, abstract class or derived/child class. Units are distinguished from modules in that modules are typically made up of un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Fuente: Wikiped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O sea…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Buscamos comprobar que la implementación cumple con ciertas condi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re condiciones y post condicio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cordar idea de “contrat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ás de esto cuando veamos casos de u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Estas condiciones serán idealmente conceptuales e independientes de la implementa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Idea detrá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3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74804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jemp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3 Marcador de contenido" descr=""/>
          <p:cNvPicPr/>
          <p:nvPr/>
        </p:nvPicPr>
        <p:blipFill>
          <a:blip r:embed="rId1"/>
          <a:stretch/>
        </p:blipFill>
        <p:spPr>
          <a:xfrm>
            <a:off x="341280" y="1590840"/>
            <a:ext cx="76024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En jav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class Circulo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ivate int x, 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Circulo(int x, int y)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this.x = x;  this.y = 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mover(int x, int y)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ublic int getX {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return x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 //getY análog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Contrat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Al crear círculo, la posición es la que se indicó en el construc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Después de mover, la figura cambia su posició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4 Conector recto"/>
          <p:cNvSpPr/>
          <p:nvPr/>
        </p:nvSpPr>
        <p:spPr>
          <a:xfrm>
            <a:off x="1928880" y="414324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5 Conector recto"/>
          <p:cNvSpPr/>
          <p:nvPr/>
        </p:nvSpPr>
        <p:spPr>
          <a:xfrm>
            <a:off x="1928880" y="442908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6 Conector recto"/>
          <p:cNvSpPr/>
          <p:nvPr/>
        </p:nvSpPr>
        <p:spPr>
          <a:xfrm>
            <a:off x="1928880" y="500076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7 Conector recto"/>
          <p:cNvSpPr/>
          <p:nvPr/>
        </p:nvSpPr>
        <p:spPr>
          <a:xfrm>
            <a:off x="1928880" y="471492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8 Conector recto"/>
          <p:cNvSpPr/>
          <p:nvPr/>
        </p:nvSpPr>
        <p:spPr>
          <a:xfrm>
            <a:off x="1928880" y="528624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9 Conector recto"/>
          <p:cNvSpPr/>
          <p:nvPr/>
        </p:nvSpPr>
        <p:spPr>
          <a:xfrm>
            <a:off x="1928880" y="5572080"/>
            <a:ext cx="3357360" cy="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10 Conector recto"/>
          <p:cNvSpPr/>
          <p:nvPr/>
        </p:nvSpPr>
        <p:spPr>
          <a:xfrm flipH="1">
            <a:off x="206964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13 Conector recto"/>
          <p:cNvSpPr/>
          <p:nvPr/>
        </p:nvSpPr>
        <p:spPr>
          <a:xfrm>
            <a:off x="1928880" y="5857920"/>
            <a:ext cx="3357360" cy="144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4 Conector recto"/>
          <p:cNvSpPr/>
          <p:nvPr/>
        </p:nvSpPr>
        <p:spPr>
          <a:xfrm flipH="1">
            <a:off x="247608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15 Conector recto"/>
          <p:cNvSpPr/>
          <p:nvPr/>
        </p:nvSpPr>
        <p:spPr>
          <a:xfrm flipH="1">
            <a:off x="288144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16 Conector recto"/>
          <p:cNvSpPr/>
          <p:nvPr/>
        </p:nvSpPr>
        <p:spPr>
          <a:xfrm flipH="1">
            <a:off x="3285720" y="4002120"/>
            <a:ext cx="180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17 Conector recto"/>
          <p:cNvSpPr/>
          <p:nvPr/>
        </p:nvSpPr>
        <p:spPr>
          <a:xfrm flipH="1">
            <a:off x="369108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18 Conector recto"/>
          <p:cNvSpPr/>
          <p:nvPr/>
        </p:nvSpPr>
        <p:spPr>
          <a:xfrm flipH="1">
            <a:off x="409572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19 Conector recto"/>
          <p:cNvSpPr/>
          <p:nvPr/>
        </p:nvSpPr>
        <p:spPr>
          <a:xfrm flipH="1">
            <a:off x="4500720" y="4002120"/>
            <a:ext cx="1440" cy="2071800"/>
          </a:xfrm>
          <a:prstGeom prst="line">
            <a:avLst/>
          </a:prstGeom>
          <a:ln w="9360">
            <a:solidFill>
              <a:srgbClr val="219a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20 CuadroTexto"/>
          <p:cNvSpPr/>
          <p:nvPr/>
        </p:nvSpPr>
        <p:spPr>
          <a:xfrm>
            <a:off x="1785960" y="58579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21 CuadroTexto"/>
          <p:cNvSpPr/>
          <p:nvPr/>
        </p:nvSpPr>
        <p:spPr>
          <a:xfrm>
            <a:off x="2738520" y="60246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22 CuadroTexto"/>
          <p:cNvSpPr/>
          <p:nvPr/>
        </p:nvSpPr>
        <p:spPr>
          <a:xfrm>
            <a:off x="3571920" y="599616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23 CuadroTexto"/>
          <p:cNvSpPr/>
          <p:nvPr/>
        </p:nvSpPr>
        <p:spPr>
          <a:xfrm>
            <a:off x="1643040" y="5072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24 CuadroTexto"/>
          <p:cNvSpPr/>
          <p:nvPr/>
        </p:nvSpPr>
        <p:spPr>
          <a:xfrm>
            <a:off x="1643040" y="4500720"/>
            <a:ext cx="3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25 Elipse"/>
          <p:cNvSpPr/>
          <p:nvPr/>
        </p:nvSpPr>
        <p:spPr>
          <a:xfrm>
            <a:off x="2214720" y="5286240"/>
            <a:ext cx="571320" cy="5716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26 CuadroTexto"/>
          <p:cNvSpPr/>
          <p:nvPr/>
        </p:nvSpPr>
        <p:spPr>
          <a:xfrm>
            <a:off x="6150960" y="45007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irculo c = New Circulo(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27 CuadroTexto"/>
          <p:cNvSpPr/>
          <p:nvPr/>
        </p:nvSpPr>
        <p:spPr>
          <a:xfrm>
            <a:off x="6314400" y="492912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.mover(3,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28 Elipse"/>
          <p:cNvSpPr/>
          <p:nvPr/>
        </p:nvSpPr>
        <p:spPr>
          <a:xfrm>
            <a:off x="3000240" y="4143240"/>
            <a:ext cx="571680" cy="5716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ffffff"/>
                </a:solidFill>
                <a:latin typeface="Franklin Gothic Book"/>
              </a:rPr>
              <a:t>Test unitario clase Circul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irculo c = new Circulo(1, 1)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X() sea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Y() sea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c.mover(3,5)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X() sea 3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Validar que c.getY() sea 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8T00:48:55Z</dcterms:created>
  <dc:creator>Hugo</dc:creator>
  <dc:description/>
  <dc:language>en-US</dc:language>
  <cp:lastModifiedBy>Hugo</cp:lastModifiedBy>
  <dcterms:modified xsi:type="dcterms:W3CDTF">2007-08-18T03:02:19Z</dcterms:modified>
  <cp:revision>14</cp:revision>
  <dc:subject/>
  <dc:title>Unit testing</dc:title>
</cp:coreProperties>
</file>