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582-EF9B-43F4-8C87-9FD44E4D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529-7426-407B-A592-E1C77F9D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4C0-FBE5-4739-ADB6-411172F0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1D6-20E0-4A7E-965B-384F249D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D354-4E17-439E-816E-585B0FD5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3AF7-6846-465A-A070-33C1E421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D428-387D-4364-8042-D8860386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9F22-14C4-4279-9474-842E396D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6164-E16B-46F0-9C71-46A05404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6FC3-61E1-4C17-9CDB-276EFFF6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2958-383D-42B0-B3A4-831BA9F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48A-F349-4487-8C1C-182E5C3A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6B1-B850-40D9-9BA6-C04C8EC9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5D09-1078-462D-9043-1575EF3A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1212-C8A6-4488-911A-72710DF3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BA25-53A6-452B-9E7B-9B558236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3751-6C06-40EF-896F-A1B178E7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E87-10E2-4620-AD9C-1E21E719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FD8-EF1F-4E7E-9E41-029A95DB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878-5539-4A06-9D63-ACBB41E8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361-C14B-4D48-AF18-97B78438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6F2-33DF-4EF6-91C1-673EA906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110-61A1-48EB-97F8-E510D67D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8A3-D356-4261-9582-BF4E8F6F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3931-498C-4A69-938F-C751B094671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– Noviembre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1C56-427D-4E71-B30F-518D4FC793E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416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MÓDULO AUXILIAR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Enfoque de Protección Social y de Manejo Social del Riesgo del Banco Mundial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ula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4 de noviem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Enfoque de Manejo Social del Riesgo: Concepto de Protección Soci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52400"/>
            <a:ext cx="799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Times New Roman"/>
              </a:rPr>
              <a:t>Protección social: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 Conjunto de intervenciones públicas dirigidas a apoyar a las personas, hogares y comunidades a mejorar su manejo del riesgo, particularmente a quienes se encuentran en extrema pobrez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Función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roteger subsistencia básica (red asistencial): prestar apoyo a los pobres en situación crí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romover la disposición a asumir riesgos (trampolín para salir gradualmente de la  pobreza crónica ): proveer herramientas para prevenir, mitigar y aliviar situaciones de quiebre de ingreso; asistir a los individuos, hogares y comunidades a manejar el riesgo de mejor fo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Enfoque de Manejo Social del Riesgo Funciones que define al Estad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4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jecutar medidas de política para la prevención del ries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Facilitar el establecimiento de instituciones financieras de mercado, supervisar y fiscalizar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ntregar instrumentos de MSR en aquellas áreas donde el sector privado no funciona bien  o donde los individuos carecen de información para acceder adecuad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porcionar redes de protección social para aliviar el efecto de los riesg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Decretar la redistribución de ingresos si los resultados de mercado se consideran inaceptables desde el punto de vista del bienestar so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Comentarios al enfoque de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8002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Va más allá de redes de protección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Visión algo más compleja y multivariable de la pobreza ( y centrada en las causas, no en os síntomas de ell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 plantea la idea de “transferencias condicionadas” (derechos y debere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pone la creación de un Sistema de protección social (más que programas aisl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Unidad de intervención más allá del individuo (famili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conoce la existencia de capacidades en sectores pobres, la importancia de fortalecer su voz y modificar conduc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conoce también la centralidad de variables políticas y de poder (accionar del estado y de actores socia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mplia el espectro de actores o agentes involucrados, aunque supone una lógica de acción determinada (racionalidad económica o utilitari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12560"/>
            <a:ext cx="8302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Aplicación instrumental del enfoque en Chile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FOSIS: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2039400"/>
            <a:ext cx="84960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iendo una parte de las categorías incluidas en el enfoque de MSR elabora una matriz de análisis de riesgo por región y comun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triz define grupos objetivos (etarios, familia y comunidad), identifica para cada uno el riesgo principal, si tiene o no las condiciones mínimas necesarias para enfrentar el riesgo principal de buena manera y si hay presencia de factores protector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 panorama se complementa con una “mapa de oportunidades” que representa la oferta programática del FOSIS y de otros en el  terr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28800" y="722160"/>
            <a:ext cx="556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anejo Social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533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4920" y="152280"/>
            <a:ext cx="2209680" cy="1752840"/>
            <a:chOff x="304920" y="152280"/>
            <a:chExt cx="2209680" cy="1752840"/>
          </a:xfrm>
        </p:grpSpPr>
        <p:sp>
          <p:nvSpPr>
            <p:cNvPr id="114" name=""/>
            <p:cNvSpPr/>
            <p:nvPr/>
          </p:nvSpPr>
          <p:spPr>
            <a:xfrm>
              <a:off x="304920" y="152280"/>
              <a:ext cx="2209680" cy="17528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380880"/>
              <a:ext cx="190512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5f5f5f"/>
                  </a:solidFill>
                  <a:latin typeface="Arial"/>
                </a:rPr>
                <a:t>Las personas, familias y comunidades pobres no cuentan con estrategias que les permitan enfrentar con éxito los riesgos a los que están expuest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629400" y="152280"/>
            <a:ext cx="2057400" cy="1676520"/>
            <a:chOff x="6629400" y="152280"/>
            <a:chExt cx="2057400" cy="1676520"/>
          </a:xfrm>
        </p:grpSpPr>
        <p:sp>
          <p:nvSpPr>
            <p:cNvPr id="117" name=""/>
            <p:cNvSpPr/>
            <p:nvPr/>
          </p:nvSpPr>
          <p:spPr>
            <a:xfrm>
              <a:off x="6629400" y="152280"/>
              <a:ext cx="2057400" cy="167652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380880"/>
              <a:ext cx="1676520" cy="10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5f5f5f"/>
                  </a:solidFill>
                  <a:latin typeface="Arial"/>
                </a:rPr>
                <a:t>Es necesario apoyarlas a través de estrategias que les permitan prevenir, mitigar y/o superar situaciones de riesg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8120" y="175248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00"/>
                </a:solidFill>
                <a:latin typeface="Arial"/>
              </a:rPr>
              <a:t>Grupo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429000" y="2286000"/>
            <a:ext cx="2362320" cy="1628280"/>
            <a:chOff x="3429000" y="2286000"/>
            <a:chExt cx="2362320" cy="1628280"/>
          </a:xfrm>
        </p:grpSpPr>
        <p:sp>
          <p:nvSpPr>
            <p:cNvPr id="121" name=""/>
            <p:cNvSpPr/>
            <p:nvPr/>
          </p:nvSpPr>
          <p:spPr>
            <a:xfrm>
              <a:off x="3429000" y="2971800"/>
              <a:ext cx="236232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Riesgo princip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2286000"/>
              <a:ext cx="0" cy="533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2280" y="2971800"/>
            <a:ext cx="3200400" cy="368280"/>
            <a:chOff x="152280" y="2971800"/>
            <a:chExt cx="3200400" cy="368280"/>
          </a:xfrm>
        </p:grpSpPr>
        <p:sp>
          <p:nvSpPr>
            <p:cNvPr id="124" name=""/>
            <p:cNvSpPr/>
            <p:nvPr/>
          </p:nvSpPr>
          <p:spPr>
            <a:xfrm>
              <a:off x="152280" y="29718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ndiciones míni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3186000"/>
              <a:ext cx="609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23880" y="5029200"/>
            <a:ext cx="6096240" cy="856080"/>
          </a:xfrm>
          <a:prstGeom prst="rect">
            <a:avLst/>
          </a:prstGeom>
          <a:solidFill>
            <a:srgbClr val="00663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PA DE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(FOSIS y ot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00400" y="3429000"/>
            <a:ext cx="2971800" cy="1054080"/>
            <a:chOff x="3200400" y="3429000"/>
            <a:chExt cx="2971800" cy="1054080"/>
          </a:xfrm>
        </p:grpSpPr>
        <p:sp>
          <p:nvSpPr>
            <p:cNvPr id="128" name=""/>
            <p:cNvSpPr/>
            <p:nvPr/>
          </p:nvSpPr>
          <p:spPr>
            <a:xfrm>
              <a:off x="3200400" y="41148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0000"/>
                  </a:solidFill>
                  <a:latin typeface="Arial"/>
                </a:rPr>
                <a:t>Expresiones del ries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429000"/>
              <a:ext cx="0" cy="685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00200" y="2971800"/>
            <a:ext cx="7315200" cy="1676520"/>
            <a:chOff x="1600200" y="2971800"/>
            <a:chExt cx="7315200" cy="1676520"/>
          </a:xfrm>
        </p:grpSpPr>
        <p:grpSp>
          <p:nvGrpSpPr>
            <p:cNvPr id="131" name=""/>
            <p:cNvGrpSpPr/>
            <p:nvPr/>
          </p:nvGrpSpPr>
          <p:grpSpPr>
            <a:xfrm>
              <a:off x="5790960" y="2971800"/>
              <a:ext cx="3124440" cy="642600"/>
              <a:chOff x="5790960" y="2971800"/>
              <a:chExt cx="3124440" cy="642600"/>
            </a:xfrm>
          </p:grpSpPr>
          <p:sp>
            <p:nvSpPr>
              <p:cNvPr id="132" name=""/>
              <p:cNvSpPr/>
              <p:nvPr/>
            </p:nvSpPr>
            <p:spPr>
              <a:xfrm>
                <a:off x="6400800" y="2971800"/>
                <a:ext cx="2514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Factores protecto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5790960" y="318600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543800" y="342900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600200" y="4648320"/>
              <a:ext cx="59436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600200" y="342864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Aplicación instrumental del enfoque en Chile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FOSIS: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823760"/>
            <a:ext cx="83628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Preguntas / du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Énfasis en carencias y escasamente en  potencialidades de desarrollo (define acciones en lógica de déficit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pel municipio, gestión y desarrollo lo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ertinencia en y para los territorios específicos. ¿útil para asignación de recursos globales? ¿Dificultades en lo que concierne asignación programátic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Dimensiones del enfoque de MSR que no incluye: riesgos a niveles meso y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Comentarios críticos al enfoque de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38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nfoque centrado en el individuo/familia y decisiones económicas que tom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nfatiza responsabilidad individual para asegurarse contra los riesgos (desestima solidaridad para diversificar riesgo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stringe responsabilidad del Estado, en términos de bienestar social, al combate de la pobre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Desconfía de la efectividad de los sistemas informales, privilegia los de mercado y acepta los públicos “siempre que estén bien diseñados” (a pesar de no se explicita lo que sería un buen diseñ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stringe el sistema público a los sectores en pobreza: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o queda claro como se compatibiliza y prioriza entre quiebres transitorios y permanentes de ingreso (pobreza crónica) y si es efectivo que el enfoque contribuye a superar la pobreza crón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l enfoque es conceptual-analítico y no hace mención a la implementación y gestión de lo que prop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1341360"/>
            <a:ext cx="76230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6300" spc="-1" strike="noStrike">
                <a:solidFill>
                  <a:srgbClr val="000066"/>
                </a:solidFill>
                <a:latin typeface="Tahoma"/>
              </a:rPr>
              <a:t>Sistema Chile Solidario</a:t>
            </a:r>
            <a:br>
              <a:rPr sz="6300"/>
            </a:b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3963960"/>
            <a:ext cx="64008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safíos para poner en marcha una intervención promo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060640"/>
            <a:ext cx="808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1.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Diferencias en la comprensión del enfoque de “promoció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Nivel de autoridades entiende como forma de empoderar y entregar herramientas para que las personas superen por sí mismas su cond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Niveles de apoyos familiares (terreno) entioendenm como la necesidad de insertar a las familias dentro de una red de protección social que les permita satisfacer necesidades básicas (acceso a programas y cumplimiento de míni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2.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Limitaciones del trabajo de los promotores (apoyos famili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Riesgo de “acompañamiento perverso”: apoyo genere dependencias tanto de recursos materiales como afectivos. Relación vertical con las 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4920" y="457200"/>
          <a:ext cx="1828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2860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6892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844640"/>
            <a:ext cx="808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3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Carencias en trabajo comunitario y desarrollo de capital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Intervención está dirigida a las familias aisladas, no a la comunidad (sólo una de las condiciones mínimas – en pilar de dinámica social- menciona el tema comunit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Son interacciones más bien momentáneas, que no se constituyen como herramientas de empoderamiento no favorecen la formación de sociabilidad y asociatividad (inconsistencia con el mode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s-CL" sz="1800" spc="-1" strike="noStrike" u="sng">
                <a:solidFill>
                  <a:srgbClr val="000099"/>
                </a:solidFill>
                <a:uFillTx/>
                <a:latin typeface="Arial"/>
              </a:rPr>
              <a:t>Limitaciones del criterio de fo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La ficha CAS como único instrumento de medición de la pobreza y criterio para incorporar familias al sistema tiene consecuencias prácticas perjudiciales para el desarrollo de un trabajo promocional (inconsistente con concepto multidimensional de la pobre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457200"/>
          <a:ext cx="1828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6892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tradicion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“</a:t>
            </a: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medidas del sector público para promov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seguridad de ingresos a las persona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Riesgos asociados al trabajo (Eº de bienest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erder capacidad de trabajo por enfermedad, accidente o 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erder el trabajo (desempleo, cesantí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otección a través de políticas (sectori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evi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Inversión en capital humano (educación, salu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des de seguridad para los más pobres (empleo emergencia, subsidio único familiar, pensión asistenc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Actor central: Estado y política públic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(sector publico, omitiendo rol del privado e inform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457200"/>
          <a:ext cx="1523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523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63528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476280"/>
            <a:ext cx="739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Tahoma"/>
                <a:ea typeface="Times New Roman"/>
              </a:rPr>
              <a:t>6.</a:t>
            </a:r>
            <a:r>
              <a:rPr b="1" lang="en-US" sz="17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 Debilidades del instrumento de condiciones mínimas</a:t>
            </a:r>
            <a:r>
              <a:rPr b="1" lang="en-US" sz="1700" spc="-1" strike="noStrike" u="sng">
                <a:solidFill>
                  <a:srgbClr val="000099"/>
                </a:solidFill>
                <a:uFillTx/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836640"/>
            <a:ext cx="684036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53 Condiciones mínimas predefin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- Iguales para realidades disti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- Riesgo de homologar derechos sociales con condiciones mínimas (excluye dimensión de responsabilidad aparejada a derechos, que otorgan autonom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ebilidades Respecto de 4 claves de Empoderamiento: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Información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entrega información y conocimientos sobre posibles acciones que pueden emprender (aprovechar las oportun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Participación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colabora a la formación de una participación habilitadora (participación puramente instrumen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Responsabilidad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se orienta a evaluar procesos internos de las familias ni cambios de actitud (no incentivan responsabilida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Organización comunal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Se trabaja de forma aislada con las distintas familias, sin dar mayor énfasis al enriquecimiento de los l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ondiciones son “piso”, no techo al que hay que lleg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Instrumento de condiciones mínimas es utilizado como una lista de los objetivos del programa (</a:t>
            </a:r>
            <a:r>
              <a:rPr b="0" i="1" lang="es-ES" sz="1800" spc="-1" strike="noStrike">
                <a:solidFill>
                  <a:srgbClr val="000099"/>
                </a:solidFill>
                <a:latin typeface="Arial"/>
              </a:rPr>
              <a:t>check list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457200"/>
          <a:ext cx="1523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523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63528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765000"/>
            <a:ext cx="684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7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Obstáculos de la implementación a nivel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ificultad en la relación entre el municipio y el nivel cent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Intervención predefinida desde el nivel central genera resquemores en el nivel local (homogénea y ríg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Carencias de coordinación y funcionamiento en red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Sistema exige una sólida articulación entre distintas entidades involucradas, pero restricciones de la burocracia estatal lo imp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eterminante polí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Volunta política resulta decisiva, y muchas veces genera problemas por ser una iniciativa del gobienr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495680" y="2209680"/>
          <a:ext cx="1238400" cy="123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209680"/>
                    <a:ext cx="1238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140840" y="304920"/>
            <a:ext cx="75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istema Chile Solidar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4956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fíos para poner en marcha un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vención promo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br>
              <a:rPr sz="3200"/>
            </a:br>
            <a:r>
              <a:rPr b="0" i="1" lang="es-ES_tradnl" sz="2400" spc="-1" strike="noStrike">
                <a:solidFill>
                  <a:srgbClr val="006633"/>
                </a:solidFill>
                <a:latin typeface="Times New Roman"/>
              </a:rPr>
              <a:t>Toda persona, hogar o comunidad son vulnerables a múltiples riesgos </a:t>
            </a:r>
            <a:r>
              <a:rPr b="0" i="1" lang="es-ES_tradnl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→ modificaciones del entorno (predecibles o no) que pueden tener efectos negativos en el bienestar individual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5600" y="2637000"/>
            <a:ext cx="843912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versificación de los riesgos: naturales, salud, ciclo vital, sociales, económicos, políticos, ambientales  (no sólo traba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álisis →  Riesgo se expresan en quiebre de ingresos o incremento en necesidades de subsiste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eden tener distintas fuentes (naturales v/s por actividad humana) y orígenes: nivel macro (pais-mundial), meso (local) o micro (famil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 del riesgo (a quiénes y cómo af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Correlación: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iosincráticos (uno o familia) y covariados (grupo-comun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Frecuencia e Intensidad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veridad)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iesgo varían según su severidad, frecuencia y número de afec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413000"/>
          <a:ext cx="8583840" cy="4572000"/>
        </p:xfrm>
        <a:graphic>
          <a:graphicData uri="http://schemas.openxmlformats.org/drawingml/2006/table">
            <a:tbl>
              <a:tblPr/>
              <a:tblGrid>
                <a:gridCol w="1095480"/>
                <a:gridCol w="2016000"/>
                <a:gridCol w="2603520"/>
                <a:gridCol w="1435320"/>
                <a:gridCol w="143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 de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iosincr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o-fam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 / subnac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es/ reg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uvias – inund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upciones volcán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lizamientos de tier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 anteriores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mo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erm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apac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clo vi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ianidad Mue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í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ncu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olencia Intrafamil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or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di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moción civil; Guer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urbio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04920" y="15228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Fuentes de riesgo y a quienes afecta (idiosincráticos o covariado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Fuentes de riesgo y a quienes afecta (idiosincráticos o covariados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376280"/>
          <a:ext cx="8207280" cy="4645080"/>
        </p:xfrm>
        <a:graphic>
          <a:graphicData uri="http://schemas.openxmlformats.org/drawingml/2006/table">
            <a:tbl>
              <a:tblPr/>
              <a:tblGrid>
                <a:gridCol w="1365120"/>
                <a:gridCol w="1838520"/>
                <a:gridCol w="1600200"/>
                <a:gridCol w="1601640"/>
                <a:gridCol w="1801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 de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iosincr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o- fam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 / subnac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es/ reg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c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ómi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l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ración y reasent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dida de competitividad de 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riores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quilibrios macros y políticas de ajus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íti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riminación étnica y ra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lizaciones sociales mas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estabilidad polí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lpes de Es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ent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min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or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br>
              <a:rPr sz="3200"/>
            </a:br>
            <a:r>
              <a:rPr b="0" lang="es-ES_tradnl" sz="2400" spc="-1" strike="noStrike">
                <a:solidFill>
                  <a:srgbClr val="006633"/>
                </a:solidFill>
                <a:latin typeface="Times New Roman"/>
              </a:rPr>
              <a:t>Suministro de capacidades e instrumentos para manejar el riesgo: contracción de redes sociales de protección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8640"/>
            <a:ext cx="86104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ducen exposición → ataca causa antes que el riesgo ocu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rategias para abordar el ries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vención: reduce la probabilidad del ries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tigación: disminuye el posible efecto de un riesgo (antes que ocurr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peración: aliviar el impacto del riesgo una vez que se ha produ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strumentos o mecanismos en las estrategias para abordar los riesgos según su nivel de form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 informales: autoprotección, familiares y comunita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de mercado: activo financiero (ahorro), acciones, póliza (segu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 público: programas provistos u ordenados por el Esta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661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Actores principales en el manejo del riesg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dividuos / hogares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munidades (mecanismos de manejo compartid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ONG (acción local e informal – supervisión más adecuad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Bancos y compañías de segu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stituciones internacionales que ofrecen sistemas de MSR (FMI, BM, OIT, et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stos actores ofrecen sistemas de MSR pero también por su actividad generan riesg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80880" y="480960"/>
          <a:ext cx="8425080" cy="5468760"/>
        </p:xfrm>
        <a:graphic>
          <a:graphicData uri="http://schemas.openxmlformats.org/drawingml/2006/table">
            <a:tbl>
              <a:tblPr/>
              <a:tblGrid>
                <a:gridCol w="1683000"/>
                <a:gridCol w="1685880"/>
                <a:gridCol w="1685880"/>
                <a:gridCol w="1685880"/>
                <a:gridCol w="1684440"/>
              </a:tblGrid>
              <a:tr h="436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ESTRATEGIAS APLICADAS ANTES DE QUE SE PRODUZCA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ir ocurrencia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revenció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ticas de salud preventiv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r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ersificación de fuentes de ingres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tar fuentes de ingreso riesgo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ersificación de la produc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tir en educación y salu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ión comunitaria para prevenir desastres naturales, de clima, productiv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sión de las empresas  en trabajadores y su familia, capacita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económicas Ambientales Salud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o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estructura Labor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y regulaciones sobre calidad y funcionamiento de los mercados y servici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ción social, expandir capacidad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tigar efecto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Reducir el potencial de repercusión en caso de materializarse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orro informal en bienes y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zos de reciprocidad y ayuda mutua en la fami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orro, crédito comun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ltivar lazos de reciprocidad y ayuda mutua comunitar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talecer capital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os voluntarios (accidentes, discapacidad, muerte, salud, incendio, vejez, etc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os obligatorios de desempleo, vejez, enfermedad, et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gurar  recursos para épocas de crisis y programas contracicl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04920" y="457200"/>
          <a:ext cx="8640720" cy="5373720"/>
        </p:xfrm>
        <a:graphic>
          <a:graphicData uri="http://schemas.openxmlformats.org/drawingml/2006/table">
            <a:tbl>
              <a:tblPr/>
              <a:tblGrid>
                <a:gridCol w="1725480"/>
                <a:gridCol w="1730520"/>
                <a:gridCol w="1726920"/>
                <a:gridCol w="1730520"/>
                <a:gridCol w="1727280"/>
              </a:tblGrid>
              <a:tr h="52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ESTRATEGIA QUE SE APLICA UNA VEZ OCURRIDO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rentar  el riesg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lizar activos desaprovechados del hog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der activos o bi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rporación de nuevos integrantes al emple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ir consumo y gas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car / inventar fuentes e ingreso complementar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ación de prácticas de ayuda mut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irar ahor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o y endeud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s directa de bienes y servi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 de emerg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Paula Pacheco</cp:lastModifiedBy>
  <dcterms:modified xsi:type="dcterms:W3CDTF">2007-11-14T13:01:28Z</dcterms:modified>
  <cp:revision>62</cp:revision>
  <dc:subject/>
  <dc:title>Diapositiva 1</dc:title>
</cp:coreProperties>
</file>