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D89-0D75-4D20-A0BA-D7D06C81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346-B92D-4E5D-898D-CD353690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C1A-8177-434E-9F87-AA47C7B5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4C1-9617-4B5D-B4E0-4C480C9F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4405-16F1-46A9-981F-1C267F22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8F91-A43C-4CE3-980F-2C24DA68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B584-D3F4-414F-BCCC-7CCF5CB7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0139-787C-459D-9C1A-0E4867AA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3639-64F2-41EA-A50E-4EA553EE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9160-8277-4FEA-A673-B80C9BE0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614D-7D53-4E1C-AD7B-C5552E51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845-B7B8-4EBC-99FD-8B7176A4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E3E6-B09D-49C4-A185-BE41941F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270F-A84D-4B88-BC4D-8401AE43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125F-7F61-4006-A937-59A3C25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4AD1-92F9-40AC-BDD4-2DF42706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935D-3988-40C6-88C7-548FEA1A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459-885A-467C-BBAA-C1A7663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FFA-480A-44DF-8CE1-CEB27401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004-45F6-417B-8119-904C5F4F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C07-9696-4579-BC37-4323EA8A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5E5-506A-4974-A7F6-B8B5B9A0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1B5-A7A5-4C27-A2A1-6560771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531-482A-41E9-8AA7-9EEFE20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091E-91A3-4019-AEA1-FF2AD55595F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689-C342-40F4-814D-041F980B71E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MÓDULO AUXILIAR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Enfoque de Protección Social y de Manejo Social del Riesgo del Banco Mundial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ula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4 de noviem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: Concepto de Protección Soci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5240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Times New Roman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 Funciones que define al Est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jecutar medidas de política para la prevención del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Facilitar el establecimiento de instituciones financieras de mercado, supervisar y fiscalizar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tregar instrumentos de MSR en aquellas áreas donde el sector privado no funciona bien  o donde los individuos carecen de información para acceder adecuad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rcionar redes de protección social para aliviar el efecto de los riesg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ecretar la redistribución de ingresos si los resultados de mercado se consideran inaceptables desde el punto de vista del bienestar so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002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isión algo más compleja y multivariable de la pobreza ( y centrada en las causas, no en os síntomas de el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plantea la idea de “transferencias condicionadas” (derechos y debere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ne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idad de intervención más allá del individuo (famili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la existencia de capacidades en sectores pobres, la importancia de fortalecer su voz y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también la centralidad de variables políticas y de poder (accionar del estado y de actores soci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mplia el espectro de actores o agentes involucrados, aunque supone una lógica de acción determinada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12560"/>
            <a:ext cx="8302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039400"/>
            <a:ext cx="84960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iendo una parte de las categorías incluidas en el enfoque de MSR elabora una matriz de análisis de riesgo por región y comu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triz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 panorama se complementa con una “mapa de oportunidades” que representa la oferta programática del FOSIS y de otros en el 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114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117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00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121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124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00663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128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131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Preguntas / du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Énfasis en carencias y escasamente en  potencialidades de desarrollo (define acciones en lógica de défici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pel municipio, gestión y desarrollo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imensiones del enfoque de MSR que no incluye: riesgos a niveles meso y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crític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oque centrado en el individuo/familia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atiza responsabilidad individual para asegurarse contra los riesgos (desestima solidaridad para diversificar riesg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responsabilidad del Estado, en términos de bienestar social, al combate de la pobre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Desconfía de la efectividad de los sistemas informales, privilegia los de mercado y acepta los públicos “siempre que estén bien diseñados” (a pesar de 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1341360"/>
            <a:ext cx="76230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6300" spc="-1" strike="noStrike">
                <a:solidFill>
                  <a:srgbClr val="000066"/>
                </a:solidFill>
                <a:latin typeface="Tahoma"/>
              </a:rPr>
              <a:t>Sistema Chile Solidario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963960"/>
            <a:ext cx="64008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safíos para poner en marcha una intervención promo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060640"/>
            <a:ext cx="808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1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Diferencias en la comprensión del enfoque de “promo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 de autoridades entiende como forma de empoderar y entregar herramientas para que las personas superen por sí mismas su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es de apoyos familiares (terreno) entioendenm como la necesidad de insertar a las familias dentro de una red de protección social que les permita satisfacer necesidades básicas (acceso a programas y cumplimiento de míni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2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Limitaciones del trabajo de los promotores (apoyos famili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Riesgo de “acompañamiento perverso”: apoyo genere dependencias tanto de recursos materiales como afectivos. Relación vertical con las 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844640"/>
            <a:ext cx="808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3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Carencias en trabajo comunitario y desarrollo de capital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está dirigida a las familias aisladas, no a la comunidad (sólo una de las condiciones mínimas – en pilar de dinámica social- menciona el tema comunit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on interacciones más bien momentáneas, que no se constituyen como herramientas de empoderamiento no favorecen la formación de sociabilidad y asociatividad (inconsistencia con el mode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Arial"/>
              </a:rPr>
              <a:t>Limitaciones del criterio de fo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La ficha CAS como único instrumento de medición de la pobreza y criterio para incorporar familias al sistema tiene consecuencias prácticas perjudiciales para el desarrollo de un trabajo promocional (inconsistente con concepto multidimensional de la pobr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tradicion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“</a:t>
            </a: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medidas del sector público para promov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seguridad de ingresos a las persona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Riesgos asociados al trabajo (Eº de bienest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otección a través de políticas (sectori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Actor central: Estado y política públ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(sector publico, omitiendo rol del privado e inform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76280"/>
            <a:ext cx="739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Tahoma"/>
                <a:ea typeface="Times New Roman"/>
              </a:rPr>
              <a:t>6.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Debilidades del instrumento de condiciones mínimas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836640"/>
            <a:ext cx="6840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53 Condiciones mínimas predefin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Iguales para realidades disti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Riesgo de homologar derechos sociales con condiciones mínimas (excluye dimensión de responsabilidad aparejada a derechos, que otorgan autonom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bilidades Respecto de 4 claves de Empoderamiento: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Inform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entrega información y conocimientos sobre posibles acciones que pueden emprender (aprovechar las oport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Particip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colabora a la formación de una participación habilitadora (participación puramente instrumen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Responsabilidad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se orienta a evaluar procesos internos de las familias ni cambios de actitud (no incentivan responsa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Organización comunal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Se trabaja de forma aislada con las distintas familias, sin dar mayor énfasis al enriquecimiento de los l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ondiciones son “piso”, no techo al que hay que lleg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Instrumento de condiciones mínimas es utilizado como una lista de los objetivos del programa (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check list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765000"/>
            <a:ext cx="684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Obstáculos de la implementación a nivel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ificultad en la relación entre el municipio y el nivel cent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predefinida desde el nivel central genera resquemores en el nivel local (homogénea y ríg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arencias de coordinación y funcionamiento en red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istema exige una sólida articulación entre distintas entidades involucradas, pero restricciones de la burocracia estatal lo im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terminante 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Volunta política resulta decisiva, y muchas veces genera problemas por ser una iniciativa del gobien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495680" y="2209680"/>
          <a:ext cx="1238400" cy="12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09680"/>
                    <a:ext cx="1238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140840" y="304920"/>
            <a:ext cx="75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stema Chile Solida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4956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fíos para poner en marcha un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ención promo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</a:rPr>
              <a:t>Toda persona, hogar o comunidad son vulnerables a múltiples riesgos </a:t>
            </a: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→ modificaciones del entorno (predecibles o no) que pueden tener efectos negativos en el bienestar individual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2637000"/>
            <a:ext cx="843912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versificación de los riesgos: naturales, salud, ciclo vital, sociales, económicos, políticos, ambientales  (no sólo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álisis →  Riesgo se expresan en quiebre de ingresos o incremento en necesidades de subsiste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n tener distintas fuentes (naturales v/s por actividad humana) y orígenes: nivel macro (pais-mundial), meso (local) o micro (famil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riesgo (a quiénes y cómo af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Correlación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iosincráticos (uno o familia) y covariados (grupo-comu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Frecuencia e Intensidad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veridad)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esgo varían según su severidad, frecuencia y número de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413000"/>
          <a:ext cx="8583840" cy="4572000"/>
        </p:xfrm>
        <a:graphic>
          <a:graphicData uri="http://schemas.openxmlformats.org/drawingml/2006/table">
            <a:tbl>
              <a:tblPr/>
              <a:tblGrid>
                <a:gridCol w="1095480"/>
                <a:gridCol w="2016000"/>
                <a:gridCol w="2603520"/>
                <a:gridCol w="1435320"/>
                <a:gridCol w="14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s – inund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upciones volcá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lizamientos de ti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 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m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erm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apa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clo vi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ianidad M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í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ncu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olencia Intra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o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di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moción civil; Guer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urbio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376280"/>
          <a:ext cx="8207280" cy="4645080"/>
        </p:xfrm>
        <a:graphic>
          <a:graphicData uri="http://schemas.openxmlformats.org/drawingml/2006/table">
            <a:tbl>
              <a:tblPr/>
              <a:tblGrid>
                <a:gridCol w="1365120"/>
                <a:gridCol w="1838520"/>
                <a:gridCol w="1600200"/>
                <a:gridCol w="1601640"/>
                <a:gridCol w="1801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 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óm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 y reasent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dida de competitividad de 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quilibrios macros y políticas de ajus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ít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riminación étnica y ra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ciones sociales mas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estabilidad polí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lpes de 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mi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or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lang="es-ES_tradnl" sz="2400" spc="-1" strike="noStrike">
                <a:solidFill>
                  <a:srgbClr val="006633"/>
                </a:solidFill>
                <a:latin typeface="Times New Roman"/>
              </a:rPr>
              <a:t>Suministro de capacidades e instrumentos para manejar el riesgo: contracción de redes sociales de protección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8640"/>
            <a:ext cx="86104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ucen exposición → ataca causa antes que el riesgo ocu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rategias para abordar 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vención: reduce la probabilidad d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tigación: disminuye el posible efecto de un riesgo (antes que ocurr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peración: aliviar el impacto del riesgo una vez que se ha produ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strumentos o mecanismos en las estrategias para abordar los riesgos según su nivel de form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informales: autoprotección, familiares y comunit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mercado: activo financiero (ahorro), acciones, póliza (segu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público: programas provistos u ordenados por el Esta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ores principales en el manejo del riesg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dividuos / hogare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unidades (mecanismos de manejo compartid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ONG (acción local e informal – supervisión más adecuad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stituciones internacionales que ofrecen sistemas de MSR (FMI, BM, OIT, et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80880" y="480960"/>
          <a:ext cx="8425080" cy="546876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4920" y="45720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Paula Pacheco</cp:lastModifiedBy>
  <dcterms:modified xsi:type="dcterms:W3CDTF">2007-11-14T13:01:28Z</dcterms:modified>
  <cp:revision>62</cp:revision>
  <dc:subject/>
  <dc:title>Diapositiva 1</dc:title>
</cp:coreProperties>
</file>