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FF5B1-CA51-4358-93D7-ADE9F8745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5D055-5ADE-4852-97B6-47D7D0C2F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259FD-D5AA-4DCE-997E-E17A8F35B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713EC-039F-426C-8E4F-2BF471C09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89EABF-DF96-4EB3-9D76-323400BAE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30EC7-66C3-4430-9C4F-1A6C057A1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88007-F9A8-41E8-A809-392B16518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DFBD9-A032-4B3E-AC79-E835337B5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CE25D-4A4E-4B20-9653-00428C407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74055-F6B9-43ED-B50D-FE6EF568E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8446E-ED46-4E39-BFAD-9B065AE38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5060D-A715-4AC8-B044-4CB5F8639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2433E-DA62-4A48-8407-33379CCE8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F4706-E13D-4F16-BA1B-8FBA6D5C1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31775-455A-4507-A175-F9FA1CEC5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4F2CC0-0D9F-4DA6-9C5C-143C36F15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534DC2-9580-4003-8106-8F4D90F4CE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6FC76-36E7-47FD-BBFC-9C2CE7084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0B249-DE66-4216-A183-CEC4637E6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2D085-4314-4462-A649-90AA5DCAC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5781B-77AC-4243-96F2-2B863C393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3C7A4-8302-47CB-AFD1-E6B411119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0EEC9-4490-43FB-B095-D3B1D3CA5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3CD9D-84CE-4B90-9CB5-27B3DFE72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39280" y="6248520"/>
            <a:ext cx="7993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cc99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9900"/>
                </a:solidFill>
                <a:latin typeface="Garamond"/>
              </a:rPr>
              <a:t>Pobreza: diagnóstico, políticas e instrumentos</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Garamond"/>
              </a:rPr>
              <a:t>MGPP, Octubre - Noviembre, 2007</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7BD6E-2B50-4BE0-AC16-AB06E8E1F0A0}"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468360" y="6243480"/>
            <a:ext cx="79200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cc99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9900"/>
                </a:solidFill>
                <a:latin typeface="Garamond"/>
              </a:rPr>
              <a:t>Pobreza: diagnóstico, políticas e instrumentos</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Garamond"/>
              </a:rPr>
              <a:t>MGPP, Octubre – Noviembre, 2007</a:t>
            </a:r>
            <a:endParaRPr b="0" lang="en-US" sz="16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5686-48E7-4465-A574-4E6B77D66C80}"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5640" y="1413000"/>
            <a:ext cx="7704000" cy="20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nstrumentos y </a:t>
            </a:r>
            <a:br>
              <a:rPr sz="4000"/>
            </a:br>
            <a:r>
              <a:rPr b="0" lang="en-US" sz="4000" spc="-1" strike="noStrike">
                <a:solidFill>
                  <a:srgbClr val="006633"/>
                </a:solidFill>
                <a:latin typeface="Garamond"/>
              </a:rPr>
              <a:t>Enfoques de Política Social </a:t>
            </a:r>
            <a:br>
              <a:rPr sz="4000"/>
            </a:br>
            <a:r>
              <a:rPr b="0" lang="en-US" sz="4000" spc="-1" strike="noStrike">
                <a:solidFill>
                  <a:srgbClr val="006633"/>
                </a:solidFill>
                <a:latin typeface="Garamond"/>
              </a:rPr>
              <a:t>2. Articulación entre políticas sectoriales y programas sociales</a:t>
            </a:r>
            <a:endParaRPr b="0" lang="en-US" sz="4000" spc="-1" strike="noStrike">
              <a:solidFill>
                <a:srgbClr val="006633"/>
              </a:solidFill>
              <a:latin typeface="Garamond"/>
            </a:endParaRPr>
          </a:p>
        </p:txBody>
      </p:sp>
      <p:sp>
        <p:nvSpPr>
          <p:cNvPr id="87" name="PlaceHolder 2"/>
          <p:cNvSpPr>
            <a:spLocks noGrp="1"/>
          </p:cNvSpPr>
          <p:nvPr>
            <p:ph type="subTitle"/>
          </p:nvPr>
        </p:nvSpPr>
        <p:spPr>
          <a:xfrm>
            <a:off x="1979280" y="4437000"/>
            <a:ext cx="6553080" cy="122400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 Ignacia Fernández</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2 de noviembre de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ea typeface="Times New Roman"/>
              </a:rPr>
              <a:t>Principales Reformas al Sistema Público de Salud</a:t>
            </a:r>
            <a:r>
              <a:rPr b="0" lang="en-US" sz="3800" spc="-1" strike="noStrike">
                <a:solidFill>
                  <a:srgbClr val="006633"/>
                </a:solidFill>
                <a:latin typeface="Garamond"/>
              </a:rPr>
              <a:t> (`80s)</a:t>
            </a:r>
            <a:endParaRPr b="0" lang="en-US" sz="3800" spc="-1" strike="noStrike">
              <a:solidFill>
                <a:srgbClr val="006633"/>
              </a:solidFill>
              <a:latin typeface="Garamond"/>
            </a:endParaRPr>
          </a:p>
        </p:txBody>
      </p:sp>
      <p:sp>
        <p:nvSpPr>
          <p:cNvPr id="115" name="PlaceHolder 2"/>
          <p:cNvSpPr>
            <a:spLocks noGrp="1"/>
          </p:cNvSpPr>
          <p:nvPr>
            <p:ph/>
          </p:nvPr>
        </p:nvSpPr>
        <p:spPr>
          <a:xfrm>
            <a:off x="468360" y="1699920"/>
            <a:ext cx="8377200" cy="475308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organización del Ministerio de Salud</a:t>
            </a:r>
            <a:r>
              <a:rPr b="0" lang="en-US" sz="2100" spc="-1" strike="noStrike">
                <a:solidFill>
                  <a:srgbClr val="000000"/>
                </a:solidFill>
                <a:latin typeface="Arial"/>
              </a:rPr>
              <a:t>:</a:t>
            </a:r>
            <a:endParaRPr b="0" lang="en-US" sz="21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Ministerio a cargo de las funciones normativas, de planificación y control</a:t>
            </a:r>
            <a:r>
              <a:rPr b="0" lang="en-US" sz="1700" spc="-1" strike="noStrike">
                <a:solidFill>
                  <a:srgbClr val="000000"/>
                </a:solidFill>
                <a:latin typeface="Arial"/>
              </a:rPr>
              <a:t> </a:t>
            </a:r>
            <a:endParaRPr b="0" lang="en-US" sz="17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ción del Sistema Nacional de Servicios de Salud (SNSS) a cargo de la atención secundaria y terciaria</a:t>
            </a:r>
            <a:endParaRPr b="0" lang="en-US" sz="17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ndo Nacional de Salud (FONASA)</a:t>
            </a:r>
            <a:endParaRPr b="0" lang="en-US" sz="1700" spc="-1" strike="noStrike">
              <a:solidFill>
                <a:srgbClr val="000000"/>
              </a:solidFill>
              <a:latin typeface="Arial"/>
            </a:endParaRPr>
          </a:p>
          <a:p>
            <a:pPr lvl="1" marL="669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unicipalización de los establecimientos de atención primaria</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Promulgación de una nueva Ley de Salud, destinada a regular y unificar el régimen de prestaciones de los beneficiarios del sistema público</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forma a los mecanismos de pago</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Terminar con los presupuestos históricos centralmente establecidos e incentivar la eficiencia a nivel de los prestadores públicos de salud</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Reformas al sistema de salud (`90s)</a:t>
            </a:r>
            <a:endParaRPr b="0" lang="en-US" sz="3800" spc="-1" strike="noStrike">
              <a:solidFill>
                <a:srgbClr val="006633"/>
              </a:solidFill>
              <a:latin typeface="Garamond"/>
            </a:endParaRPr>
          </a:p>
        </p:txBody>
      </p:sp>
      <p:sp>
        <p:nvSpPr>
          <p:cNvPr id="117" name="PlaceHolder 2"/>
          <p:cNvSpPr>
            <a:spLocks noGrp="1"/>
          </p:cNvSpPr>
          <p:nvPr>
            <p:ph/>
          </p:nvPr>
        </p:nvSpPr>
        <p:spPr>
          <a:xfrm>
            <a:off x="468360" y="1628640"/>
            <a:ext cx="8377200" cy="419112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imer Gobierno de la Concertación</a:t>
            </a:r>
            <a:r>
              <a:rPr b="0" lang="es-ES" sz="1900" spc="-1" strike="noStrike">
                <a:solidFill>
                  <a:srgbClr val="000000"/>
                </a:solidFill>
                <a:latin typeface="Arial"/>
              </a:rPr>
              <a:t> </a:t>
            </a:r>
            <a:endParaRPr b="0" lang="en-US" sz="19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Perfeccionar el modelo de gestión municipal</a:t>
            </a:r>
            <a:r>
              <a:rPr b="0" lang="es-ES" sz="1700" spc="-1" strike="noStrike">
                <a:solidFill>
                  <a:srgbClr val="000000"/>
                </a:solidFill>
                <a:latin typeface="Arial"/>
              </a:rPr>
              <a:t> </a:t>
            </a:r>
            <a:r>
              <a:rPr b="0" lang="es-ES" sz="1700" spc="-1" strike="noStrike">
                <a:solidFill>
                  <a:srgbClr val="000000"/>
                </a:solidFill>
                <a:latin typeface="Arial"/>
                <a:ea typeface="Times New Roman"/>
              </a:rPr>
              <a:t>entregando mayores grados de autonomía a los organismos locales en la gestión de sus recursos</a:t>
            </a:r>
            <a:r>
              <a:rPr b="0" lang="es-ES" sz="1700" spc="-1" strike="noStrike">
                <a:solidFill>
                  <a:srgbClr val="000000"/>
                </a:solidFill>
                <a:latin typeface="Arial"/>
              </a:rPr>
              <a:t> </a:t>
            </a:r>
            <a:endParaRPr b="0" lang="en-US" sz="17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Reformas de los mecanismos de asignación de recursos financieros ligándolos con los principios orientadores de equidad y eficiencia en la provisión de salud </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gundo Gobierno de la Concertación</a:t>
            </a:r>
            <a:endParaRPr b="0" lang="en-US" sz="21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Un nuevo mecanismo de pago en la atención primaria -el pago Per Cápita- , en función del número de beneficiarios inscritos en los consultorios de salud</a:t>
            </a:r>
            <a:endParaRPr b="0" lang="en-US" sz="17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a:t>
            </a:r>
            <a:r>
              <a:rPr b="0" lang="es-ES" sz="2100" spc="-1" strike="noStrike">
                <a:solidFill>
                  <a:srgbClr val="000000"/>
                </a:solidFill>
                <a:latin typeface="Arial"/>
                <a:ea typeface="Times New Roman"/>
              </a:rPr>
              <a:t>obierno del Presidente Lagos</a:t>
            </a:r>
            <a:endParaRPr b="0" lang="en-US" sz="2100" spc="-1" strike="noStrike">
              <a:solidFill>
                <a:srgbClr val="000000"/>
              </a:solidFill>
              <a:latin typeface="Arial"/>
            </a:endParaRPr>
          </a:p>
          <a:p>
            <a:pPr lvl="1" marL="669960" indent="-325440" algn="just">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Plan Auge, nuevos sistemas de atención, derechos y deberes de las personas, regulación de Isapres, autoridad sanitaria y sistema de gestión, y financiamiento </a:t>
            </a:r>
            <a:endParaRPr b="0" lang="en-US" sz="17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244440"/>
            <a:ext cx="8713800" cy="952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Sistema Educacional Chileno</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9" name=""/>
          <p:cNvSpPr/>
          <p:nvPr/>
        </p:nvSpPr>
        <p:spPr>
          <a:xfrm>
            <a:off x="2484360" y="1268280"/>
            <a:ext cx="3745080" cy="576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s paquetes de reformas</a:t>
            </a:r>
            <a:endParaRPr b="0" lang="en-US" sz="1800" spc="-1" strike="noStrike">
              <a:solidFill>
                <a:srgbClr val="000000"/>
              </a:solidFill>
              <a:latin typeface="Arial"/>
            </a:endParaRPr>
          </a:p>
        </p:txBody>
      </p:sp>
      <p:sp>
        <p:nvSpPr>
          <p:cNvPr id="120" name=""/>
          <p:cNvSpPr/>
          <p:nvPr/>
        </p:nvSpPr>
        <p:spPr>
          <a:xfrm>
            <a:off x="826920" y="2133720"/>
            <a:ext cx="1729080" cy="504720"/>
          </a:xfrm>
          <a:prstGeom prst="ellipse">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ños ‘80</a:t>
            </a:r>
            <a:endParaRPr b="0" lang="en-US" sz="1800" spc="-1" strike="noStrike">
              <a:solidFill>
                <a:srgbClr val="000000"/>
              </a:solidFill>
              <a:latin typeface="Arial"/>
            </a:endParaRPr>
          </a:p>
        </p:txBody>
      </p:sp>
      <p:sp>
        <p:nvSpPr>
          <p:cNvPr id="121" name=""/>
          <p:cNvSpPr/>
          <p:nvPr/>
        </p:nvSpPr>
        <p:spPr>
          <a:xfrm>
            <a:off x="6227640" y="2060640"/>
            <a:ext cx="1729080" cy="504720"/>
          </a:xfrm>
          <a:prstGeom prst="ellipse">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ños ‘90</a:t>
            </a:r>
            <a:endParaRPr b="0" lang="en-US" sz="1800" spc="-1" strike="noStrike">
              <a:solidFill>
                <a:srgbClr val="000000"/>
              </a:solidFill>
              <a:latin typeface="Arial"/>
            </a:endParaRPr>
          </a:p>
        </p:txBody>
      </p:sp>
      <p:sp>
        <p:nvSpPr>
          <p:cNvPr id="122" name=""/>
          <p:cNvSpPr/>
          <p:nvPr/>
        </p:nvSpPr>
        <p:spPr>
          <a:xfrm>
            <a:off x="395280" y="2998800"/>
            <a:ext cx="2808360" cy="93672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entralización administrativo financiera</a:t>
            </a:r>
            <a:endParaRPr b="0" lang="en-US" sz="1800" spc="-1" strike="noStrike">
              <a:solidFill>
                <a:srgbClr val="000000"/>
              </a:solidFill>
              <a:latin typeface="Arial"/>
            </a:endParaRPr>
          </a:p>
        </p:txBody>
      </p:sp>
      <p:sp>
        <p:nvSpPr>
          <p:cNvPr id="123" name=""/>
          <p:cNvSpPr/>
          <p:nvPr/>
        </p:nvSpPr>
        <p:spPr>
          <a:xfrm>
            <a:off x="1619280" y="4222800"/>
            <a:ext cx="360360" cy="431640"/>
          </a:xfrm>
          <a:prstGeom prst="downArrow">
            <a:avLst>
              <a:gd name="adj1" fmla="val 50000"/>
              <a:gd name="adj2" fmla="val 29945"/>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11280" y="4870440"/>
            <a:ext cx="2303280" cy="9367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unicipalización de la educación</a:t>
            </a:r>
            <a:endParaRPr b="0" lang="en-US" sz="1800" spc="-1" strike="noStrike">
              <a:solidFill>
                <a:srgbClr val="000000"/>
              </a:solidFill>
              <a:latin typeface="Arial"/>
            </a:endParaRPr>
          </a:p>
        </p:txBody>
      </p:sp>
      <p:sp>
        <p:nvSpPr>
          <p:cNvPr id="125" name=""/>
          <p:cNvSpPr/>
          <p:nvPr/>
        </p:nvSpPr>
        <p:spPr>
          <a:xfrm>
            <a:off x="5076720" y="3789360"/>
            <a:ext cx="3600720" cy="93672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entralización técnico pedagógica</a:t>
            </a:r>
            <a:endParaRPr b="0" lang="en-US" sz="1800" spc="-1" strike="noStrike">
              <a:solidFill>
                <a:srgbClr val="000000"/>
              </a:solidFill>
              <a:latin typeface="Arial"/>
            </a:endParaRPr>
          </a:p>
        </p:txBody>
      </p:sp>
      <p:sp>
        <p:nvSpPr>
          <p:cNvPr id="126" name=""/>
          <p:cNvSpPr/>
          <p:nvPr/>
        </p:nvSpPr>
        <p:spPr>
          <a:xfrm>
            <a:off x="5076720" y="2925720"/>
            <a:ext cx="3600720" cy="57456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justes al 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ministrativo financiero</a:t>
            </a:r>
            <a:endParaRPr b="0" lang="en-US" sz="1800" spc="-1" strike="noStrike">
              <a:solidFill>
                <a:srgbClr val="000000"/>
              </a:solidFill>
              <a:latin typeface="Arial"/>
            </a:endParaRPr>
          </a:p>
        </p:txBody>
      </p:sp>
      <p:sp>
        <p:nvSpPr>
          <p:cNvPr id="127" name=""/>
          <p:cNvSpPr/>
          <p:nvPr/>
        </p:nvSpPr>
        <p:spPr>
          <a:xfrm>
            <a:off x="6659640" y="4869000"/>
            <a:ext cx="360360" cy="431640"/>
          </a:xfrm>
          <a:prstGeom prst="downArrow">
            <a:avLst>
              <a:gd name="adj1" fmla="val 50000"/>
              <a:gd name="adj2" fmla="val 29945"/>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508720" y="5518080"/>
            <a:ext cx="2808360" cy="5763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eforma Educ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07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Descentralización Administrativo Financiera</a:t>
            </a:r>
            <a:r>
              <a:rPr b="0" lang="en-US" sz="4200" spc="-1" strike="noStrike">
                <a:solidFill>
                  <a:srgbClr val="006633"/>
                </a:solidFill>
                <a:latin typeface="Garamond"/>
                <a:ea typeface="Times New Roman"/>
              </a:rPr>
              <a:t> </a:t>
            </a:r>
            <a:endParaRPr b="0" lang="en-US" sz="4200" spc="-1" strike="noStrike">
              <a:solidFill>
                <a:srgbClr val="006633"/>
              </a:solidFill>
              <a:latin typeface="Garamond"/>
            </a:endParaRPr>
          </a:p>
        </p:txBody>
      </p:sp>
      <p:sp>
        <p:nvSpPr>
          <p:cNvPr id="130" name="PlaceHolder 2"/>
          <p:cNvSpPr>
            <a:spLocks noGrp="1"/>
          </p:cNvSpPr>
          <p:nvPr>
            <p:ph/>
          </p:nvPr>
        </p:nvSpPr>
        <p:spPr>
          <a:xfrm>
            <a:off x="394920" y="2037960"/>
            <a:ext cx="8450280" cy="43434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Traspaso de las escuelas públicas desde el Ministerio de Educación a la administración municipa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odificación del sistema de financiamiento de la educación desde una modalidad de pago histórica por gasto a una modalidad de subvención por alumno por asistencia diaria a la escuela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Creación de una nueva figura de prestación de servicios gratuitos de educación: escuelas particulares financiadas por el Estado a través de subvenciones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sponsabilidad técnico – pedagógica, políticas educacionales y  financiamiento de la educación siguen siendo responsabilidad del Estado central </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44440"/>
            <a:ext cx="8461440" cy="12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Medidas Adoptadas por los Gobiernos de la Concertación</a:t>
            </a:r>
            <a:r>
              <a:rPr b="0" lang="en-US" sz="4200" spc="-1" strike="noStrike">
                <a:solidFill>
                  <a:srgbClr val="006633"/>
                </a:solidFill>
                <a:latin typeface="Garamond"/>
                <a:ea typeface="Times New Roman"/>
              </a:rPr>
              <a:t> </a:t>
            </a:r>
            <a:endParaRPr b="0" lang="en-US" sz="4200" spc="-1" strike="noStrike">
              <a:solidFill>
                <a:srgbClr val="006633"/>
              </a:solidFill>
              <a:latin typeface="Garamond"/>
            </a:endParaRPr>
          </a:p>
        </p:txBody>
      </p:sp>
      <p:sp>
        <p:nvSpPr>
          <p:cNvPr id="132" name="PlaceHolder 2"/>
          <p:cNvSpPr>
            <a:spLocks noGrp="1"/>
          </p:cNvSpPr>
          <p:nvPr>
            <p:ph/>
          </p:nvPr>
        </p:nvSpPr>
        <p:spPr>
          <a:xfrm>
            <a:off x="394920" y="1628640"/>
            <a:ext cx="8450280" cy="48960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ncremento de la subvención</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Ley de Subvenciones: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Reconoce diferencias de costo en la provisión del servicio de acuerdo a la localización geográfica del establecimiento y otorga asignación por zona de desempeño, subvención por ruralidad y tipo y nivel educacional</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statuto Docente: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Cuerpo legal que norma las relaciones laborales entre las municipalidades y los docentes</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miento compartido (1993):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Sistema al que tienen derecho los establecimientos particular subvencionados de enseñanza básica y media y los establecimientos municipales de enseñanza medi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560" y="244440"/>
            <a:ext cx="8713800" cy="1432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Descentralización Técnico </a:t>
            </a:r>
            <a:br>
              <a:rPr sz="3800"/>
            </a:br>
            <a:r>
              <a:rPr b="0" lang="en-US" sz="3800" spc="-1" strike="noStrike">
                <a:solidFill>
                  <a:srgbClr val="006633"/>
                </a:solidFill>
                <a:latin typeface="Garamond"/>
                <a:ea typeface="Times New Roman"/>
              </a:rPr>
              <a:t>Pedagógica</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Reforma </a:t>
            </a:r>
            <a:endParaRPr b="0" lang="en-US" sz="3800" spc="-1" strike="noStrike">
              <a:solidFill>
                <a:srgbClr val="006633"/>
              </a:solidFill>
              <a:latin typeface="Garamond"/>
            </a:endParaRPr>
          </a:p>
        </p:txBody>
      </p:sp>
      <p:sp>
        <p:nvSpPr>
          <p:cNvPr id="134" name="PlaceHolder 2"/>
          <p:cNvSpPr>
            <a:spLocks noGrp="1"/>
          </p:cNvSpPr>
          <p:nvPr>
            <p:ph/>
          </p:nvPr>
        </p:nvSpPr>
        <p:spPr>
          <a:xfrm>
            <a:off x="457200" y="2010960"/>
            <a:ext cx="8229600" cy="411948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Programas de mejoramiento e innovación pedagógica</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forma curricular: contenidos mínimos transversales, posibilidad de elaborar currículum propio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 la profesión docente: capacitación, pasantía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Jornada Escolar Completa</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5" name=""/>
          <p:cNvSpPr/>
          <p:nvPr/>
        </p:nvSpPr>
        <p:spPr>
          <a:xfrm>
            <a:off x="4572000" y="1052640"/>
            <a:ext cx="504720" cy="358560"/>
          </a:xfrm>
          <a:prstGeom prst="rightArrow">
            <a:avLst>
              <a:gd name="adj1" fmla="val 50000"/>
              <a:gd name="adj2" fmla="val 35191"/>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Proyecto de ley de subvención preferencial (diferenciada)</a:t>
            </a:r>
            <a:endParaRPr b="0" lang="en-US" sz="3800" spc="-1" strike="noStrike">
              <a:solidFill>
                <a:srgbClr val="006633"/>
              </a:solidFill>
              <a:latin typeface="Garamond"/>
            </a:endParaRPr>
          </a:p>
        </p:txBody>
      </p:sp>
      <p:sp>
        <p:nvSpPr>
          <p:cNvPr id="137" name="PlaceHolder 2"/>
          <p:cNvSpPr>
            <a:spLocks noGrp="1"/>
          </p:cNvSpPr>
          <p:nvPr>
            <p:ph/>
          </p:nvPr>
        </p:nvSpPr>
        <p:spPr>
          <a:xfrm>
            <a:off x="395280" y="1844280"/>
            <a:ext cx="8223120" cy="4390920"/>
          </a:xfrm>
          <a:prstGeom prst="rect">
            <a:avLst/>
          </a:prstGeom>
          <a:noFill/>
          <a:ln w="0">
            <a:noFill/>
          </a:ln>
        </p:spPr>
        <p:txBody>
          <a:bodyPr lIns="90000" rIns="90000" tIns="46800" bIns="46800" anchor="t">
            <a:normAutofit/>
          </a:bodyPr>
          <a:p>
            <a:pPr marL="609480" indent="-6094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900" spc="-1" strike="noStrike">
                <a:solidFill>
                  <a:srgbClr val="000000"/>
                </a:solidFill>
                <a:latin typeface="Arial"/>
              </a:rPr>
              <a:t>Financiamiento adicional para alumnos de escasos recursos</a:t>
            </a:r>
            <a:endParaRPr b="0" lang="en-US" sz="19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rrige el diseño de la subvención uniforme: reconoce que alumnos vulnerables son más costosos de educar </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lementación gradual permite evaluar los montos: primera etapa se aplicará a los alumnos de prekinder a cuarto año</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a:t>
            </a:r>
            <a:r>
              <a:rPr b="0" lang="en-US" sz="2000" spc="-1" strike="noStrike">
                <a:solidFill>
                  <a:srgbClr val="000000"/>
                </a:solidFill>
                <a:latin typeface="Arial"/>
              </a:rPr>
              <a:t> </a:t>
            </a:r>
            <a:r>
              <a:rPr b="0" lang="es-ES" sz="2000" spc="-1" strike="noStrike">
                <a:solidFill>
                  <a:srgbClr val="000000"/>
                </a:solidFill>
                <a:latin typeface="Arial"/>
              </a:rPr>
              <a:t>menos recursos a escuelas con mayores dificultades</a:t>
            </a:r>
            <a:r>
              <a:rPr b="0" lang="en-US" sz="2000" spc="-1" strike="noStrike">
                <a:solidFill>
                  <a:srgbClr val="000000"/>
                </a:solidFill>
                <a:latin typeface="Arial"/>
              </a:rPr>
              <a:t> </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900" spc="-1" strike="noStrike">
                <a:solidFill>
                  <a:srgbClr val="000000"/>
                </a:solidFill>
                <a:latin typeface="Arial"/>
              </a:rPr>
              <a:t>No discriminación de alumnos</a:t>
            </a:r>
            <a:endParaRPr b="0" lang="en-US" sz="19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venio voluntario: no todos los alumnos prioritarios reciben el monto total de la SP, solo los que asisten a colegios que suscriben al convenio</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cuelas con financiamiento compartido que seleccionan no tienen incentivos para suscribir el convenio</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7">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37">
                                            <p:txEl>
                                              <p:pRg st="1" end="1"/>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137">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37">
                                            <p:txEl>
                                              <p:pRg st="5" end="5"/>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37">
                                            <p:txEl>
                                              <p:pRg st="6" end="6"/>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3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01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Previsión social: el sistema de pensiones</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39" name="PlaceHolder 2"/>
          <p:cNvSpPr>
            <a:spLocks noGrp="1"/>
          </p:cNvSpPr>
          <p:nvPr>
            <p:ph/>
          </p:nvPr>
        </p:nvSpPr>
        <p:spPr>
          <a:xfrm>
            <a:off x="323640" y="1341000"/>
            <a:ext cx="8521560" cy="504180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Esquema de contribuciones definidas, basado en planes individuales de ahorro obligatorio privado</a:t>
            </a:r>
            <a:endParaRPr b="0" lang="en-US" sz="19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os trabajadores deben cotizar mensualmente un 10% de sus rentas y destinarlas a sus cuentas individuales de ahorro</a:t>
            </a:r>
            <a:endParaRPr b="0" lang="en-US" sz="19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Administradoras de Fondos de Pensiones (AFP) cobran comisiones para cubrir los costos administrativos y contratar seguros de invalidez y sobrevivencia</a:t>
            </a:r>
            <a:endParaRPr b="0" lang="en-US" sz="19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pensiones son financiadas por el fondo acumulado en las cuentas individuales, cuya cuantía depende de: </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Las contribuciones acumuladas en las cuentas por los trabajadores durante el período laboral</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El retorno de las inversiones que realizan las AFPs</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t>
            </a:r>
            <a:r>
              <a:rPr b="0" lang="es-ES" sz="1700" spc="-1" strike="noStrike">
                <a:solidFill>
                  <a:srgbClr val="000000"/>
                </a:solidFill>
                <a:latin typeface="Arial"/>
                <a:ea typeface="Times New Roman"/>
              </a:rPr>
              <a:t>os factores actuariales (expectativa de vida) por género</a:t>
            </a:r>
            <a:endParaRPr b="0" lang="en-US" sz="17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El número, edad y expectativa de vida de los dependientes. Las pensiones se ajustan automáticamente con la inflación, con lo que se busca evitar la pérdida de poder adquisitivo</a:t>
            </a:r>
            <a:r>
              <a:rPr b="0" lang="es-ES" sz="1500" spc="-1" strike="noStrike">
                <a:solidFill>
                  <a:srgbClr val="000000"/>
                </a:solidFill>
                <a:latin typeface="Arial"/>
                <a:ea typeface="Times New Roman"/>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1840" y="189000"/>
            <a:ext cx="87138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Funciones del Estado en materia de previsión</a:t>
            </a:r>
            <a:endParaRPr b="0" lang="en-US" sz="3800" spc="-1" strike="noStrike">
              <a:solidFill>
                <a:srgbClr val="006633"/>
              </a:solidFill>
              <a:latin typeface="Garamond"/>
            </a:endParaRPr>
          </a:p>
        </p:txBody>
      </p:sp>
      <p:sp>
        <p:nvSpPr>
          <p:cNvPr id="141" name="PlaceHolder 2"/>
          <p:cNvSpPr>
            <a:spLocks noGrp="1"/>
          </p:cNvSpPr>
          <p:nvPr>
            <p:ph/>
          </p:nvPr>
        </p:nvSpPr>
        <p:spPr>
          <a:xfrm>
            <a:off x="468360" y="1628640"/>
            <a:ext cx="8377200" cy="48960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Controla y regula a las AFPs a través de la Superintendencia de AFP</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 la operación del antiguo sistema público de pensiones (pago de pensiones) hasta su extinción</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aga Bonos de Reconocimient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ntrega Pensiones Mínimas garantizadas a los afiliados que realicen cotizaciones por 20 años o más y que con sus fondos no puedan cubrir dicho mínim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Otorga y paga Pensiones Asistenciales (PASIS) no contributivas a las personas inválidas mayores de 18 años y a las personas mayores de 65 años indigentes o carentes de previsión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 la operación del pago de pensiones de las Fuerzas Armadas y Carabineros, que sigue siendo público</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957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ahoma"/>
              </a:rPr>
              <a:t>Empleo y Capacitación</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43" name="PlaceHolder 2"/>
          <p:cNvSpPr>
            <a:spLocks noGrp="1"/>
          </p:cNvSpPr>
          <p:nvPr>
            <p:ph/>
          </p:nvPr>
        </p:nvSpPr>
        <p:spPr>
          <a:xfrm>
            <a:off x="685440" y="1523520"/>
            <a:ext cx="8007480" cy="4784760"/>
          </a:xfrm>
          <a:prstGeom prst="rect">
            <a:avLst/>
          </a:prstGeom>
          <a:noFill/>
          <a:ln w="0">
            <a:noFill/>
          </a:ln>
        </p:spPr>
        <p:txBody>
          <a:bodyPr lIns="90000" rIns="90000" tIns="46800" bIns="46800" anchor="t">
            <a:normAutofit/>
          </a:bodyPr>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squema instalado en los ’80 apunta a flexibilizar los sistemas de contratación, situando al mismo nivel los contratos indefinidos y los temporales</a:t>
            </a:r>
            <a:r>
              <a:rPr b="0" lang="es-ES" sz="2100" spc="-1" strike="noStrike">
                <a:solidFill>
                  <a:srgbClr val="000000"/>
                </a:solidFill>
                <a:latin typeface="Arial"/>
              </a:rPr>
              <a:t>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upuesto de que ello mejorará la competitividad de las empresas facilitando la creación de empleo</a:t>
            </a:r>
            <a:endParaRPr b="0" lang="en-US" sz="2100" spc="-1" strike="noStrike">
              <a:solidFill>
                <a:srgbClr val="000000"/>
              </a:solidFill>
              <a:latin typeface="Arial"/>
            </a:endParaRPr>
          </a:p>
          <a:p>
            <a:pPr marL="380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808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Años 90</a:t>
            </a:r>
            <a:endParaRPr b="0" lang="en-US" sz="2100" spc="-1" strike="noStrike">
              <a:solidFill>
                <a:srgbClr val="000000"/>
              </a:solidFill>
              <a:latin typeface="Arial"/>
            </a:endParaRPr>
          </a:p>
          <a:p>
            <a:pPr marL="380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Reformas destinadas a mejorar aspectos de la legislación relativos a la flexibilización.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Mejorar las condiciones laborales de los trabajadores de menores ingresos (reajuste salario mínimo hasta un monto tres veces superior a la línea de pobreza)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romover la empleabilidad de las personas desocupadas a través de programas especiales de empleo y capacitación.</a:t>
            </a:r>
            <a:r>
              <a:rPr b="0" lang="es-ES"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0920" y="1700280"/>
            <a:ext cx="5400720" cy="4105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39640" y="2060640"/>
            <a:ext cx="4680000" cy="27367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68360" y="259920"/>
            <a:ext cx="838512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Política social años ’90</a:t>
            </a:r>
            <a:endParaRPr b="0" lang="en-US" sz="4200" spc="-1" strike="noStrike">
              <a:solidFill>
                <a:srgbClr val="006633"/>
              </a:solidFill>
              <a:latin typeface="Garamond"/>
            </a:endParaRPr>
          </a:p>
        </p:txBody>
      </p:sp>
      <p:sp>
        <p:nvSpPr>
          <p:cNvPr id="91" name=""/>
          <p:cNvSpPr/>
          <p:nvPr/>
        </p:nvSpPr>
        <p:spPr>
          <a:xfrm>
            <a:off x="1332000" y="2034720"/>
            <a:ext cx="3020760" cy="19418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Garamond"/>
                <a:ea typeface="Arial"/>
              </a:rPr>
              <a:t>Política social tradicional</a:t>
            </a:r>
            <a:endParaRPr b="0" lang="en-US" sz="2800" spc="-1" strike="noStrike">
              <a:solidFill>
                <a:srgbClr val="000000"/>
              </a:solidFill>
              <a:latin typeface="Arial"/>
            </a:endParaRPr>
          </a:p>
        </p:txBody>
      </p:sp>
      <p:sp>
        <p:nvSpPr>
          <p:cNvPr id="92" name=""/>
          <p:cNvSpPr/>
          <p:nvPr/>
        </p:nvSpPr>
        <p:spPr>
          <a:xfrm>
            <a:off x="1547640" y="3860640"/>
            <a:ext cx="288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Garamond"/>
                <a:ea typeface="Arial"/>
              </a:rPr>
              <a:t>Programas sociales</a:t>
            </a:r>
            <a:endParaRPr b="0" lang="en-US" sz="2800" spc="-1" strike="noStrike">
              <a:solidFill>
                <a:srgbClr val="000000"/>
              </a:solidFill>
              <a:latin typeface="Arial"/>
            </a:endParaRPr>
          </a:p>
        </p:txBody>
      </p:sp>
      <p:sp>
        <p:nvSpPr>
          <p:cNvPr id="93" name=""/>
          <p:cNvSpPr/>
          <p:nvPr/>
        </p:nvSpPr>
        <p:spPr>
          <a:xfrm>
            <a:off x="1692360" y="4869000"/>
            <a:ext cx="2879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6633"/>
                </a:solidFill>
                <a:latin typeface="Garamond"/>
                <a:ea typeface="Arial"/>
              </a:rPr>
              <a:t>Programas locales </a:t>
            </a:r>
            <a:endParaRPr b="0" lang="en-US" sz="2600" spc="-1" strike="noStrike">
              <a:solidFill>
                <a:srgbClr val="000000"/>
              </a:solidFill>
              <a:latin typeface="Arial"/>
            </a:endParaRPr>
          </a:p>
        </p:txBody>
      </p:sp>
      <p:sp>
        <p:nvSpPr>
          <p:cNvPr id="94" name=""/>
          <p:cNvSpPr/>
          <p:nvPr/>
        </p:nvSpPr>
        <p:spPr>
          <a:xfrm flipV="1">
            <a:off x="4284720" y="1989000"/>
            <a:ext cx="158436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84720" y="1088640"/>
            <a:ext cx="2519640" cy="119124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Descentralización educación y salud</a:t>
            </a:r>
            <a:endParaRPr b="0" lang="en-US" sz="2400" spc="-1" strike="noStrike">
              <a:solidFill>
                <a:srgbClr val="000000"/>
              </a:solidFill>
              <a:latin typeface="Arial"/>
            </a:endParaRPr>
          </a:p>
        </p:txBody>
      </p:sp>
      <p:sp>
        <p:nvSpPr>
          <p:cNvPr id="96" name=""/>
          <p:cNvSpPr/>
          <p:nvPr/>
        </p:nvSpPr>
        <p:spPr>
          <a:xfrm>
            <a:off x="5219640" y="3357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084720" y="2278800"/>
            <a:ext cx="2519640" cy="192276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Particip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Flexibi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Focaliz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Énfasis en el territorio</a:t>
            </a:r>
            <a:endParaRPr b="0" lang="en-US" sz="2400" spc="-1" strike="noStrike">
              <a:solidFill>
                <a:srgbClr val="000000"/>
              </a:solidFill>
              <a:latin typeface="Arial"/>
            </a:endParaRPr>
          </a:p>
        </p:txBody>
      </p:sp>
      <p:sp>
        <p:nvSpPr>
          <p:cNvPr id="98" name=""/>
          <p:cNvSpPr/>
          <p:nvPr/>
        </p:nvSpPr>
        <p:spPr>
          <a:xfrm>
            <a:off x="4932360" y="5157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84720" y="4439520"/>
            <a:ext cx="2519640" cy="155700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Experiencias atractivas de desarrollo territo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Ley sobre Reformas Laborales</a:t>
            </a:r>
            <a:r>
              <a:rPr b="0" lang="en-US" sz="3800" spc="-1" strike="noStrike">
                <a:solidFill>
                  <a:srgbClr val="006633"/>
                </a:solidFill>
                <a:latin typeface="Garamond"/>
              </a:rPr>
              <a:t> (R. Lagos)</a:t>
            </a:r>
            <a:endParaRPr b="0" lang="en-US" sz="3800" spc="-1" strike="noStrike">
              <a:solidFill>
                <a:srgbClr val="006633"/>
              </a:solidFill>
              <a:latin typeface="Garamond"/>
            </a:endParaRPr>
          </a:p>
        </p:txBody>
      </p:sp>
      <p:sp>
        <p:nvSpPr>
          <p:cNvPr id="145" name="PlaceHolder 2"/>
          <p:cNvSpPr>
            <a:spLocks noGrp="1"/>
          </p:cNvSpPr>
          <p:nvPr>
            <p:ph/>
          </p:nvPr>
        </p:nvSpPr>
        <p:spPr>
          <a:xfrm>
            <a:off x="394920" y="1339920"/>
            <a:ext cx="8450280" cy="489744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l movimiento sindical </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Ampliación de las alternativas de negociación colectiva en condiciones de equilibrio</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ás protección para los trabajadores</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No discriminación, resguardo del ejercicio de los derechos constitucionales de los trabajadores</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 la acción fiscalizadora del gobierno</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gulación del trabajo temporal y la subcontratación</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Seguro de desempleo  de carácter tripartito, que se financia con aportes de empleadores y trabajadores a una cuenta individual del trabajador y aportes estatales y del empleador a un fondo solidario. </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Beneficios se entregan en caso de despido, renuncia, jubilación o muerte del trabajador</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Enero de 2005, reducción de la jornada laboral a 45 horas semanale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701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ogramas sociales</a:t>
            </a:r>
            <a:endParaRPr b="0" lang="en-US" sz="3800" spc="-1" strike="noStrike">
              <a:solidFill>
                <a:srgbClr val="006633"/>
              </a:solidFill>
              <a:latin typeface="Garamond"/>
            </a:endParaRPr>
          </a:p>
        </p:txBody>
      </p:sp>
      <p:sp>
        <p:nvSpPr>
          <p:cNvPr id="147" name="PlaceHolder 2"/>
          <p:cNvSpPr>
            <a:spLocks noGrp="1"/>
          </p:cNvSpPr>
          <p:nvPr>
            <p:ph/>
          </p:nvPr>
        </p:nvSpPr>
        <p:spPr>
          <a:xfrm>
            <a:off x="539640" y="1341000"/>
            <a:ext cx="8305920" cy="47545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Un programa social es una intervención en un territorio determinado y su gente, o al revés, es una intervención sobre un grupo de personas que está instalada en un territorio.</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implementados en América Latina no califican de descentralizados, pues vienen definidos desde el nivel central. </a:t>
            </a:r>
            <a:endParaRPr b="0" lang="en-US" sz="26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o abren cauce a procesos valiosos de desarrollo local y bien pueden entenderse como colaboradores de los procesos de descentralización.</a:t>
            </a:r>
            <a:r>
              <a:rPr b="0" lang="es-ES_tradnl" sz="2800" spc="-1" strike="noStrike">
                <a:solidFill>
                  <a:srgbClr val="000000"/>
                </a:solidFill>
                <a:latin typeface="Garamond"/>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serción institucional de los programas</a:t>
            </a:r>
            <a:endParaRPr b="0" lang="en-US" sz="3800" spc="-1" strike="noStrike">
              <a:solidFill>
                <a:srgbClr val="006633"/>
              </a:solidFill>
              <a:latin typeface="Garamond"/>
            </a:endParaRPr>
          </a:p>
        </p:txBody>
      </p:sp>
      <p:sp>
        <p:nvSpPr>
          <p:cNvPr id="149" name="PlaceHolder 2"/>
          <p:cNvSpPr>
            <a:spLocks noGrp="1"/>
          </p:cNvSpPr>
          <p:nvPr>
            <p:ph/>
          </p:nvPr>
        </p:nvSpPr>
        <p:spPr>
          <a:xfrm>
            <a:off x="394920" y="1412640"/>
            <a:ext cx="8512200" cy="482436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ños ’90: creación de nuevos servicios e instituciones: </a:t>
            </a:r>
            <a:endParaRPr b="0" lang="en-US" sz="21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nisterio de Planificación y Cooperación (MIDEPLAN)[</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ndo de Solidaridad e Inversión Social (FOSIS)</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icio Nacional de la Mujer (SERNAM)</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tituto Nacional de la Juventud (INJ)</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poración Nacional de Desarrollo Indígena (CONADI)</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ndo Nacional de la Discapacidad (FONADIS). </a:t>
            </a:r>
            <a:endParaRPr b="0" lang="en-US" sz="15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IDEPLAN se crea a partir de la antigua Oficina de Planificación Nacional (ODEPLAN), con el encargo, entre otras funciones, de coordinar los  programas dirigidos a la pobreza y grupos prioritarios.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de sus primeros años estas instituciones se vuelcan a detectar los problemas sociales “tradicionales” y emergentes y, con el cometido de contribuir a la equidad y la superación de la pobreza, a diseñar líneas programáticas de intervenc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814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ras instituciones</a:t>
            </a:r>
            <a:endParaRPr b="0" lang="en-US" sz="3800" spc="-1" strike="noStrike">
              <a:solidFill>
                <a:srgbClr val="006633"/>
              </a:solidFill>
              <a:latin typeface="Garamond"/>
            </a:endParaRPr>
          </a:p>
        </p:txBody>
      </p:sp>
      <p:sp>
        <p:nvSpPr>
          <p:cNvPr id="151" name="PlaceHolder 2"/>
          <p:cNvSpPr>
            <a:spLocks noGrp="1"/>
          </p:cNvSpPr>
          <p:nvPr>
            <p:ph/>
          </p:nvPr>
        </p:nvSpPr>
        <p:spPr>
          <a:xfrm>
            <a:off x="539640" y="1483920"/>
            <a:ext cx="8305920" cy="50403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gunas instituciones tradicionales han sido activas en la implementación de programas sociales de superación de la pobreza :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io Nacional de Capacitación y Empleo (SENCE)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to Nacional de Desarrollo Agropecuario (INDAP)</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sterio de Vivienda (SERVIU)</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io Nacional de Menores (SENAME)</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ás recientemente se crea el Servicio Nacional del Adulto Mayor (SENAM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814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lud</a:t>
            </a:r>
            <a:endParaRPr b="0" lang="en-US" sz="4200" spc="-1" strike="noStrike">
              <a:solidFill>
                <a:srgbClr val="006633"/>
              </a:solidFill>
              <a:latin typeface="Garamond"/>
            </a:endParaRPr>
          </a:p>
        </p:txBody>
      </p:sp>
      <p:sp>
        <p:nvSpPr>
          <p:cNvPr id="153" name="PlaceHolder 2"/>
          <p:cNvSpPr>
            <a:spLocks noGrp="1"/>
          </p:cNvSpPr>
          <p:nvPr>
            <p:ph/>
          </p:nvPr>
        </p:nvSpPr>
        <p:spPr>
          <a:xfrm>
            <a:off x="304920" y="1218960"/>
            <a:ext cx="8596080" cy="504036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acional de Alimentación Complementari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ención Primari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s de Enfermedad y Medicina Curativ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s de Reposo Maternal y Cuidado del Niño</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Ampliado de Inmunización</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Salud del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Oportunidades de Atención y Reducción de Listas de Esper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Control de Emisión de Fuentes Fij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Prestaciones Complej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forzamientos de Urgencia y Unidades Crític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Salud Ment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Enfermedades de Transmisión Sexu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Prevención del SIDA</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715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lud</a:t>
            </a:r>
            <a:endParaRPr b="0" lang="en-US" sz="4200" spc="-1" strike="noStrike">
              <a:solidFill>
                <a:srgbClr val="006633"/>
              </a:solidFill>
              <a:latin typeface="Garamond"/>
            </a:endParaRPr>
          </a:p>
        </p:txBody>
      </p:sp>
      <p:sp>
        <p:nvSpPr>
          <p:cNvPr id="155" name="PlaceHolder 2"/>
          <p:cNvSpPr>
            <a:spLocks noGrp="1"/>
          </p:cNvSpPr>
          <p:nvPr>
            <p:ph/>
          </p:nvPr>
        </p:nvSpPr>
        <p:spPr>
          <a:xfrm>
            <a:off x="380520" y="1294920"/>
            <a:ext cx="8464680" cy="480060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ifusión y Prevención de Salu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de Alimentación Complementaria para el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de Vacunación Antiinfluenza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Jefas de Hogar: Atención Odontológica Integral para Mujeres Jefas de Hoga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Nacional de Cáncer Cervicouterino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Oportunidad en la Atención (Poa) – Modalidad Institucion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guro Catastrófico (Sc)</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ud Or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guro Escolar de Accident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28600"/>
            <a:ext cx="8385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57" name="PlaceHolder 2"/>
          <p:cNvSpPr>
            <a:spLocks noGrp="1"/>
          </p:cNvSpPr>
          <p:nvPr>
            <p:ph/>
          </p:nvPr>
        </p:nvSpPr>
        <p:spPr>
          <a:xfrm>
            <a:off x="380520" y="1218960"/>
            <a:ext cx="8450280" cy="504036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Clásic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Familia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a Distanci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a Domicili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Comunitari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Familiar Estacion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Labor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para Párvulos de Comunidades Indígena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Patio Abiert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Radi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a Cuna en el Hoga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a Cuna en el Consultorio </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ejoramiento de la Calidad y Equidad de la Ed. Básic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ejoramiento de la Calidad y Equidad de la Ed. Med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83851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59" name="PlaceHolder 2"/>
          <p:cNvSpPr>
            <a:spLocks noGrp="1"/>
          </p:cNvSpPr>
          <p:nvPr>
            <p:ph/>
          </p:nvPr>
        </p:nvSpPr>
        <p:spPr>
          <a:xfrm>
            <a:off x="533160" y="1218960"/>
            <a:ext cx="8312040" cy="525780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joramiento de la Educación de Adulto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cursos Pedagógicos para Escuelas Rurales y Especial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Educación Mapuche IX Regió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 Educación Básica de Trabajador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Escuelas de Sectores Pobres (P-900)</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evención a la Drogadicción y al Alcoholism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Información Educativ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Textos Escolar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yecto de Mejoramiento Educativo (PME)</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Educación Superio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para Docent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Nacionales de Postgrad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para Alumnos Destacados de Pedagogí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Becas Indígena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Salud Ora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61" name="PlaceHolder 2"/>
          <p:cNvSpPr>
            <a:spLocks noGrp="1"/>
          </p:cNvSpPr>
          <p:nvPr>
            <p:ph/>
          </p:nvPr>
        </p:nvSpPr>
        <p:spPr>
          <a:xfrm>
            <a:off x="457200" y="1066680"/>
            <a:ext cx="8159760" cy="510552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Presidente de la Repúblic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Primera Dama de la Nación (Programa Especial de Becas Art.56 Ley 18.681)</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Alimentación Escolar (regular, internado, vacaciones, preescolar, refuerzo educativo, actividades extraescolares en liceos, extensión jornada escola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Útiles Escolare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idencia Familiar Estudiantil (PRFE)</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Nuevo Milenio</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ndo Solidario de Crédito Universitario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Becas de Postgrado Convenio Gobierno de Chile – BI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Pasantías de Formación Tecnológica Convenio Gobierno de Chile – BI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yectos Enlaces, Red de Informática Educación del Ministerio de Educación</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ivienda</a:t>
            </a:r>
            <a:endParaRPr b="0" lang="en-US" sz="4200" spc="-1" strike="noStrike">
              <a:solidFill>
                <a:srgbClr val="006633"/>
              </a:solidFill>
              <a:latin typeface="Garamond"/>
            </a:endParaRPr>
          </a:p>
        </p:txBody>
      </p:sp>
      <p:sp>
        <p:nvSpPr>
          <p:cNvPr id="163" name="PlaceHolder 2"/>
          <p:cNvSpPr>
            <a:spLocks noGrp="1"/>
          </p:cNvSpPr>
          <p:nvPr>
            <p:ph/>
          </p:nvPr>
        </p:nvSpPr>
        <p:spPr>
          <a:xfrm>
            <a:off x="585360" y="1569960"/>
            <a:ext cx="8450280" cy="509904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ueva Política Habitacional -homologación de subsidios-: </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ubsidio Habitacional, Título I</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ubsidio Rural Título I, II y III</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Fondo Solidario de Vivienda</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rograma PET – Entorno</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vienda Progresiva  Primera y Segunda Etapa</a:t>
            </a:r>
            <a:endParaRPr b="0" lang="en-US" sz="2100" spc="-1" strike="noStrike">
              <a:solidFill>
                <a:srgbClr val="000000"/>
              </a:solidFill>
              <a:latin typeface="Arial"/>
            </a:endParaRPr>
          </a:p>
          <a:p>
            <a:pPr lvl="1" marL="669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grama de Recuperación de Barrio Quiero mi Barrio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vimentos Participativo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grama Chile Bar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imer componente: políticas sectoriales tradicionales</a:t>
            </a:r>
            <a:endParaRPr b="0" lang="en-US" sz="3800" spc="-1" strike="noStrike">
              <a:solidFill>
                <a:srgbClr val="006633"/>
              </a:solidFill>
              <a:latin typeface="Garamond"/>
            </a:endParaRPr>
          </a:p>
        </p:txBody>
      </p:sp>
      <p:sp>
        <p:nvSpPr>
          <p:cNvPr id="101" name="PlaceHolder 2"/>
          <p:cNvSpPr>
            <a:spLocks noGrp="1"/>
          </p:cNvSpPr>
          <p:nvPr>
            <p:ph/>
          </p:nvPr>
        </p:nvSpPr>
        <p:spPr>
          <a:xfrm>
            <a:off x="468360" y="2133360"/>
            <a:ext cx="8229600" cy="36003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eguran un nivel básico de servicio para toda la población: educación, salud, vivienda, seguridad social, trabaj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tituye el anillo o núcleo central de la política social y absorbe la mayor parte de los recursos públicos destinados al ámbito soci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rsectoriales y Grupos Vulnerables</a:t>
            </a:r>
            <a:endParaRPr b="0" lang="en-US" sz="4200" spc="-1" strike="noStrike">
              <a:solidFill>
                <a:srgbClr val="006633"/>
              </a:solidFill>
              <a:latin typeface="Garamond"/>
            </a:endParaRPr>
          </a:p>
        </p:txBody>
      </p:sp>
      <p:sp>
        <p:nvSpPr>
          <p:cNvPr id="165" name="PlaceHolder 2"/>
          <p:cNvSpPr>
            <a:spLocks noGrp="1"/>
          </p:cNvSpPr>
          <p:nvPr>
            <p:ph/>
          </p:nvPr>
        </p:nvSpPr>
        <p:spPr>
          <a:xfrm>
            <a:off x="468360" y="1268280"/>
            <a:ext cx="8153280" cy="472464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istema de Protección Social Chile Solidario</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Mujeres Trabajadoras Temporeras – PMTT</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Nacional de Mujeres Jefas de Hogar</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Fondo de Desarrollo Indígena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de Apoyo a la Gestión Social Indígena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l Fomento de la Economía Indígena Urbana y Rural</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 Estudios de Preinversión para el Desarrollo Indígen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Residencial Estudiantil Alumnos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la Atención y Defensa Jurídica de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Fondo de Tierras y Aguas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Adquisición de Derechos de Agua por Indígena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Obras de Riego y/o Drenaje para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ransferencia a Comunidades Indígenas de Inmuebles Fiscal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Regularización de la Terratenencia Indígen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 la Preinversión para el Fondo de Tierras y Agu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ransferencias de Asistencia Técnica en Juventud y Pobrez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pacitación</a:t>
            </a:r>
            <a:endParaRPr b="0" lang="en-US" sz="4200" spc="-1" strike="noStrike">
              <a:solidFill>
                <a:srgbClr val="006633"/>
              </a:solidFill>
              <a:latin typeface="Garamond"/>
            </a:endParaRPr>
          </a:p>
        </p:txBody>
      </p:sp>
      <p:sp>
        <p:nvSpPr>
          <p:cNvPr id="167" name="PlaceHolder 2"/>
          <p:cNvSpPr>
            <a:spLocks noGrp="1"/>
          </p:cNvSpPr>
          <p:nvPr>
            <p:ph/>
          </p:nvPr>
        </p:nvSpPr>
        <p:spPr>
          <a:xfrm>
            <a:off x="533520" y="1523880"/>
            <a:ext cx="8007120" cy="457200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acional de Capacitació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trato de Aprendizaje</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anquicia Tributaria para Capacitación: Sistema de Capacitación en la Empres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Becas Regional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pacitación Laboral para Egresado del Programa AIPE (Apoyo a Iniciativas Personales de Emple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 directo a la Pequeña y Mediana Empres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Laboral de Jóvenes (Chile Jove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de Capacitación de Jóven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Becas de Capacitación Labor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Habilitación Laboral para Mujeres de Escasos Recursos, Preferentemente Jefas de Hogar PMJH</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776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pacitación</a:t>
            </a:r>
            <a:endParaRPr b="0" lang="en-US" sz="4200" spc="-1" strike="noStrike">
              <a:solidFill>
                <a:srgbClr val="006633"/>
              </a:solidFill>
              <a:latin typeface="Garamond"/>
            </a:endParaRPr>
          </a:p>
        </p:txBody>
      </p:sp>
      <p:sp>
        <p:nvSpPr>
          <p:cNvPr id="169" name="PlaceHolder 2"/>
          <p:cNvSpPr>
            <a:spLocks noGrp="1"/>
          </p:cNvSpPr>
          <p:nvPr>
            <p:ph/>
          </p:nvPr>
        </p:nvSpPr>
        <p:spPr>
          <a:xfrm>
            <a:off x="685440" y="1371600"/>
            <a:ext cx="8007480" cy="4191120"/>
          </a:xfrm>
          <a:prstGeom prst="rect">
            <a:avLst/>
          </a:prstGeom>
          <a:noFill/>
          <a:ln w="0">
            <a:noFill/>
          </a:ln>
        </p:spPr>
        <p:txBody>
          <a:bodyPr lIns="90000" rIns="90000" tIns="46800" bIns="46800" anchor="t">
            <a:normAutofit fontScale="95000"/>
          </a:bodyPr>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Reconvers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Reinserc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Intermediac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Pesqueros Artesanal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Productores Agrícol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Discapacitado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Trabajadores Agrícol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ivelación de Competencias Laboral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ndo de Fomento para la Pesca Artesanal: Capacitación y Asistencia Técnica Dirigida a los Pescadores Artesanales y sus Organizacion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Fomento Productivo: Línea de Capacitación de Unidades Productiv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Fomento Productivo: Línea de Formación y Capacitación Labora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04920"/>
            <a:ext cx="8077320" cy="1017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egundo componente: Programas sociales</a:t>
            </a:r>
            <a:endParaRPr b="0" lang="en-US" sz="3800" spc="-1" strike="noStrike">
              <a:solidFill>
                <a:srgbClr val="006633"/>
              </a:solidFill>
              <a:latin typeface="Garamond"/>
            </a:endParaRPr>
          </a:p>
        </p:txBody>
      </p:sp>
      <p:sp>
        <p:nvSpPr>
          <p:cNvPr id="103" name="PlaceHolder 2"/>
          <p:cNvSpPr>
            <a:spLocks noGrp="1"/>
          </p:cNvSpPr>
          <p:nvPr>
            <p:ph/>
          </p:nvPr>
        </p:nvSpPr>
        <p:spPr>
          <a:xfrm>
            <a:off x="539640" y="1484280"/>
            <a:ext cx="8436240" cy="4934160"/>
          </a:xfrm>
          <a:prstGeom prst="rect">
            <a:avLst/>
          </a:prstGeom>
          <a:noFill/>
          <a:ln w="0">
            <a:noFill/>
          </a:ln>
        </p:spPr>
        <p:txBody>
          <a:bodyPr lIns="90000" rIns="90000" tIns="46800" bIns="46800" anchor="t">
            <a:normAutofit/>
          </a:bodyPr>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as específicos dirigidos a situaciones de pobreza, precariedad, riesgo social y vulnerabilidad</a:t>
            </a:r>
            <a:endParaRPr b="0" lang="en-US" sz="2600" spc="-1" strike="noStrike">
              <a:solidFill>
                <a:srgbClr val="000000"/>
              </a:solidFill>
              <a:latin typeface="Arial"/>
            </a:endParaRPr>
          </a:p>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onde a la responsabilidad del Estado de asegurar que efectivamente los sectores vulnerables puedan desarrollar su potencial y capacidades, accediendo a las oportunidades que ofrece la economía y la sociedad</a:t>
            </a:r>
            <a:endParaRPr b="0" lang="en-US" sz="2600" spc="-1" strike="noStrike">
              <a:solidFill>
                <a:srgbClr val="000000"/>
              </a:solidFill>
              <a:latin typeface="Arial"/>
            </a:endParaRPr>
          </a:p>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es, programas y proyectos, sectoriales o dirigidos a grupos vulnerables, que tienen un heterogéneo asiento institucional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rcer componente: asiento local de los programas</a:t>
            </a:r>
            <a:endParaRPr b="0" lang="en-US" sz="3800" spc="-1" strike="noStrike">
              <a:solidFill>
                <a:srgbClr val="006633"/>
              </a:solidFill>
              <a:latin typeface="Garamond"/>
            </a:endParaRPr>
          </a:p>
        </p:txBody>
      </p:sp>
      <p:sp>
        <p:nvSpPr>
          <p:cNvPr id="105"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sponde a la inserción de los programas sociales en los municipi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anillo expresa las especificidades que adquieren los programas sociales cuando se instalan en el nivel local y el compromiso de los municipios con la implementación de la política socia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en términos de recursos, pero de alto impact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omprender la política social en la interrelación de los tres componentes</a:t>
            </a:r>
            <a:endParaRPr b="0" lang="en-US" sz="3800" spc="-1" strike="noStrike">
              <a:solidFill>
                <a:srgbClr val="006633"/>
              </a:solidFill>
              <a:latin typeface="Garamond"/>
            </a:endParaRPr>
          </a:p>
        </p:txBody>
      </p:sp>
      <p:sp>
        <p:nvSpPr>
          <p:cNvPr id="107" name=""/>
          <p:cNvSpPr/>
          <p:nvPr/>
        </p:nvSpPr>
        <p:spPr>
          <a:xfrm>
            <a:off x="611280" y="1921680"/>
            <a:ext cx="7704000" cy="35067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superación de la pobrez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integración social y el desarrollo de la ciudadanía se logran combinando políticas universales básicas con políticas específicas que apoyen a las familias, organizaciones, servicios y comunidad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 que puedan aprovechar la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ortunidades que la sociedad les ofre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lítica sectorial + programas sociales configuran modelo de Estado Social</a:t>
            </a:r>
            <a:endParaRPr b="0" lang="en-US" sz="3800" spc="-1" strike="noStrike">
              <a:solidFill>
                <a:srgbClr val="006633"/>
              </a:solidFill>
              <a:latin typeface="Garamond"/>
            </a:endParaRPr>
          </a:p>
        </p:txBody>
      </p:sp>
      <p:sp>
        <p:nvSpPr>
          <p:cNvPr id="109" name="PlaceHolder 2"/>
          <p:cNvSpPr>
            <a:spLocks noGrp="1"/>
          </p:cNvSpPr>
          <p:nvPr>
            <p:ph/>
          </p:nvPr>
        </p:nvSpPr>
        <p:spPr>
          <a:xfrm>
            <a:off x="468360" y="1773360"/>
            <a:ext cx="8229600" cy="4060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domina en A. Latina un modelo que: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menta las soluciones de mercado y sólo interviene de manera residual, como respuesta a los fallos de mercad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e importante de los beneficios (derechos) se otorgan bajo prueba de comprobación de medios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ayuda pública se limita a unos estratos de riesgo específicos, dividiendo a la sociedad entre “nosotros”, los que nos aseguramos de manera autónoma a través del mercado, y “ellos”, los que dependen de las prestaciones públicas de bienestar para asegurarse frente a los riesg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pciones de política pública</a:t>
            </a:r>
            <a:endParaRPr b="0" lang="en-US" sz="38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apuesta es combinar la política pública con esfuerzos privados y del tercer sector, de modo tal de construir una </a:t>
            </a:r>
            <a:r>
              <a:rPr b="0" lang="en-US" sz="2100" spc="-1" strike="noStrike" u="sng">
                <a:solidFill>
                  <a:srgbClr val="000000"/>
                </a:solidFill>
                <a:uFillTx/>
                <a:latin typeface="Arial"/>
              </a:rPr>
              <a:t>sociedad</a:t>
            </a:r>
            <a:r>
              <a:rPr b="0" lang="en-US" sz="2100" spc="-1" strike="noStrike">
                <a:solidFill>
                  <a:srgbClr val="000000"/>
                </a:solidFill>
                <a:latin typeface="Arial"/>
              </a:rPr>
              <a:t> del bienestar, más que un </a:t>
            </a:r>
            <a:r>
              <a:rPr b="0" lang="en-US" sz="2100" spc="-1" strike="noStrike" u="sng">
                <a:solidFill>
                  <a:srgbClr val="000000"/>
                </a:solidFill>
                <a:uFillTx/>
                <a:latin typeface="Arial"/>
              </a:rPr>
              <a:t>estado</a:t>
            </a:r>
            <a:r>
              <a:rPr b="0" lang="en-US" sz="2100" spc="-1" strike="noStrike">
                <a:solidFill>
                  <a:srgbClr val="000000"/>
                </a:solidFill>
                <a:latin typeface="Arial"/>
              </a:rPr>
              <a:t> de bienestar</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blema: la oferta privada no llega a los más vulnerables, porque no hay incentivos económicos para ofrecer servicios de buena calidad a los pobres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ida: complementar la política sectorial con programas sociales, ante el convencimiento de que ni el mercado ni las políticas sociales logran penetrar con eficacia en el mundo de la extrema pobreza, por lo que es necesario diseñar e implementar programas públicos específicos dirigidos a esa població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Sistema de Salud</a:t>
            </a:r>
            <a:endParaRPr b="0" lang="en-US" sz="38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istema mixto, público y privado: personas con ingresos estables deben cotizar en forma obligatoria el 7% de sus ingreso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istema privado nace en 1981 con la creación de las Instituciones de Salud Previsional (Isapre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Aseguradoras privadas de salud que captan cotización de un seguro de salud de los afiliados de conformidad con planes de prestación pactados con ellos</a:t>
            </a:r>
            <a:r>
              <a:rPr b="0" lang="es-ES"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00:09:26Z</dcterms:created>
  <dc:creator>Ignacia Fernandez</dc:creator>
  <dc:description/>
  <dc:language>en-US</dc:language>
  <cp:lastModifiedBy>mfernand</cp:lastModifiedBy>
  <dcterms:modified xsi:type="dcterms:W3CDTF">2007-10-30T12:13:19Z</dcterms:modified>
  <cp:revision>33</cp:revision>
  <dc:subject/>
  <dc:title>Diapositiva 1</dc:title>
</cp:coreProperties>
</file>