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B02F-A047-4860-A016-339CE862CA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F8B-D91B-4D64-BB91-53B8937B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156-A4C7-4255-87AA-2117190F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5F5-52D0-4C67-8DE9-1A2A5520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834-979E-4B33-8512-599C0137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F1EB-0DB8-4E26-B6CE-CB549277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12FE-1A82-4E30-8F71-55BF35D9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B6C9-BFBF-4D62-A4D6-D54D010D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6DBB-B0D9-4D44-A3C7-A92C3BF5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B14E-3F6D-4F4D-BC7A-D30D9B84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5F39-70FD-4C0F-8AB4-D173DBC8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9F4F-3FD6-4D22-8E6E-6584D545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C46-059C-4D1A-8AAC-0B14EE2C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974D-6A56-41E2-B711-0069BBA8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1855-296D-4196-BA20-8F72FF8C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2D46-2222-4A4C-B7C9-E6F35A4F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01DD-32DE-415C-8B0C-999BBEAE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5FC4-65B0-41CA-A910-9624215A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753-DC22-45BA-9993-372068A8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C58-140A-49C4-B926-E58A0977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95E-1116-4140-B4FF-E4552A3D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4FC-73BC-4F69-AF77-AD7C3CC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1B4-B4BF-4A7D-8228-098CB9A7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9EF-568F-4DC2-A8DD-B916C88D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F89-AB26-4DA7-A3F1-B9C0D69C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87A4-A816-4B68-99CC-036D270EC22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97C8-FCA3-4339-99EC-45A05704E0E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Instrumentos y enfoques de la política social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1. Universalismo, focalización y política social en el nivel loc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6 de 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os de s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dividual o famili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ificación situación de ingreso o situación económica: ficha CAS u otr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o del program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ere identificar territorios en los que haya fuerte incidencia de pobre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as de pobreza, áreas con fuerte concentración de pobreza o necesidades insatisfech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OSTOS DE FOCALIZAR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Administrativ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s de elaboración, aplicación, actualización y control de los instrumentos (varía entre 0.4% y 29% del costo total del progr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psicosocia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gmatización social y dependencia de la población de los programas del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fectos secundarios o no esper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parar a los pobres de los no pobres, polarización o du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oyo político y continuidad de los progra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In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beneficio se filtra hacia segmentos sociales excluidos del grupo destina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Ex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echa entre el universo de los destinatarios y los sujetos acogidos por el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BONDADES Y DESVENTAJAS</a:t>
            </a:r>
            <a:br>
              <a:rPr sz="3800"/>
            </a:b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DE LOS MECANISMO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7488360" cy="46814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39680" y="1484280"/>
          <a:ext cx="7635960" cy="46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84280"/>
                    <a:ext cx="76359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6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OPCIONES DE POLITICA PÚBL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como carenci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de apoy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ilegio de instrumentos que se apoyan en la demanda, discriminando entre personas y hogares según situación socio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Apoyo a las personas u hogares pobres para alivianar / compensar su situación les permitirá abandonar su situación d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asociada a estructura de oportunidades y contexto sociocultural y económic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nfasis en programas que crean oportunidades de empleo, generación de ingreso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tregan herramientas para revertir sostenidamente situación de ad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Pobreza también se vincula con posibilidades y limitaciones locales, por lo que no basta con actuar sobre carencias individuales o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sociales más exitosos en Chile han combinado acciones universales y acciones foc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oposición entre estas dos orient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programas universales facilita  el diseño e implementación de programas específicos foc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desea focalizar un programa social es indispensable dispone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fidedigna sobre la realidad que se propone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ecanismo más eficiente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año del grupo destinatario y los caminos más expeditos para llegar a 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información es difícil / imposible focaliz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una sola manera de focalizar. Ficha socioeconómica de hogares es fal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ntajas y desventajas de la focalización depende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tuación específica y momentos en los cuales se a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de la pobreza y vulnerabilidades específicas que afectan a la población y los procesos que la determi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ivos de la política o program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idades de las instituciones a cargo de la ejecución de los programas y de los sistemas de información que mane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centr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loc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(NUEVOS) EJES EN EL DISEÑO DE LA POLÍTICA SOCIAL: ORIG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ños 70 y 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 fiscal, ajuste, costo social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s de excepción” que van en alivio de población en situación mas difíc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as de compensa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nicipalidades enfrentan problemas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ceso de descentralización asigna un rol ambiguo al munici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regunta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UNIVERSAL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on aquellas que se diseñan en beneficio de todos los habitantes, sin importar sus características  económica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bsidios a los precios de bienes básicos (alimentos, transporte públ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rvicios de educación y salud abiertos a atender a quien se ace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SELECTIV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grupo se delimita por alguna vulnerabilidad específica asociada a una situación sociodemográfica, de ciclo vital o de inserción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limita el grupo destinatario según una variable que refleja  pobreza o riesgo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FOCALIZAD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focalización es una opción e instrumento de las política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spuesta a la crisis fis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el gasto público a fin de equilibrar el  presupuesto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liar los efectos sociales de la crisis y reducir la pobre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centrar el gasto social en la población más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ar credibilidad al combate a la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minuir el clientelismo (tecnificación y mas transparencia en la asignación de benefici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ARA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11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períodos de cris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o de necesidades insatisfec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forma perman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mejorar diseño de los progra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su eficac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el impacto en la población destinata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excluir a quienes no afecta la necesidad prevista en el programa  e incluir sólo a los directamente afect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es posibl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convien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canismos de focalización (selección de destina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demanda (individuos o grupo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potenciales beneficiarios directos (hogares, personas, unidades productivas) ,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ofert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entidades que ofrecen prestaciones, servicios o 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gares de localidad que califica de pobre, reciben el servicio o subs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utoselección, programas que solo interesan al grupo al cual se quiere benefic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mfernand</cp:lastModifiedBy>
  <dcterms:modified xsi:type="dcterms:W3CDTF">2007-10-24T22:25:46Z</dcterms:modified>
  <cp:revision>20</cp:revision>
  <dc:subject/>
  <dc:title>Diapositiva 1</dc:title>
</cp:coreProperties>
</file>