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E86E-6FA8-4AB4-ABC0-CE4640DEF2B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44E-8899-4E91-B374-B6A03FC4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11A-9D91-4810-BD91-87B802BA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EDA-789F-429E-9241-9F31B311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E38-D4E2-423A-99E7-E68C09AC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A8EA-DC75-49DD-9B23-8FC7FB366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DC98-72FC-4EBE-A722-7BF94BA4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06DF-16B3-4F02-B921-A961A1A3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7DF8-0BB5-410D-9224-1CE366D1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7BDB-E1F0-4967-9466-7161096D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3412-911F-4B30-AF1A-AEC4AF95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90B1-B69B-41E8-968F-0976CB74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649-ABFB-47BC-B00D-49853442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2FAC-14B5-4AFB-BBE1-A14778E5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9C76-CABE-49E8-B608-211A60A4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1C9A-9B87-4C22-9652-EB804795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0DF9-7945-4ED4-95CF-CEF056ED3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9A12-8169-4390-A6BE-3E43280C4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7EE-A61E-49E8-A4B1-EC18EEDD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1DF-7EB9-42C5-80F7-66CE50EA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4C8-A0A1-41E7-B690-6AF715F7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571-FD18-4E54-82D4-BD99C2F1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549-4894-481A-9221-DAC0C4D3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3CA-B42D-44DF-BD78-6424FC7A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C70-4B4B-49DE-B866-C4E1A97E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F4A1-1499-4CBC-8E2C-2ABF3E2438C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E35D-820A-4573-ACDF-E452126B565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623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Instrumentos y enfoques de la política social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1. Universalismo, focalización y política social en el nivel loc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6 de 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os de s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dividual o familia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ificación situación de ingreso o situación económica: ficha CAS u otr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o del program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ere identificar territorios en los que haya fuerte incidencia de pobre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as de pobreza, áreas con fuerte concentración de pobreza o necesidades insatisfech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OSTOS DE FOCALIZAR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Administrativo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s de elaboración, aplicación, actualización y control de los instrumentos (varía entre 0.4% y 29% del costo total del progra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psicosocia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gmatización social y dependencia de la población de los programas del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fectos secundarios o no esper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parar a los pobres de los no pobres, polarización o du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oyo político y continuidad de los progra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In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beneficio se filtra hacia segmentos sociales excluidos del grupo destina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Ex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echa entre el universo de los destinatarios y los sujetos acogidos por el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BONDADES Y DESVENTAJAS</a:t>
            </a:r>
            <a:br>
              <a:rPr sz="3800"/>
            </a:b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DE LOS MECANISMO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84280"/>
            <a:ext cx="7488360" cy="46814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39680" y="1484280"/>
          <a:ext cx="7635960" cy="46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484280"/>
                    <a:ext cx="76359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6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OPCIONES DE POLITICA PÚBL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6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como carenci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de apoy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ilegio de instrumentos que se apoyan en la demanda, discriminando entre personas y hogares según situación socio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Apoyo a las personas u hogares pobres para alivianar / compensar su situación les permitirá abandonar su situación d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asociada a estructura de oportunidades y contexto sociocultural y económic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Énfasis en programas que crean oportunidades de empleo, generación de ingreso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tregan herramientas para revertir sostenidamente situación de ad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Pobreza también se vincula con posibilidades y limitaciones locales, por lo que no basta con actuar sobre carencias individuales o fam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123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sociales más exitosos en Chile han combinado acciones universales y acciones foca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oposición entre estas dos orient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programas universales facilita  el diseño e implementación de programas específicos foc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desea focalizar un programa social es indispensable dispone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fidedigna sobre la realidad que se propone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ecanismo más eficiente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año del grupo destinatario y los caminos más expeditos para llegar a 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n información es difícil / imposible focaliz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4136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una sola manera de focalizar. Ficha socioeconómica de hogares es fal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ntajas y desventajas de la focalización depende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tuación específica y momentos en los cuales se a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de la pobreza y vulnerabilidades específicas que afectan a la población y los procesos que la determi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jetivos de la política o program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ularidades de las instituciones a cargo de la ejecución de los programas y de los sistemas de información que mane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centr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loc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(NUEVOS) EJES EN EL DISEÑO DE LA POLÍTICA SOCIAL: ORIG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ños 70 y 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sis fiscal, ajuste, costo social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s de excepción” que van en alivio de población en situación mas difíc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as de compensación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nicipalidades enfrentan problemas de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ceso de descentralización asigna un rol ambiguo al munici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regunta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UNIVERSAL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3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on aquellas que se diseñan en beneficio de todos los habitantes, sin importar sus características  económica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bsidios a los precios de bienes básicos (alimentos, transporte públ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rvicios de educación y salud abiertos a atender a quien se ace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SELECTIV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grupo se delimita por alguna vulnerabilidad específica asociada a una situación sociodemográfica, de ciclo vital o de inserción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limita el grupo destinatario según una variable que refleja  pobreza o riesgo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FOCALIZAD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focalización es una opción e instrumento de las política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spuesta a la crisis fis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el gasto público a fin de equilibrar el  presupuesto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liar los efectos sociales de la crisis y reducir la pobre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centrar el gasto social en la población más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ar credibilidad al combate a la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minuir el clientelismo (tecnificación y mas transparencia en la asignación de benefici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ARA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11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períodos de crisi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imitación de recurs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o de necesidades insatisfech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forma perman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mejorar diseño de los progra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su eficaci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el impacto en la población destinata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excluir a quienes no afecta la necesidad prevista en el programa  e incluir sólo a los directamente afect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es posibl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convien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canismos de focalización (selección de destina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demanda (individuos o grupo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potenciales beneficiarios directos (hogares, personas, unidades productivas) ,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ofert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entidades que ofrecen prestaciones, servicios o 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gares de localidad que califica de pobre, reciben el servicio o subs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utoselección, programas que solo interesan al grupo al cual se quiere benefici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mfernand</cp:lastModifiedBy>
  <dcterms:modified xsi:type="dcterms:W3CDTF">2007-10-24T22:25:46Z</dcterms:modified>
  <cp:revision>20</cp:revision>
  <dc:subject/>
  <dc:title>Diapositiva 1</dc:title>
</cp:coreProperties>
</file>