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move the slide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830D-190F-40DE-ABBA-5C00892D342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Inicialmente implicó relegitimar al Estado y devolverle credibil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Quienes viven en condiciones de pobreza son afectados por barreras culturales, por carecer de información sobre los programas, por manejarse dificultosamente en la maraña burocrática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38320" y="714240"/>
            <a:ext cx="4583160" cy="34369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63560"/>
            <a:ext cx="5029200" cy="40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- Bienes Públicos, Ej. Epidemia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6A83-B24F-443B-A1A2-077EE78EA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C9EF-AF0F-4B3F-BE83-0129241A0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D49E-FEED-4CFE-95D1-16030D04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93C-45ED-4F48-89F7-55784443D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2479-73F0-492B-9034-1C6B662CE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2FCDD-E3BF-4A87-B988-88A570B90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4EE7C-6DB8-4346-9FA3-701E23C2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FBC5-530E-4219-AE01-149AE3B26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E4D96-B578-4779-A305-29932F4C5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45AB-942D-49F5-A99D-1F1E41B64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C0883-867F-44CA-8671-FC85A4CAB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0A4D-A9DD-4771-B515-E29943FE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2DC86-0224-4CC3-B7E3-E3B6ED40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33D61-47C6-4E4F-A2DB-E031F9308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0C4A0-AB01-4D6F-BF01-D36265601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D8B0E-E952-4F4B-8AB1-8739AEB3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AD97D-50C2-4D79-9D57-24B90221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1FF-8981-49A3-8837-BE98A2625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E0C0-3953-47D9-99A3-5F96CEFBE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9C0-76D3-4458-BF94-86FE05D86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7164-0D78-40E5-88A1-C2FDBE1B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9A55-EEFD-4936-82BA-96C422F3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F948-2959-43B7-9B6B-CBD3606D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3E9B-2212-4069-8E6B-AA24E7E5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39280" y="6248520"/>
            <a:ext cx="799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 - 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7D817-E84E-4E06-BF85-94DB5D9FB96F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468360" y="6243480"/>
            <a:ext cx="792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600" spc="-1" strike="noStrike">
                <a:solidFill>
                  <a:srgbClr val="cc99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9900"/>
                </a:solidFill>
                <a:latin typeface="Garamond"/>
              </a:rPr>
              <a:t>Pobreza: diagnóstico, políticas e instru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Garamond"/>
              </a:rPr>
              <a:t>MGPP, Octubre-Noviembre, 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5A4F8-67EA-479E-9CC5-4DBE6E26BEC1}" type="slidenum">
              <a:rPr b="0" lang="es-E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1197000"/>
            <a:ext cx="762336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Instrumentos y enfoques de la política social </a:t>
            </a:r>
            <a:br>
              <a:rPr sz="4600"/>
            </a:b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1. Universalismo, focalización y política social en el nivel local</a:t>
            </a: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M. Ignacia Fernánd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26 de octubre de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3073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412640"/>
            <a:ext cx="8534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strumentos de sele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Individual o familiar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rificación situación de ingreso o situación económica: ficha CAS u otra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pio del program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autofocalizante: autoselección o a quienes entregan servicios y atienden a la población mas pobre. Precisa diagnósticos de las institucione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quiere identificar territorios en los que haya fuerte incidencia de pobrez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pas de pobreza, áreas con fuerte concentración de pobreza o necesidades insatisfech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257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OSTOS DE FOCALIZAR?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Administrativo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areas de elaboración, aplicación, actualización y control de los instrumentos (varía entre 0.4% y 29% del costo total del program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stos psicosocial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tigmatización social y dependencia de la población de los programas del Es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fectos secundarios o no esperad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33516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parar a los pobres de los no pobres, polarización o dualiz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649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Apoyo político y continuidad de los program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ERRORES DE FOC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7524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In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beneficio se filtra hacia segmentos sociales excluidos del grupo destinatar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0">
              <a:spcBef>
                <a:spcPts val="550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 Exclusió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79640" indent="-246240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recha entre el universo de los destinatarios y los sujetos acogidos por el program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spcBef>
                <a:spcPts val="649"/>
              </a:spcBef>
              <a:buNone/>
              <a:tabLst>
                <a:tab algn="l" pos="0"/>
                <a:tab algn="l" pos="952560"/>
                <a:tab algn="l" pos="1168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853920"/>
                <a:tab algn="l" pos="1708200"/>
                <a:tab algn="l" pos="2562120"/>
                <a:tab algn="l" pos="3416400"/>
                <a:tab algn="l" pos="4270320"/>
                <a:tab algn="l" pos="5124600"/>
                <a:tab algn="l" pos="5978520"/>
                <a:tab algn="l" pos="6832440"/>
                <a:tab algn="l" pos="7686720"/>
                <a:tab algn="l" pos="8540640"/>
                <a:tab algn="l" pos="9394920"/>
                <a:tab algn="l" pos="1024884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BONDADES Y DESVENTAJAS</a:t>
            </a:r>
            <a:br>
              <a:rPr sz="3800"/>
            </a:b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DE LOS MECANISMOS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900000" y="1484280"/>
            <a:ext cx="7488360" cy="4681440"/>
          </a:xfrm>
          <a:prstGeom prst="rect">
            <a:avLst/>
          </a:prstGeom>
          <a:solidFill>
            <a:srgbClr val="00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039680" y="1484280"/>
          <a:ext cx="7635960" cy="464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1484280"/>
                    <a:ext cx="763596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46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OPCIONES DE POLITICA PÚBLIC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9636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como carencia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de apoyo dire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vilegio de instrumentos que se apoyan en la demanda, discriminando entre personas y hogares según situación socioeconóm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Apoyo a las personas u hogares pobres para alivianar / compensar su situación les permitirá abandonar su situación de pob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5000"/>
              <a:buFont typeface="Wingdings" charset="2"/>
              <a:buChar char=""/>
              <a:tabLst>
                <a:tab algn="l" pos="952560"/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Pobreza asociada a estructura de oportunidades y contexto sociocultural y económico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Énfasis en programas que crean oportunidades de empleo, generación de ingreso e integración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entregan herramientas para revertir sostenidamente situación de advers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428840"/>
                <a:tab algn="l" pos="1905120"/>
                <a:tab algn="l" pos="2381400"/>
                <a:tab algn="l" pos="2857680"/>
                <a:tab algn="l" pos="3333600"/>
                <a:tab algn="l" pos="3809880"/>
                <a:tab algn="l" pos="4286160"/>
                <a:tab algn="l" pos="4762440"/>
                <a:tab algn="l" pos="5238720"/>
                <a:tab algn="l" pos="5715000"/>
                <a:tab algn="l" pos="6191280"/>
                <a:tab algn="l" pos="6667560"/>
                <a:tab algn="l" pos="7143840"/>
                <a:tab algn="l" pos="7620120"/>
                <a:tab algn="l" pos="8096400"/>
                <a:tab algn="l" pos="8572680"/>
                <a:tab algn="l" pos="9048600"/>
                <a:tab algn="l" pos="9524880"/>
                <a:tab algn="l" pos="10001160"/>
                <a:tab algn="l" pos="1047744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puesto: Pobreza también se vincula con posibilidades y limitaciones locales, por lo que no basta con actuar sobre carencias individuales o famili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1360" y="260280"/>
            <a:ext cx="8001000" cy="8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br>
              <a:rPr sz="3400"/>
            </a:b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3640" y="112392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Focalización depende tanto de orientaciones globales y decisiones macro-sociales de política pública, como de decisiones concretas a nivel de programas específic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gramas sociales más exitosos en Chile han combinado acciones universales y acciones foca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oposición entre estas dos orientaciones de polí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stencia de programas universales facilita  el diseño e implementación de programas específicos focaliz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se desea focalizar un programa social es indispensable disponer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nformación fidedigna sobre la realidad que se propone modif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ecanismo más eficiente para hace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amaño del grupo destinatario y los caminos más expeditos para llegar a é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n información es difícil / imposible focaliz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1520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400" spc="-1" strike="noStrike">
                <a:solidFill>
                  <a:srgbClr val="006633"/>
                </a:solidFill>
                <a:latin typeface="Garamond"/>
              </a:rPr>
              <a:t>LECCIONES SOBRE FOCALIZACIÓN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1341360"/>
            <a:ext cx="8458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 hay una sola manera de focalizar. Ficha socioeconómica de hogares es fal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 es aplicada en forma exclusiva, deja de lado el entorno comunitario en el cual se desenvuelve la vida de las personas, éste es tan importante como las intervenciones a nivel individu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6360" indent="-576360">
              <a:lnSpc>
                <a:spcPct val="9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entajas y desventajas de la focalización dependen 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ituación específica y momentos en los cuales se apl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racterísticas de la pobreza y vulnerabilidades específicas que afectan a la población y los procesos que la determi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Objetivos de la política o programa so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52640" indent="-285840">
              <a:lnSpc>
                <a:spcPct val="9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articularidades de las instituciones a cargo de la ejecución de los programas y de los sistemas de información que mane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250920" y="1700280"/>
            <a:ext cx="5400720" cy="41050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060640"/>
            <a:ext cx="4680000" cy="27367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32000" y="2034720"/>
            <a:ext cx="3020760" cy="1941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olítica social tra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47640" y="3860640"/>
            <a:ext cx="28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33"/>
                </a:solidFill>
                <a:latin typeface="Garamond"/>
                <a:ea typeface="Arial"/>
              </a:rPr>
              <a:t>Program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92360" y="4869000"/>
            <a:ext cx="28796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6633"/>
                </a:solidFill>
                <a:latin typeface="Garamond"/>
                <a:ea typeface="Arial"/>
              </a:rPr>
              <a:t>Programas local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284720" y="1989000"/>
            <a:ext cx="15843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084720" y="1088640"/>
            <a:ext cx="251964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Descentralización educación y salu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219640" y="33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84720" y="2278800"/>
            <a:ext cx="2519640" cy="1922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Particip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lexi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Foc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Énfasis en el terri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932360" y="5157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4439520"/>
            <a:ext cx="2519640" cy="1557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6633"/>
                </a:solidFill>
                <a:latin typeface="Garamond"/>
                <a:ea typeface="Arial"/>
              </a:rPr>
              <a:t>Experiencias atractivas de desarrollo terri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77920"/>
            <a:ext cx="82296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Tres anillos de la política social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centr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11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ineamientos y orientaciones generales de políticas sector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eña programas sociales y asume su coordinación central (criterios homogéne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fine los criterios de traspaso de recursos y administra su traspaso: modelo predominante es el de principal ag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pervisa implementación (en coordinación con niveles subnaciona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nivel local en la política soci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8229600" cy="43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ministra salud y educ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analiza y administra programas sociales diversos definidos en el nivel cent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aboración de información, organización de reuniones con la comunidad, formulación de proyectos, tiempo de sus profesionales y funcio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ficinas municipales especializadas (mujer, infancia, juventud, emple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iciativas y proyectos pro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006633"/>
                </a:solidFill>
                <a:latin typeface="Garamond"/>
              </a:rPr>
              <a:t>(NUEVOS) EJES EN EL DISEÑO DE LA POLÍTICA SOCIAL: ORIGE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2205000"/>
            <a:ext cx="82090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ños 70 y 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isis fiscal, ajuste, costo social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líticas de excepción” que van en alivio de población en situación mas difíci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gramas de compensación soc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centraliz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El municipio: </a:t>
            </a:r>
            <a:br>
              <a:rPr sz="3800"/>
            </a:b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actor clave del desarrollo loc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3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centralización concibe al municipio como el articulador del desarrollo social comun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uevos programas demandan acciones de las municipalidades y se ligan a la actividad social que estas realiz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n embarg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unicipalidades enfrentan problemas de gest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roceso de descentralización asigna un rol ambiguo al municipi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Dificultades de la gestión municip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Falta de misión institucional y visión estratég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iderazgo, conducción del municipio y clima organizacional adver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Organización interna, tareas y funciones: forma tradicional de hacer las cos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pendencia económico financier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stricciones de recursos humanos y financie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ificultades para modernizarse y mejorar calidad de los servic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scasa autonomía para iniciar cursos de acción prop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9280" y="244440"/>
            <a:ext cx="866304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Rol del municipio en el proceso de descentralizació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Programas no siempre son adecuados y pertinentes a la realidad loc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o se cumple la hipótesis de coordinación positiva de cara a los usuari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unicipalidad debiera ser el nex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(es la instancia más cercana a las persona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211640" y="4149720"/>
            <a:ext cx="504720" cy="28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6633"/>
                </a:solidFill>
                <a:latin typeface="Garamond"/>
              </a:rPr>
              <a:t>Pregunta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generar una reorganización del Estado que entregue más recursos y mayores responsabilidades a los entes subnacionales, capaz de reconocer y responder a la diversidad de situaciones locales, que promueva la participación social y busque soluciones a los problem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UNIVERSALE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8076960" cy="433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Son aquellas que se diseñan en beneficio de todos los habitantes, sin importar sus características  económicas y social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Ejemplo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ubsidios a los precios de bienes básicos (alimentos, transporte públic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rvicios de educación y salud abiertos a atender a quien se acer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SELECTIV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1628640"/>
            <a:ext cx="8381880" cy="49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formulan pensando en un grupo destinatario específic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CATEGO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grupo se delimita por alguna vulnerabilidad específica asociada a una situación sociodemográfica, de ciclo vital o de inserción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RITERIO DE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63560" indent="-2858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limita el grupo destinatario según una variable que refleja  pobreza o riesgo soci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153280" cy="7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POLITICAS FOCALIZADAS</a:t>
            </a:r>
            <a:r>
              <a:rPr b="1" i="1" lang="es-ES_tradnl" sz="4200" spc="-1" strike="noStrike">
                <a:solidFill>
                  <a:srgbClr val="008000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proponen beneficiar únicamente a sectores poblacionales ubicados por debajo de cierto umbral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La focalización es una opción e instrumento de las política sociales, al servicio de los objetivos de dichas polít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i es conveniente / pertinente focalizar depende de los objetivos de la política así como de la magnitud del tema de pobreza o riesgo so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Mientras menor la magnitud o extensión de la pobreza mayor la necesidad de focalizar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-31644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situaciones de pobreza generalizada es mas difícil y conflictivo focaliz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64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OR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3059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Respuesta a la crisis fisc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ducir el gasto público a fin de equilibrar el  presupuesto fis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Paliar los efectos sociales de la crisis y reducir la pobrez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centrar el gasto social en la población más pob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285840">
              <a:lnSpc>
                <a:spcPct val="8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ar credibilidad al combate a la pobrez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7440" indent="-48744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Disminuir el clientelismo (tecnificación y mas transparencia en la asignación de beneficio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487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10414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PARA QUÉ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1280" y="1413000"/>
            <a:ext cx="771192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períodos de crisi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Limitación de recurs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o de necesidades insatisfech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En forma permanent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mejorar diseño de los programa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su eficacia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Aumenta el impacto en la población destinata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-2858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mite excluir a quienes no afecta la necesidad prevista en el programa  e incluir sólo a los directamente afectado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10760"/>
            <a:ext cx="8153280" cy="7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UÁND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153280" cy="499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es posibl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iempre que no se vulneren disposiciones legales de prestación de servicios generaliz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Defensa de bienes públicos (situaciones de epidemia y cuando existe un problema que no es visualizado como tal por la población con capacidad de pag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¿Cuándo conviene focaliza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Bajo crisis económ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n prosperidad también ya     que asegura impacto en la solución de problemas y libera recurs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agnitud del problema o riesgo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-4748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uando existe información suficiente para hacerlo con un costo ba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52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7524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37960"/>
            <a:ext cx="830736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800" spc="-1" strike="noStrike">
                <a:solidFill>
                  <a:srgbClr val="006633"/>
                </a:solidFill>
                <a:latin typeface="Garamond"/>
              </a:rPr>
              <a:t>¿CÓMO FOCALIZAR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8920" y="1197000"/>
            <a:ext cx="86108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ecanismos de focalización (selección de destinatario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demanda (individuos o grupos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potenciales beneficiarios directos (hogares, personas, unidades productivas) , vouc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ofert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ioriza entidades que ofrecen prestaciones, servicios o subsi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Según Áreas geográficas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424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gares de localidad que califica de pobre, reciben el servicio o subsi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4120" indent="-474840">
              <a:lnSpc>
                <a:spcPct val="80000"/>
              </a:lnSpc>
              <a:spcBef>
                <a:spcPts val="550"/>
              </a:spcBef>
              <a:buClr>
                <a:srgbClr val="996600"/>
              </a:buClr>
              <a:buSzPct val="60000"/>
              <a:buFont typeface="Wingdings" charset="2"/>
              <a:buChar char=""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utoselección, programas que solo interesan al grupo al cual se quiere benefici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8T00:09:26Z</dcterms:created>
  <dc:creator>Ignacia Fernandez</dc:creator>
  <dc:description/>
  <dc:language>en-US</dc:language>
  <cp:lastModifiedBy>mfernand</cp:lastModifiedBy>
  <dcterms:modified xsi:type="dcterms:W3CDTF">2007-10-24T22:25:46Z</dcterms:modified>
  <cp:revision>20</cp:revision>
  <dc:subject/>
  <dc:title>Diapositiva 1</dc:title>
</cp:coreProperties>
</file>