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E020-CE5A-4E3D-BCC1-AECDB37479F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38320" y="71424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63560"/>
            <a:ext cx="502920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Inicialmente implicó relegitimar al Estado y devolverle credibilid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- Quienes viven en condiciones de pobreza son afectados por barreras culturales, por carecer de información sobre los programas, por manejarse dificultosamente en la maraña burocrática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38320" y="71424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63560"/>
            <a:ext cx="502920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- Bienes Públicos, Ej. Epidemi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FF95-D8BE-4900-A0CA-B593C742D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4351-7AFB-4109-BFDF-A0264F78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EA24-E7AD-4C64-A0AA-98DCDE10F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715F-C6FF-4545-8375-24B1A11DE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1035-0757-44C9-B67E-916D9CAA5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03E6-3B2B-4320-9D35-045D5EBB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D9EC7-2FF1-43C0-92EF-0B74902C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614F-6264-45F0-A27A-3C3E4249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D3BD-253C-4710-88BD-E3F2ABD4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F15F-8F26-430C-9835-B7310236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88FE-15EF-42D0-BC46-27D5D12B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312C-099F-4ACA-B574-44730F0E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AA36-F22E-4077-88B1-B628E95B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8A19-203F-4C03-B03C-43783766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5BE8-792B-46AF-BEC3-DBC863E1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B7DE-4E33-4C64-B8B7-735A43557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1714-6FDF-4C74-8F1C-278423957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8B9B-CC04-46F7-A135-841B57A3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41C4-9828-42BA-A3AB-39C44585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DC8E-F533-4F03-A19D-321AEC54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A36E-ABDC-4D2E-94D6-66AD9046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1058-309E-4A59-9332-04755B6B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C0CF-5141-4274-A192-ACB1E8AA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E65A-BDAA-4820-B4AD-7A8E54B2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560F-2563-4BBB-9890-393B0793DF9B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-Noviembre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2EF3-E0AD-4E1A-879B-8BB2F1280DBF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1197000"/>
            <a:ext cx="7623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Instrumentos y enfoques de la política social </a:t>
            </a:r>
            <a:br>
              <a:rPr sz="4600"/>
            </a:b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1. Universalismo, focalización y política social en el nivel local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. Ignacia Fernánd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26 de octubre d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30736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CÓMO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534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strumentos de selec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dividual o familiar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rificación situación de ingreso o situación económica: ficha CAS u otra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opio del program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eño autofocalizante: autoselección o a quienes entregan servicios y atienden a la población mas pobre. Precisa diagnósticos de las instituciones o servic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Áreas geográfica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quiere identificar territorios en los que haya fuerte incidencia de pobrez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pas de pobreza, áreas con fuerte concentración de pobreza o necesidades insatisfech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37960"/>
            <a:ext cx="83073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COSTOS DE FOCALIZAR?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-474840">
              <a:lnSpc>
                <a:spcPct val="8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stos Administrativo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areas de elaboración, aplicación, actualización y control de los instrumentos (varía entre 0.4% y 29% del costo total del program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stos psicosociale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igmatización social y dependencia de la población de los programas del Est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fectos secundarios o no esperad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parar a los pobres de los no pobres, polarización o dualiz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poyo político y continuidad de los progra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37960"/>
            <a:ext cx="83073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ERRORES DE FOCALIZ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0">
              <a:spcBef>
                <a:spcPts val="649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 Inclus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2462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beneficio se filtra hacia segmentos sociales excluidos del grupo destinat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0">
              <a:spcBef>
                <a:spcPts val="550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 Exclus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2462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Brecha entre el universo de los destinatarios y los sujetos acogidos por el progra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0">
              <a:spcBef>
                <a:spcPts val="649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BONDADES Y DESVENTAJAS</a:t>
            </a:r>
            <a:br>
              <a:rPr sz="3800"/>
            </a:b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DE LOS MECANISMOS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1484280"/>
            <a:ext cx="7488360" cy="4681440"/>
          </a:xfrm>
          <a:prstGeom prst="rect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39680" y="1484280"/>
          <a:ext cx="7635960" cy="464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1484280"/>
                    <a:ext cx="7635960" cy="46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460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OPCIONES DE POLITICA PÚBLIC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963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obreza como carenci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gramas de apoyo dir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ivilegio de instrumentos que se apoyan en la demanda, discriminando entre personas y hogares según situación socio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puesto: Apoyo a las personas u hogares pobres para alivianar / compensar su situación les permitirá abandonar su situación de pob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obreza asociada a estructura de oportunidades y contexto sociocultural y económic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Énfasis en programas que crean oportunidades de empleo, generación de ingreso e integración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entregan herramientas para revertir sostenidamente situación de advers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puesto: Pobreza también se vincula con posibilidades y limitaciones locales, por lo que no basta con actuar sobre carencias individuales o famili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1360" y="260280"/>
            <a:ext cx="80010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006633"/>
                </a:solidFill>
                <a:latin typeface="Garamond"/>
              </a:rPr>
              <a:t>LECCIONES SOBRE FOCALIZACIÓN</a:t>
            </a:r>
            <a:br>
              <a:rPr sz="3400"/>
            </a:b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3640" y="1123920"/>
            <a:ext cx="84582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calización depende tanto de orientaciones globales y decisiones macro-sociales de política pública, como de decisiones concretas a nivel de programas específic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gramas sociales más exitosos en Chile han combinado acciones universales y acciones focaliz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hay oposición entre estas dos orientaciones de polí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stencia de programas universales facilita  el diseño e implementación de programas específicos focaliz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se desea focalizar un programa social es indispensable disponer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formación fidedigna sobre la realidad que se propone modif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mecanismo más eficiente para hace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maño del grupo destinatario y los caminos más expeditos para llegar a é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n información es difícil / imposible focaliza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006633"/>
                </a:solidFill>
                <a:latin typeface="Garamond"/>
              </a:rPr>
              <a:t>LECCIONES SOBRE FOCALIZACIÓ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34136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hay una sola manera de focalizar. Ficha socioeconómica de hogares es fal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es aplicada en forma exclusiva, deja de lado el entorno comunitario en el cual se desenvuelve la vida de las personas, éste es tan importante como las intervenciones a nivel individu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6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ntajas y desventajas de la focalización dependen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tuación específica y momentos en los cuales se ap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racterísticas de la pobreza y vulnerabilidades específicas que afectan a la población y los procesos que la determin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bjetivos de la política o programa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ticularidades de las instituciones a cargo de la ejecución de los programas y de los sistemas de información que manej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1700280"/>
            <a:ext cx="5400720" cy="4105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060640"/>
            <a:ext cx="4680000" cy="2736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2034720"/>
            <a:ext cx="3020760" cy="1941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33"/>
                </a:solidFill>
                <a:latin typeface="Garamond"/>
                <a:ea typeface="Arial"/>
              </a:rPr>
              <a:t>Política social tradi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47640" y="3860640"/>
            <a:ext cx="28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33"/>
                </a:solidFill>
                <a:latin typeface="Garamond"/>
                <a:ea typeface="Arial"/>
              </a:rPr>
              <a:t>Programas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2360" y="4869000"/>
            <a:ext cx="2879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6633"/>
                </a:solidFill>
                <a:latin typeface="Garamond"/>
                <a:ea typeface="Arial"/>
              </a:rPr>
              <a:t>Programas loca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284720" y="1989000"/>
            <a:ext cx="15843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84720" y="1088640"/>
            <a:ext cx="2519640" cy="119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Descentralización educación y sal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19640" y="3357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84720" y="2278800"/>
            <a:ext cx="2519640" cy="192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Particip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Flex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Focaliz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Énfasis en el ter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32360" y="5157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84720" y="4439520"/>
            <a:ext cx="2519640" cy="1557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Experiencias atractivas de desarrollo terri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277920"/>
            <a:ext cx="8229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Tres anillos de la política soci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Rol del nivel central en la política soci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fine lineamientos y orientaciones generales de políticas secto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eña programas sociales y asume su coordinación central (criterios homogéne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fine los criterios de traspaso de recursos y administra su traspaso: modelo predominante es el de principal ag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ervisa implementación (en coordinación con niveles subnaciona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Rol del nivel local en la política soci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ministra salud y edu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naliza y administra programas sociales diversos definidos en el nivel cent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aboración de información, organización de reuniones con la comunidad, formulación de proyectos, tiempo de sus profesionales y funcio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ficinas municipales especializadas (mujer, infancia, juventud, emple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iciativas y proyectos prop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6633"/>
                </a:solidFill>
                <a:latin typeface="Garamond"/>
              </a:rPr>
              <a:t>(NUEVOS) EJES EN EL DISEÑO DE LA POLÍTICA SOCIAL: ORIGE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2090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ños 70 y 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isis fiscal, ajuste, costo social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íticas de excepción” que van en alivio de población en situación mas difíci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gramas de compensación soc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entraliz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El municipio: </a:t>
            </a:r>
            <a:br>
              <a:rPr sz="3800"/>
            </a:b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actor clave del desarrollo loc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centralización concibe al municipio como el articulador del desarrollo social comun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uevos programas demandan acciones de las municipalidades y se ligan a la actividad social que estas realiz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n embarg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unicipalidades enfrentan problemas de gest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oceso de descentralización asigna un rol ambiguo al municip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Dificultades de la gestión municip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Falta de misión institucional y visión estratég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iderazgo, conducción del municipio y clima organizacional advers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Organización interna, tareas y funciones: forma tradicional de hacer las cos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pendencia económico financie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stricciones de recursos humanos y financie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ficultades para modernizarse y mejorar calidad de los servic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casa autonomía para iniciar cursos de acción prop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80" y="244440"/>
            <a:ext cx="8663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Rol del municipio en el proceso de descentraliz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rogramas no siempre son adecuados y pertinentes a la realidad loc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o se cumple la hipótesis de coordinación positiva de cara a los usuar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unicipalidad debiera ser el nex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(es la instancia más cercana a las persona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11640" y="4149720"/>
            <a:ext cx="5047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Pregunta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generar una reorganización del Estado que entregue más recursos y mayores responsabilidades a los entes subnacionales, capaz de reconocer y responder a la diversidad de situaciones locales, que promueva la participación social y busque soluciones a los problem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15328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POLITICAS UNIVERSAL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076960" cy="43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on aquellas que se diseñan en beneficio de todos los habitantes, sin importar sus características  económicas y soc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ubsidios a los precios de bienes básicos (alimentos, transporte públic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rvicios de educación y salud abiertos a atender a quien se acer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15328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POLITICAS SELECTIVAS</a:t>
            </a:r>
            <a:r>
              <a:rPr b="1" i="1" lang="es-ES_tradnl" sz="4200" spc="-1" strike="noStrike">
                <a:solidFill>
                  <a:srgbClr val="008000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38188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 formulan pensando en un grupo destinatario específic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RITERIO CATEGOR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grupo se delimita por alguna vulnerabilidad específica asociada a una situación sociodemográfica, de ciclo vital o de inserción produc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RITERIO DE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elimita el grupo destinatario según una variable que refleja  pobreza o riesgo social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15328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POLITICAS FOCALIZADAS</a:t>
            </a:r>
            <a:r>
              <a:rPr b="1" i="1" lang="es-ES_tradnl" sz="4200" spc="-1" strike="noStrike">
                <a:solidFill>
                  <a:srgbClr val="008000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16440" indent="-316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 proponen beneficiar únicamente a sectores poblacionales ubicados por debajo de cierto umbral de pobreza o riesgo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 focalización es una opción e instrumento de las política sociales, al servicio de los objetivos de dichas polít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i es conveniente / pertinente focalizar depende de los objetivos de la política así como de la magnitud del tema de pobreza o riesgo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ientras menor la magnitud o extensión de la pobreza mayor la necesidad de focaliz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situaciones de pobreza generalizada es mas difícil y conflictivo focaliz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POR QUÉ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3059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-48744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Respuesta a la crisis fis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2858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ducir el gasto público a fin de equilibrar el  presupuesto fis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aliar los efectos sociales de la crisis y reducir la pobrez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2858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centrar el gasto social en la población más pob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2858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ar credibilidad al combate a la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isminuir el clientelismo (tecnificación y mas transparencia en la asignación de benefici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PARA QUÉ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77119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períodos de crisi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Limitación de recurs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umento de necesidades insatisfech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forma permanen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Permite mejorar diseño de los program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umenta su eficacia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umenta el impacto en la población destinata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Permite excluir a quienes no afecta la necesidad prevista en el programa  e incluir sólo a los directamente afect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CUÁNDO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483920"/>
            <a:ext cx="815328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¿Cuándo es posible focaliz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iempre que no se vulneren disposiciones legales de prestación de servicios generaliz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efensa de bienes públicos (situaciones de epidemia y cuando existe un problema que no es visualizado como tal por la población con capacidad de pag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¿Cuándo conviene focaliz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Bajo crisis económ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n prosperidad también ya     que asegura impacto en la solución de problemas y libera recurs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agnitud del problema o riesgo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uando existe información suficiente para hacerlo con un costo ba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37960"/>
            <a:ext cx="830736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CÓMO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ecanismos de focalización (selección de destinatari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gún demanda (individuos o grupos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ioriza potenciales beneficiarios directos (hogares, personas, unidades productivas) , vou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gún ofert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ioriza entidades que ofrecen prestaciones, servicios o subsi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gún Áreas geográfica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ogares de localidad que califica de pobre, reciben el servicio o subsi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utoselección, programas que solo interesan al grupo al cual se quiere benefici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mfernand</cp:lastModifiedBy>
  <dcterms:modified xsi:type="dcterms:W3CDTF">2007-10-24T22:25:46Z</dcterms:modified>
  <cp:revision>20</cp:revision>
  <dc:subject/>
  <dc:title>Diapositiva 1</dc:title>
</cp:coreProperties>
</file>