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594E-CBD3-4ED4-B9AA-E393F789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F353-5038-4BB2-8508-36BC6434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865-BACB-49CD-AC12-C2F0C706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0A49-4432-4AF9-B8D6-A65D265C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306F-CA04-4F58-8A00-008A0C01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79F7-2846-4121-A52F-FED48C09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8213-8BD5-4D77-BC76-700AF6E5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5039-F8D7-4B39-8AE4-C6435E7F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829C-5A21-49A2-9935-5B15FD19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CE69-CADC-4904-86FA-CCF08D8D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256F-AC96-440C-A38F-3A5BE98F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39B2-B6A9-45C0-8E86-331AB00A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F171-37C9-4351-A065-4A69BCCD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BF91-6731-4A53-B96A-EB18034B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9A6F-580E-47EA-BF0A-0FAB2993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6C1C-871A-4185-9DBE-DC56B237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244F-30D4-41AF-BC13-A426416C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9019-0CE0-4B77-9F5E-4EFF588D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2B3-01DE-47DC-A7AE-3FA7F501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9B1F-8DAB-4760-9C4F-CADE4C76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843-3EB9-4FE1-A737-1DA4C8D1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DAD9-0B9D-4D73-A8F7-6B5C5022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108D-8993-494E-99C7-88834887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FE0-B190-4A16-8E49-5CED6216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F98E-8B3A-4EC6-A798-00D0C46250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6996-BD6D-4042-858C-74E98BF5D5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4.xml"/><Relationship Id="rId3" Type="http://schemas.openxmlformats.org/officeDocument/2006/relationships/slide" Target="slide16.xml"/><Relationship Id="rId4" Type="http://schemas.openxmlformats.org/officeDocument/2006/relationships/slide" Target="slide18.xml"/><Relationship Id="rId5" Type="http://schemas.openxmlformats.org/officeDocument/2006/relationships/slide" Target="slide20.xml"/><Relationship Id="rId6" Type="http://schemas.openxmlformats.org/officeDocument/2006/relationships/slide" Target="slide22.xm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6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311640" y="1752480"/>
            <a:ext cx="2519280" cy="2322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590920" y="4419720"/>
            <a:ext cx="388620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89480" cy="24541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Trayectoria y Op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320" y="1905120"/>
            <a:ext cx="80769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fines del primer gobierno democrático (1994), el FOSIS se consolidaba institucionalmente en dos sentid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rtalecimiento de procesos de gestión con prioridad en la </a:t>
            </a: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evaluación y seguimiento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spliegue programático en las más diversas áreas y, en particular, con el emblemático </a:t>
            </a: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Programa Entre To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89480" cy="2454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Trayectoria y Op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320" y="1905120"/>
            <a:ext cx="80769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tre 1995 y 2000, se prioriza un proceso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rtalecimiento estratégico (con apoyo del B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que permite reordenar la oferta programática 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novar en metodologías y procesos inter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definen dos áreas de interven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Desarrollo Productivo e Integr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Desarrollo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948360" y="1484280"/>
            <a:ext cx="2194200" cy="2952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2781360"/>
            <a:ext cx="807696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gobierno del Presidente Lagos estable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o prioridad terminar con la extrema pobre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 Ch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crea el Sistema de Protección Social C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lidario, en el cual FOSIS cumple un 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vit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948360" y="1484280"/>
            <a:ext cx="2194200" cy="29527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2781360"/>
            <a:ext cx="78804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SIS reestructura su estrategia, 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strumentos y enfoques de trabajo, definie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os cambios de ej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Concentración de la inversión v/s disper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De un Fondo Abierto Concursable a un Fondo que financia proyectos específicos a problemas específicos y divers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659640" y="1484280"/>
            <a:ext cx="2482920" cy="2736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320" y="2781360"/>
            <a:ext cx="78804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OSIS asume como marco orientador de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vención la </a:t>
            </a: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Matriz del Riesgo So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(MRS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la hipótesis 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FOSIS contribuye a superar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obreza, en la medida que apoya a las persona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amilias y comunidades pobres a contar c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erramientas para manejar o enfrentar adecuada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os riesgos a los que son especialmente vulnerabl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da su condición de pobrez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828800" y="722160"/>
            <a:ext cx="556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Manejo Social del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533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4920" y="152280"/>
            <a:ext cx="2209680" cy="1752840"/>
            <a:chOff x="304920" y="152280"/>
            <a:chExt cx="2209680" cy="1752840"/>
          </a:xfrm>
        </p:grpSpPr>
        <p:sp>
          <p:nvSpPr>
            <p:cNvPr id="206" name=""/>
            <p:cNvSpPr/>
            <p:nvPr/>
          </p:nvSpPr>
          <p:spPr>
            <a:xfrm>
              <a:off x="304920" y="152280"/>
              <a:ext cx="2209680" cy="175284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7200" y="380880"/>
              <a:ext cx="190512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80"/>
                  </a:solidFill>
                  <a:latin typeface="Arial"/>
                </a:rPr>
                <a:t>Las personas, familias y comunidades pobres no cuentan con estrategias que les permitan enfrentar con éxito los riesgos a los que están expuesto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629400" y="152280"/>
            <a:ext cx="2057400" cy="1676520"/>
            <a:chOff x="6629400" y="152280"/>
            <a:chExt cx="2057400" cy="1676520"/>
          </a:xfrm>
        </p:grpSpPr>
        <p:sp>
          <p:nvSpPr>
            <p:cNvPr id="209" name=""/>
            <p:cNvSpPr/>
            <p:nvPr/>
          </p:nvSpPr>
          <p:spPr>
            <a:xfrm>
              <a:off x="6629400" y="152280"/>
              <a:ext cx="2057400" cy="167652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81680" y="380880"/>
              <a:ext cx="1676520" cy="10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80"/>
                  </a:solidFill>
                  <a:latin typeface="Arial"/>
                </a:rPr>
                <a:t>Es necesario apoyarlas a través de estrategias que les permitan prevenir, mitigar y/o superar situaciones de riesg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048120" y="175248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6d1ec"/>
                </a:solidFill>
                <a:latin typeface="Arial"/>
              </a:rPr>
              <a:t>Grupo obje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429000" y="2286000"/>
            <a:ext cx="2362320" cy="1628280"/>
            <a:chOff x="3429000" y="2286000"/>
            <a:chExt cx="2362320" cy="1628280"/>
          </a:xfrm>
        </p:grpSpPr>
        <p:sp>
          <p:nvSpPr>
            <p:cNvPr id="213" name=""/>
            <p:cNvSpPr/>
            <p:nvPr/>
          </p:nvSpPr>
          <p:spPr>
            <a:xfrm>
              <a:off x="3429000" y="2971800"/>
              <a:ext cx="236232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Arial"/>
                </a:rPr>
                <a:t>Riesgo princip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0" y="2286000"/>
              <a:ext cx="0" cy="5335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52280" y="2971800"/>
            <a:ext cx="3200400" cy="368280"/>
            <a:chOff x="152280" y="2971800"/>
            <a:chExt cx="3200400" cy="368280"/>
          </a:xfrm>
        </p:grpSpPr>
        <p:sp>
          <p:nvSpPr>
            <p:cNvPr id="216" name=""/>
            <p:cNvSpPr/>
            <p:nvPr/>
          </p:nvSpPr>
          <p:spPr>
            <a:xfrm>
              <a:off x="152280" y="297180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Arial"/>
                </a:rPr>
                <a:t>Condiciones mínim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3200" y="3186000"/>
              <a:ext cx="6094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523880" y="5029200"/>
            <a:ext cx="6096240" cy="85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MAPA DE OPORTUN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(FOSIS y otr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200400" y="3429000"/>
            <a:ext cx="2971800" cy="1054080"/>
            <a:chOff x="3200400" y="3429000"/>
            <a:chExt cx="2971800" cy="1054080"/>
          </a:xfrm>
        </p:grpSpPr>
        <p:sp>
          <p:nvSpPr>
            <p:cNvPr id="220" name=""/>
            <p:cNvSpPr/>
            <p:nvPr/>
          </p:nvSpPr>
          <p:spPr>
            <a:xfrm>
              <a:off x="3200400" y="411480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0000"/>
                  </a:solidFill>
                  <a:latin typeface="Arial"/>
                </a:rPr>
                <a:t>Expresiones del riesg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0" y="3429000"/>
              <a:ext cx="0" cy="6858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600200" y="2971800"/>
            <a:ext cx="7315200" cy="1676520"/>
            <a:chOff x="1600200" y="2971800"/>
            <a:chExt cx="7315200" cy="1676520"/>
          </a:xfrm>
        </p:grpSpPr>
        <p:grpSp>
          <p:nvGrpSpPr>
            <p:cNvPr id="223" name=""/>
            <p:cNvGrpSpPr/>
            <p:nvPr/>
          </p:nvGrpSpPr>
          <p:grpSpPr>
            <a:xfrm>
              <a:off x="5790960" y="2971800"/>
              <a:ext cx="3124440" cy="642600"/>
              <a:chOff x="5790960" y="2971800"/>
              <a:chExt cx="3124440" cy="642600"/>
            </a:xfrm>
          </p:grpSpPr>
          <p:sp>
            <p:nvSpPr>
              <p:cNvPr id="224" name=""/>
              <p:cNvSpPr/>
              <p:nvPr/>
            </p:nvSpPr>
            <p:spPr>
              <a:xfrm>
                <a:off x="6400800" y="2971800"/>
                <a:ext cx="2514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ffffff"/>
                    </a:solidFill>
                    <a:latin typeface="Arial"/>
                  </a:rPr>
                  <a:t>Factores protectore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790960" y="3186000"/>
                <a:ext cx="60948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7543800" y="3429000"/>
              <a:ext cx="0" cy="1219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600200" y="4648320"/>
              <a:ext cx="59436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600200" y="3428640"/>
              <a:ext cx="0" cy="1219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659640" y="1484280"/>
            <a:ext cx="2482920" cy="2736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320" y="3357720"/>
            <a:ext cx="788040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OSIS diseña e implementa el “</a:t>
            </a: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Programa Puente, ent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las familias y sus derechos”,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que se constituye co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rta de entrada de las 225.000 familias indigentes 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ís al Sistema Chile Solid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16000" y="3357720"/>
            <a:ext cx="66294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rategia de interven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7b46d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Organizada en torno a una oferta de servicios y benefic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7b46d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Orientados a través de un trabajo en 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7b46d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Asumiendo a la familia como unidad de interven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60948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 objetivo es “mejorar las condiciones de vida de las familias en situación de indigencia, generando oportunidades y proveyendo los recursos que les permitan recuperar o disponer de una capacidad funcional y resolutiva eficaz en el entorno personal, familiar, comunitario e institucion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2209680"/>
            <a:ext cx="533520" cy="838440"/>
          </a:xfrm>
          <a:prstGeom prst="down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3904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341280" y="671400"/>
            <a:ext cx="3659400" cy="2751120"/>
          </a:xfrm>
          <a:custGeom>
            <a:avLst/>
            <a:gdLst/>
            <a:ahLst/>
            <a:rect l="l" t="t" r="r" b="b"/>
            <a:pathLst>
              <a:path w="2421" h="1877">
                <a:moveTo>
                  <a:pt x="39" y="1436"/>
                </a:moveTo>
                <a:cubicBezTo>
                  <a:pt x="64" y="1452"/>
                  <a:pt x="81" y="1481"/>
                  <a:pt x="108" y="1494"/>
                </a:cubicBezTo>
                <a:cubicBezTo>
                  <a:pt x="132" y="1506"/>
                  <a:pt x="160" y="1507"/>
                  <a:pt x="186" y="1514"/>
                </a:cubicBezTo>
                <a:cubicBezTo>
                  <a:pt x="288" y="1590"/>
                  <a:pt x="389" y="1606"/>
                  <a:pt x="508" y="1641"/>
                </a:cubicBezTo>
                <a:cubicBezTo>
                  <a:pt x="623" y="1675"/>
                  <a:pt x="617" y="1679"/>
                  <a:pt x="742" y="1689"/>
                </a:cubicBezTo>
                <a:cubicBezTo>
                  <a:pt x="813" y="1701"/>
                  <a:pt x="874" y="1712"/>
                  <a:pt x="947" y="1719"/>
                </a:cubicBezTo>
                <a:cubicBezTo>
                  <a:pt x="1067" y="1747"/>
                  <a:pt x="1174" y="1776"/>
                  <a:pt x="1299" y="1787"/>
                </a:cubicBezTo>
                <a:cubicBezTo>
                  <a:pt x="1352" y="1798"/>
                  <a:pt x="1401" y="1809"/>
                  <a:pt x="1455" y="1816"/>
                </a:cubicBezTo>
                <a:cubicBezTo>
                  <a:pt x="1506" y="1834"/>
                  <a:pt x="1475" y="1820"/>
                  <a:pt x="1543" y="1865"/>
                </a:cubicBezTo>
                <a:cubicBezTo>
                  <a:pt x="1561" y="1877"/>
                  <a:pt x="1710" y="1875"/>
                  <a:pt x="1748" y="1875"/>
                </a:cubicBezTo>
                <a:cubicBezTo>
                  <a:pt x="1771" y="1840"/>
                  <a:pt x="1792" y="1798"/>
                  <a:pt x="1806" y="1758"/>
                </a:cubicBezTo>
                <a:cubicBezTo>
                  <a:pt x="1811" y="1700"/>
                  <a:pt x="1826" y="1623"/>
                  <a:pt x="1826" y="1562"/>
                </a:cubicBezTo>
                <a:cubicBezTo>
                  <a:pt x="1836" y="1552"/>
                  <a:pt x="1844" y="1542"/>
                  <a:pt x="1855" y="1533"/>
                </a:cubicBezTo>
                <a:cubicBezTo>
                  <a:pt x="1864" y="1526"/>
                  <a:pt x="1876" y="1522"/>
                  <a:pt x="1884" y="1514"/>
                </a:cubicBezTo>
                <a:cubicBezTo>
                  <a:pt x="1905" y="1493"/>
                  <a:pt x="1912" y="1465"/>
                  <a:pt x="1943" y="1455"/>
                </a:cubicBezTo>
                <a:cubicBezTo>
                  <a:pt x="1965" y="1448"/>
                  <a:pt x="2011" y="1445"/>
                  <a:pt x="2011" y="1445"/>
                </a:cubicBezTo>
                <a:cubicBezTo>
                  <a:pt x="2037" y="1370"/>
                  <a:pt x="2050" y="1364"/>
                  <a:pt x="2050" y="1279"/>
                </a:cubicBezTo>
                <a:cubicBezTo>
                  <a:pt x="2104" y="1201"/>
                  <a:pt x="2025" y="1322"/>
                  <a:pt x="2089" y="1182"/>
                </a:cubicBezTo>
                <a:cubicBezTo>
                  <a:pt x="2099" y="1161"/>
                  <a:pt x="2120" y="1145"/>
                  <a:pt x="2128" y="1123"/>
                </a:cubicBezTo>
                <a:cubicBezTo>
                  <a:pt x="2137" y="1096"/>
                  <a:pt x="2151" y="1048"/>
                  <a:pt x="2177" y="1035"/>
                </a:cubicBezTo>
                <a:cubicBezTo>
                  <a:pt x="2215" y="1017"/>
                  <a:pt x="2248" y="1000"/>
                  <a:pt x="2275" y="967"/>
                </a:cubicBezTo>
                <a:cubicBezTo>
                  <a:pt x="2311" y="923"/>
                  <a:pt x="2315" y="872"/>
                  <a:pt x="2363" y="840"/>
                </a:cubicBezTo>
                <a:cubicBezTo>
                  <a:pt x="2385" y="770"/>
                  <a:pt x="2353" y="851"/>
                  <a:pt x="2402" y="791"/>
                </a:cubicBezTo>
                <a:cubicBezTo>
                  <a:pt x="2413" y="778"/>
                  <a:pt x="2421" y="740"/>
                  <a:pt x="2421" y="723"/>
                </a:cubicBezTo>
                <a:cubicBezTo>
                  <a:pt x="2402" y="720"/>
                  <a:pt x="2380" y="723"/>
                  <a:pt x="2363" y="713"/>
                </a:cubicBezTo>
                <a:cubicBezTo>
                  <a:pt x="2354" y="708"/>
                  <a:pt x="2355" y="694"/>
                  <a:pt x="2353" y="684"/>
                </a:cubicBezTo>
                <a:cubicBezTo>
                  <a:pt x="2342" y="624"/>
                  <a:pt x="2343" y="622"/>
                  <a:pt x="2343" y="576"/>
                </a:cubicBezTo>
                <a:cubicBezTo>
                  <a:pt x="2330" y="570"/>
                  <a:pt x="2314" y="567"/>
                  <a:pt x="2304" y="557"/>
                </a:cubicBezTo>
                <a:cubicBezTo>
                  <a:pt x="2298" y="551"/>
                  <a:pt x="2286" y="492"/>
                  <a:pt x="2285" y="489"/>
                </a:cubicBezTo>
                <a:cubicBezTo>
                  <a:pt x="2274" y="449"/>
                  <a:pt x="2278" y="462"/>
                  <a:pt x="2246" y="430"/>
                </a:cubicBezTo>
                <a:cubicBezTo>
                  <a:pt x="2220" y="433"/>
                  <a:pt x="2190" y="427"/>
                  <a:pt x="2167" y="440"/>
                </a:cubicBezTo>
                <a:cubicBezTo>
                  <a:pt x="2147" y="452"/>
                  <a:pt x="2128" y="498"/>
                  <a:pt x="2128" y="498"/>
                </a:cubicBezTo>
                <a:cubicBezTo>
                  <a:pt x="2134" y="578"/>
                  <a:pt x="2114" y="633"/>
                  <a:pt x="2177" y="674"/>
                </a:cubicBezTo>
                <a:cubicBezTo>
                  <a:pt x="2199" y="706"/>
                  <a:pt x="2223" y="715"/>
                  <a:pt x="2236" y="752"/>
                </a:cubicBezTo>
                <a:cubicBezTo>
                  <a:pt x="2170" y="769"/>
                  <a:pt x="2117" y="772"/>
                  <a:pt x="2050" y="762"/>
                </a:cubicBezTo>
                <a:cubicBezTo>
                  <a:pt x="2032" y="756"/>
                  <a:pt x="2005" y="749"/>
                  <a:pt x="1992" y="733"/>
                </a:cubicBezTo>
                <a:cubicBezTo>
                  <a:pt x="1985" y="725"/>
                  <a:pt x="1987" y="712"/>
                  <a:pt x="1982" y="703"/>
                </a:cubicBezTo>
                <a:cubicBezTo>
                  <a:pt x="1964" y="667"/>
                  <a:pt x="1960" y="673"/>
                  <a:pt x="1923" y="655"/>
                </a:cubicBezTo>
                <a:cubicBezTo>
                  <a:pt x="1886" y="666"/>
                  <a:pt x="1873" y="692"/>
                  <a:pt x="1836" y="703"/>
                </a:cubicBezTo>
                <a:cubicBezTo>
                  <a:pt x="1804" y="724"/>
                  <a:pt x="1774" y="740"/>
                  <a:pt x="1738" y="752"/>
                </a:cubicBezTo>
                <a:cubicBezTo>
                  <a:pt x="1727" y="751"/>
                  <a:pt x="1412" y="741"/>
                  <a:pt x="1328" y="713"/>
                </a:cubicBezTo>
                <a:cubicBezTo>
                  <a:pt x="1315" y="709"/>
                  <a:pt x="1310" y="692"/>
                  <a:pt x="1299" y="684"/>
                </a:cubicBezTo>
                <a:cubicBezTo>
                  <a:pt x="1290" y="678"/>
                  <a:pt x="1279" y="677"/>
                  <a:pt x="1269" y="674"/>
                </a:cubicBezTo>
                <a:cubicBezTo>
                  <a:pt x="1226" y="609"/>
                  <a:pt x="1248" y="586"/>
                  <a:pt x="1269" y="518"/>
                </a:cubicBezTo>
                <a:cubicBezTo>
                  <a:pt x="1266" y="472"/>
                  <a:pt x="1270" y="426"/>
                  <a:pt x="1260" y="381"/>
                </a:cubicBezTo>
                <a:cubicBezTo>
                  <a:pt x="1254" y="356"/>
                  <a:pt x="1221" y="346"/>
                  <a:pt x="1211" y="323"/>
                </a:cubicBezTo>
                <a:cubicBezTo>
                  <a:pt x="1187" y="268"/>
                  <a:pt x="1172" y="196"/>
                  <a:pt x="1172" y="137"/>
                </a:cubicBezTo>
                <a:cubicBezTo>
                  <a:pt x="1159" y="140"/>
                  <a:pt x="1073" y="158"/>
                  <a:pt x="1064" y="157"/>
                </a:cubicBezTo>
                <a:cubicBezTo>
                  <a:pt x="1026" y="153"/>
                  <a:pt x="993" y="130"/>
                  <a:pt x="957" y="118"/>
                </a:cubicBezTo>
                <a:cubicBezTo>
                  <a:pt x="950" y="98"/>
                  <a:pt x="955" y="70"/>
                  <a:pt x="937" y="59"/>
                </a:cubicBezTo>
                <a:cubicBezTo>
                  <a:pt x="925" y="52"/>
                  <a:pt x="915" y="76"/>
                  <a:pt x="908" y="88"/>
                </a:cubicBezTo>
                <a:cubicBezTo>
                  <a:pt x="889" y="123"/>
                  <a:pt x="892" y="176"/>
                  <a:pt x="859" y="205"/>
                </a:cubicBezTo>
                <a:cubicBezTo>
                  <a:pt x="795" y="261"/>
                  <a:pt x="716" y="274"/>
                  <a:pt x="635" y="284"/>
                </a:cubicBezTo>
                <a:cubicBezTo>
                  <a:pt x="645" y="250"/>
                  <a:pt x="654" y="226"/>
                  <a:pt x="674" y="196"/>
                </a:cubicBezTo>
                <a:cubicBezTo>
                  <a:pt x="694" y="135"/>
                  <a:pt x="653" y="62"/>
                  <a:pt x="635" y="0"/>
                </a:cubicBezTo>
                <a:cubicBezTo>
                  <a:pt x="519" y="13"/>
                  <a:pt x="543" y="11"/>
                  <a:pt x="459" y="69"/>
                </a:cubicBezTo>
                <a:cubicBezTo>
                  <a:pt x="442" y="102"/>
                  <a:pt x="422" y="131"/>
                  <a:pt x="410" y="166"/>
                </a:cubicBezTo>
                <a:cubicBezTo>
                  <a:pt x="413" y="189"/>
                  <a:pt x="411" y="214"/>
                  <a:pt x="420" y="235"/>
                </a:cubicBezTo>
                <a:cubicBezTo>
                  <a:pt x="425" y="246"/>
                  <a:pt x="441" y="246"/>
                  <a:pt x="449" y="254"/>
                </a:cubicBezTo>
                <a:cubicBezTo>
                  <a:pt x="457" y="262"/>
                  <a:pt x="462" y="274"/>
                  <a:pt x="469" y="284"/>
                </a:cubicBezTo>
                <a:cubicBezTo>
                  <a:pt x="434" y="384"/>
                  <a:pt x="238" y="332"/>
                  <a:pt x="147" y="332"/>
                </a:cubicBezTo>
                <a:cubicBezTo>
                  <a:pt x="137" y="342"/>
                  <a:pt x="126" y="351"/>
                  <a:pt x="117" y="362"/>
                </a:cubicBezTo>
                <a:cubicBezTo>
                  <a:pt x="103" y="380"/>
                  <a:pt x="78" y="420"/>
                  <a:pt x="78" y="420"/>
                </a:cubicBezTo>
                <a:cubicBezTo>
                  <a:pt x="81" y="452"/>
                  <a:pt x="66" y="557"/>
                  <a:pt x="127" y="557"/>
                </a:cubicBezTo>
                <a:cubicBezTo>
                  <a:pt x="154" y="662"/>
                  <a:pt x="156" y="848"/>
                  <a:pt x="108" y="947"/>
                </a:cubicBezTo>
                <a:cubicBezTo>
                  <a:pt x="89" y="1041"/>
                  <a:pt x="98" y="979"/>
                  <a:pt x="98" y="1133"/>
                </a:cubicBezTo>
                <a:cubicBezTo>
                  <a:pt x="95" y="1143"/>
                  <a:pt x="94" y="1154"/>
                  <a:pt x="88" y="1162"/>
                </a:cubicBezTo>
                <a:cubicBezTo>
                  <a:pt x="80" y="1173"/>
                  <a:pt x="65" y="1179"/>
                  <a:pt x="59" y="1191"/>
                </a:cubicBezTo>
                <a:cubicBezTo>
                  <a:pt x="51" y="1209"/>
                  <a:pt x="56" y="1231"/>
                  <a:pt x="49" y="1250"/>
                </a:cubicBezTo>
                <a:cubicBezTo>
                  <a:pt x="39" y="1277"/>
                  <a:pt x="22" y="1302"/>
                  <a:pt x="10" y="1328"/>
                </a:cubicBezTo>
                <a:cubicBezTo>
                  <a:pt x="6" y="1337"/>
                  <a:pt x="3" y="1347"/>
                  <a:pt x="0" y="1357"/>
                </a:cubicBezTo>
                <a:cubicBezTo>
                  <a:pt x="3" y="1367"/>
                  <a:pt x="3" y="1380"/>
                  <a:pt x="10" y="1387"/>
                </a:cubicBezTo>
                <a:cubicBezTo>
                  <a:pt x="17" y="1394"/>
                  <a:pt x="34" y="1387"/>
                  <a:pt x="39" y="1396"/>
                </a:cubicBezTo>
                <a:cubicBezTo>
                  <a:pt x="46" y="1407"/>
                  <a:pt x="39" y="1423"/>
                  <a:pt x="39" y="143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222120" y="3124080"/>
            <a:ext cx="2901960" cy="1341720"/>
          </a:xfrm>
          <a:custGeom>
            <a:avLst/>
            <a:gdLst/>
            <a:ahLst/>
            <a:rect l="l" t="t" r="r" b="b"/>
            <a:pathLst>
              <a:path w="1920" h="916">
                <a:moveTo>
                  <a:pt x="331" y="497"/>
                </a:moveTo>
                <a:cubicBezTo>
                  <a:pt x="439" y="533"/>
                  <a:pt x="561" y="515"/>
                  <a:pt x="672" y="549"/>
                </a:cubicBezTo>
                <a:cubicBezTo>
                  <a:pt x="716" y="580"/>
                  <a:pt x="757" y="585"/>
                  <a:pt x="811" y="593"/>
                </a:cubicBezTo>
                <a:cubicBezTo>
                  <a:pt x="863" y="610"/>
                  <a:pt x="829" y="602"/>
                  <a:pt x="916" y="602"/>
                </a:cubicBezTo>
                <a:cubicBezTo>
                  <a:pt x="865" y="679"/>
                  <a:pt x="899" y="606"/>
                  <a:pt x="899" y="672"/>
                </a:cubicBezTo>
                <a:cubicBezTo>
                  <a:pt x="899" y="704"/>
                  <a:pt x="895" y="736"/>
                  <a:pt x="890" y="768"/>
                </a:cubicBezTo>
                <a:cubicBezTo>
                  <a:pt x="889" y="777"/>
                  <a:pt x="881" y="794"/>
                  <a:pt x="881" y="794"/>
                </a:cubicBezTo>
                <a:cubicBezTo>
                  <a:pt x="1003" y="784"/>
                  <a:pt x="1116" y="802"/>
                  <a:pt x="1239" y="802"/>
                </a:cubicBezTo>
                <a:cubicBezTo>
                  <a:pt x="1243" y="769"/>
                  <a:pt x="1239" y="718"/>
                  <a:pt x="1265" y="689"/>
                </a:cubicBezTo>
                <a:cubicBezTo>
                  <a:pt x="1337" y="692"/>
                  <a:pt x="1432" y="706"/>
                  <a:pt x="1510" y="706"/>
                </a:cubicBezTo>
                <a:cubicBezTo>
                  <a:pt x="1496" y="762"/>
                  <a:pt x="1483" y="824"/>
                  <a:pt x="1483" y="881"/>
                </a:cubicBezTo>
                <a:cubicBezTo>
                  <a:pt x="1632" y="893"/>
                  <a:pt x="1558" y="883"/>
                  <a:pt x="1693" y="907"/>
                </a:cubicBezTo>
                <a:cubicBezTo>
                  <a:pt x="1710" y="910"/>
                  <a:pt x="1745" y="916"/>
                  <a:pt x="1745" y="916"/>
                </a:cubicBezTo>
                <a:cubicBezTo>
                  <a:pt x="1839" y="906"/>
                  <a:pt x="1804" y="907"/>
                  <a:pt x="1850" y="907"/>
                </a:cubicBezTo>
                <a:cubicBezTo>
                  <a:pt x="1829" y="845"/>
                  <a:pt x="1865" y="659"/>
                  <a:pt x="1902" y="602"/>
                </a:cubicBezTo>
                <a:cubicBezTo>
                  <a:pt x="1905" y="532"/>
                  <a:pt x="1907" y="462"/>
                  <a:pt x="1911" y="392"/>
                </a:cubicBezTo>
                <a:cubicBezTo>
                  <a:pt x="1913" y="363"/>
                  <a:pt x="1920" y="305"/>
                  <a:pt x="1920" y="305"/>
                </a:cubicBezTo>
                <a:cubicBezTo>
                  <a:pt x="1840" y="277"/>
                  <a:pt x="1759" y="274"/>
                  <a:pt x="1675" y="261"/>
                </a:cubicBezTo>
                <a:cubicBezTo>
                  <a:pt x="1556" y="242"/>
                  <a:pt x="1624" y="244"/>
                  <a:pt x="1562" y="244"/>
                </a:cubicBezTo>
                <a:cubicBezTo>
                  <a:pt x="1552" y="378"/>
                  <a:pt x="1553" y="325"/>
                  <a:pt x="1553" y="401"/>
                </a:cubicBezTo>
                <a:cubicBezTo>
                  <a:pt x="1524" y="391"/>
                  <a:pt x="1496" y="383"/>
                  <a:pt x="1466" y="375"/>
                </a:cubicBezTo>
                <a:cubicBezTo>
                  <a:pt x="1418" y="324"/>
                  <a:pt x="1463" y="364"/>
                  <a:pt x="1318" y="349"/>
                </a:cubicBezTo>
                <a:cubicBezTo>
                  <a:pt x="1306" y="348"/>
                  <a:pt x="1283" y="340"/>
                  <a:pt x="1283" y="340"/>
                </a:cubicBezTo>
                <a:cubicBezTo>
                  <a:pt x="1291" y="294"/>
                  <a:pt x="1309" y="246"/>
                  <a:pt x="1309" y="200"/>
                </a:cubicBezTo>
                <a:cubicBezTo>
                  <a:pt x="1289" y="183"/>
                  <a:pt x="1272" y="160"/>
                  <a:pt x="1248" y="148"/>
                </a:cubicBezTo>
                <a:cubicBezTo>
                  <a:pt x="1221" y="134"/>
                  <a:pt x="1161" y="122"/>
                  <a:pt x="1161" y="122"/>
                </a:cubicBezTo>
                <a:cubicBezTo>
                  <a:pt x="1089" y="135"/>
                  <a:pt x="1008" y="157"/>
                  <a:pt x="934" y="157"/>
                </a:cubicBezTo>
                <a:cubicBezTo>
                  <a:pt x="965" y="177"/>
                  <a:pt x="969" y="171"/>
                  <a:pt x="969" y="218"/>
                </a:cubicBezTo>
                <a:cubicBezTo>
                  <a:pt x="969" y="244"/>
                  <a:pt x="960" y="296"/>
                  <a:pt x="960" y="296"/>
                </a:cubicBezTo>
                <a:cubicBezTo>
                  <a:pt x="919" y="269"/>
                  <a:pt x="888" y="267"/>
                  <a:pt x="838" y="253"/>
                </a:cubicBezTo>
                <a:cubicBezTo>
                  <a:pt x="696" y="212"/>
                  <a:pt x="548" y="203"/>
                  <a:pt x="401" y="192"/>
                </a:cubicBezTo>
                <a:cubicBezTo>
                  <a:pt x="367" y="180"/>
                  <a:pt x="384" y="183"/>
                  <a:pt x="349" y="183"/>
                </a:cubicBezTo>
                <a:cubicBezTo>
                  <a:pt x="355" y="165"/>
                  <a:pt x="358" y="147"/>
                  <a:pt x="366" y="130"/>
                </a:cubicBezTo>
                <a:cubicBezTo>
                  <a:pt x="382" y="98"/>
                  <a:pt x="393" y="89"/>
                  <a:pt x="393" y="52"/>
                </a:cubicBezTo>
                <a:cubicBezTo>
                  <a:pt x="390" y="43"/>
                  <a:pt x="391" y="31"/>
                  <a:pt x="384" y="26"/>
                </a:cubicBezTo>
                <a:cubicBezTo>
                  <a:pt x="369" y="15"/>
                  <a:pt x="331" y="8"/>
                  <a:pt x="331" y="8"/>
                </a:cubicBezTo>
                <a:cubicBezTo>
                  <a:pt x="278" y="12"/>
                  <a:pt x="220" y="0"/>
                  <a:pt x="174" y="26"/>
                </a:cubicBezTo>
                <a:cubicBezTo>
                  <a:pt x="81" y="80"/>
                  <a:pt x="205" y="32"/>
                  <a:pt x="122" y="61"/>
                </a:cubicBezTo>
                <a:cubicBezTo>
                  <a:pt x="75" y="134"/>
                  <a:pt x="138" y="48"/>
                  <a:pt x="78" y="96"/>
                </a:cubicBezTo>
                <a:cubicBezTo>
                  <a:pt x="73" y="100"/>
                  <a:pt x="35" y="147"/>
                  <a:pt x="26" y="157"/>
                </a:cubicBezTo>
                <a:cubicBezTo>
                  <a:pt x="11" y="200"/>
                  <a:pt x="11" y="244"/>
                  <a:pt x="0" y="288"/>
                </a:cubicBezTo>
                <a:cubicBezTo>
                  <a:pt x="7" y="417"/>
                  <a:pt x="2" y="467"/>
                  <a:pt x="52" y="567"/>
                </a:cubicBezTo>
                <a:cubicBezTo>
                  <a:pt x="62" y="586"/>
                  <a:pt x="59" y="604"/>
                  <a:pt x="78" y="619"/>
                </a:cubicBezTo>
                <a:cubicBezTo>
                  <a:pt x="106" y="641"/>
                  <a:pt x="148" y="636"/>
                  <a:pt x="183" y="645"/>
                </a:cubicBezTo>
                <a:cubicBezTo>
                  <a:pt x="206" y="651"/>
                  <a:pt x="230" y="657"/>
                  <a:pt x="253" y="663"/>
                </a:cubicBezTo>
                <a:cubicBezTo>
                  <a:pt x="262" y="665"/>
                  <a:pt x="279" y="672"/>
                  <a:pt x="279" y="672"/>
                </a:cubicBezTo>
                <a:cubicBezTo>
                  <a:pt x="269" y="633"/>
                  <a:pt x="259" y="539"/>
                  <a:pt x="288" y="514"/>
                </a:cubicBezTo>
                <a:cubicBezTo>
                  <a:pt x="300" y="504"/>
                  <a:pt x="317" y="503"/>
                  <a:pt x="331" y="49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rId4" action="ppaction://hlinksldjump"/>
          </p:cNvPr>
          <p:cNvSpPr/>
          <p:nvPr/>
        </p:nvSpPr>
        <p:spPr>
          <a:xfrm>
            <a:off x="609480" y="4957920"/>
            <a:ext cx="960480" cy="985680"/>
          </a:xfrm>
          <a:custGeom>
            <a:avLst/>
            <a:gdLst/>
            <a:ahLst/>
            <a:rect l="l" t="t" r="r" b="b"/>
            <a:pathLst>
              <a:path w="605" h="621">
                <a:moveTo>
                  <a:pt x="96" y="429"/>
                </a:moveTo>
                <a:cubicBezTo>
                  <a:pt x="86" y="339"/>
                  <a:pt x="87" y="377"/>
                  <a:pt x="87" y="316"/>
                </a:cubicBezTo>
                <a:cubicBezTo>
                  <a:pt x="90" y="306"/>
                  <a:pt x="98" y="296"/>
                  <a:pt x="96" y="285"/>
                </a:cubicBezTo>
                <a:cubicBezTo>
                  <a:pt x="93" y="266"/>
                  <a:pt x="56" y="243"/>
                  <a:pt x="44" y="228"/>
                </a:cubicBezTo>
                <a:cubicBezTo>
                  <a:pt x="37" y="220"/>
                  <a:pt x="35" y="207"/>
                  <a:pt x="26" y="202"/>
                </a:cubicBezTo>
                <a:cubicBezTo>
                  <a:pt x="19" y="198"/>
                  <a:pt x="9" y="202"/>
                  <a:pt x="0" y="202"/>
                </a:cubicBezTo>
                <a:cubicBezTo>
                  <a:pt x="51" y="184"/>
                  <a:pt x="78" y="134"/>
                  <a:pt x="122" y="106"/>
                </a:cubicBezTo>
                <a:cubicBezTo>
                  <a:pt x="153" y="87"/>
                  <a:pt x="198" y="81"/>
                  <a:pt x="227" y="62"/>
                </a:cubicBezTo>
                <a:cubicBezTo>
                  <a:pt x="252" y="46"/>
                  <a:pt x="279" y="32"/>
                  <a:pt x="305" y="19"/>
                </a:cubicBezTo>
                <a:cubicBezTo>
                  <a:pt x="343" y="0"/>
                  <a:pt x="322" y="21"/>
                  <a:pt x="340" y="1"/>
                </a:cubicBezTo>
                <a:cubicBezTo>
                  <a:pt x="349" y="4"/>
                  <a:pt x="358" y="8"/>
                  <a:pt x="367" y="10"/>
                </a:cubicBezTo>
                <a:cubicBezTo>
                  <a:pt x="387" y="14"/>
                  <a:pt x="408" y="13"/>
                  <a:pt x="428" y="19"/>
                </a:cubicBezTo>
                <a:cubicBezTo>
                  <a:pt x="487" y="37"/>
                  <a:pt x="426" y="32"/>
                  <a:pt x="471" y="54"/>
                </a:cubicBezTo>
                <a:cubicBezTo>
                  <a:pt x="488" y="62"/>
                  <a:pt x="506" y="65"/>
                  <a:pt x="524" y="71"/>
                </a:cubicBezTo>
                <a:cubicBezTo>
                  <a:pt x="533" y="74"/>
                  <a:pt x="550" y="80"/>
                  <a:pt x="550" y="80"/>
                </a:cubicBezTo>
                <a:cubicBezTo>
                  <a:pt x="561" y="111"/>
                  <a:pt x="550" y="106"/>
                  <a:pt x="576" y="106"/>
                </a:cubicBezTo>
                <a:cubicBezTo>
                  <a:pt x="582" y="179"/>
                  <a:pt x="593" y="236"/>
                  <a:pt x="602" y="307"/>
                </a:cubicBezTo>
                <a:cubicBezTo>
                  <a:pt x="592" y="438"/>
                  <a:pt x="605" y="384"/>
                  <a:pt x="576" y="473"/>
                </a:cubicBezTo>
                <a:cubicBezTo>
                  <a:pt x="570" y="493"/>
                  <a:pt x="564" y="514"/>
                  <a:pt x="559" y="534"/>
                </a:cubicBezTo>
                <a:cubicBezTo>
                  <a:pt x="555" y="548"/>
                  <a:pt x="550" y="577"/>
                  <a:pt x="550" y="577"/>
                </a:cubicBezTo>
                <a:cubicBezTo>
                  <a:pt x="559" y="576"/>
                  <a:pt x="583" y="579"/>
                  <a:pt x="576" y="573"/>
                </a:cubicBezTo>
                <a:cubicBezTo>
                  <a:pt x="558" y="557"/>
                  <a:pt x="532" y="574"/>
                  <a:pt x="515" y="577"/>
                </a:cubicBezTo>
                <a:cubicBezTo>
                  <a:pt x="424" y="595"/>
                  <a:pt x="329" y="621"/>
                  <a:pt x="236" y="621"/>
                </a:cubicBezTo>
                <a:cubicBezTo>
                  <a:pt x="227" y="612"/>
                  <a:pt x="216" y="605"/>
                  <a:pt x="209" y="595"/>
                </a:cubicBezTo>
                <a:cubicBezTo>
                  <a:pt x="182" y="555"/>
                  <a:pt x="226" y="578"/>
                  <a:pt x="175" y="560"/>
                </a:cubicBezTo>
                <a:cubicBezTo>
                  <a:pt x="138" y="523"/>
                  <a:pt x="113" y="478"/>
                  <a:pt x="96" y="429"/>
                </a:cubicBezTo>
                <a:cubicBezTo>
                  <a:pt x="99" y="420"/>
                  <a:pt x="105" y="403"/>
                  <a:pt x="105" y="403"/>
                </a:cubicBezTo>
                <a:cubicBezTo>
                  <a:pt x="105" y="403"/>
                  <a:pt x="99" y="420"/>
                  <a:pt x="96" y="42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3200400" y="2209680"/>
            <a:ext cx="2936880" cy="2136960"/>
          </a:xfrm>
          <a:custGeom>
            <a:avLst/>
            <a:gdLst/>
            <a:ahLst/>
            <a:rect l="l" t="t" r="r" b="b"/>
            <a:pathLst>
              <a:path w="1850" h="1346">
                <a:moveTo>
                  <a:pt x="52" y="1161"/>
                </a:moveTo>
                <a:cubicBezTo>
                  <a:pt x="66" y="1069"/>
                  <a:pt x="68" y="1077"/>
                  <a:pt x="52" y="942"/>
                </a:cubicBezTo>
                <a:cubicBezTo>
                  <a:pt x="50" y="924"/>
                  <a:pt x="34" y="890"/>
                  <a:pt x="34" y="890"/>
                </a:cubicBezTo>
                <a:cubicBezTo>
                  <a:pt x="26" y="520"/>
                  <a:pt x="26" y="651"/>
                  <a:pt x="26" y="497"/>
                </a:cubicBezTo>
                <a:cubicBezTo>
                  <a:pt x="93" y="407"/>
                  <a:pt x="10" y="526"/>
                  <a:pt x="69" y="410"/>
                </a:cubicBezTo>
                <a:cubicBezTo>
                  <a:pt x="86" y="377"/>
                  <a:pt x="127" y="365"/>
                  <a:pt x="156" y="349"/>
                </a:cubicBezTo>
                <a:cubicBezTo>
                  <a:pt x="174" y="339"/>
                  <a:pt x="191" y="326"/>
                  <a:pt x="209" y="314"/>
                </a:cubicBezTo>
                <a:cubicBezTo>
                  <a:pt x="253" y="285"/>
                  <a:pt x="379" y="255"/>
                  <a:pt x="444" y="244"/>
                </a:cubicBezTo>
                <a:cubicBezTo>
                  <a:pt x="602" y="185"/>
                  <a:pt x="727" y="119"/>
                  <a:pt x="846" y="0"/>
                </a:cubicBezTo>
                <a:cubicBezTo>
                  <a:pt x="867" y="32"/>
                  <a:pt x="876" y="70"/>
                  <a:pt x="907" y="96"/>
                </a:cubicBezTo>
                <a:cubicBezTo>
                  <a:pt x="946" y="129"/>
                  <a:pt x="982" y="126"/>
                  <a:pt x="1029" y="139"/>
                </a:cubicBezTo>
                <a:cubicBezTo>
                  <a:pt x="1121" y="165"/>
                  <a:pt x="1205" y="221"/>
                  <a:pt x="1300" y="235"/>
                </a:cubicBezTo>
                <a:cubicBezTo>
                  <a:pt x="1346" y="251"/>
                  <a:pt x="1391" y="263"/>
                  <a:pt x="1439" y="270"/>
                </a:cubicBezTo>
                <a:cubicBezTo>
                  <a:pt x="1507" y="315"/>
                  <a:pt x="1409" y="254"/>
                  <a:pt x="1535" y="305"/>
                </a:cubicBezTo>
                <a:cubicBezTo>
                  <a:pt x="1543" y="308"/>
                  <a:pt x="1546" y="318"/>
                  <a:pt x="1553" y="323"/>
                </a:cubicBezTo>
                <a:cubicBezTo>
                  <a:pt x="1605" y="365"/>
                  <a:pt x="1655" y="433"/>
                  <a:pt x="1719" y="454"/>
                </a:cubicBezTo>
                <a:cubicBezTo>
                  <a:pt x="1735" y="470"/>
                  <a:pt x="1755" y="497"/>
                  <a:pt x="1780" y="497"/>
                </a:cubicBezTo>
                <a:cubicBezTo>
                  <a:pt x="1718" y="518"/>
                  <a:pt x="1722" y="506"/>
                  <a:pt x="1701" y="567"/>
                </a:cubicBezTo>
                <a:cubicBezTo>
                  <a:pt x="1708" y="622"/>
                  <a:pt x="1719" y="698"/>
                  <a:pt x="1719" y="750"/>
                </a:cubicBezTo>
                <a:cubicBezTo>
                  <a:pt x="1719" y="831"/>
                  <a:pt x="1692" y="917"/>
                  <a:pt x="1692" y="995"/>
                </a:cubicBezTo>
                <a:cubicBezTo>
                  <a:pt x="1760" y="986"/>
                  <a:pt x="1794" y="980"/>
                  <a:pt x="1850" y="1021"/>
                </a:cubicBezTo>
                <a:cubicBezTo>
                  <a:pt x="1832" y="1073"/>
                  <a:pt x="1833" y="1108"/>
                  <a:pt x="1780" y="1126"/>
                </a:cubicBezTo>
                <a:cubicBezTo>
                  <a:pt x="1751" y="1116"/>
                  <a:pt x="1721" y="1109"/>
                  <a:pt x="1692" y="1099"/>
                </a:cubicBezTo>
                <a:cubicBezTo>
                  <a:pt x="1650" y="1113"/>
                  <a:pt x="1562" y="1126"/>
                  <a:pt x="1562" y="1126"/>
                </a:cubicBezTo>
                <a:cubicBezTo>
                  <a:pt x="1535" y="1152"/>
                  <a:pt x="1537" y="1178"/>
                  <a:pt x="1527" y="1213"/>
                </a:cubicBezTo>
                <a:cubicBezTo>
                  <a:pt x="1516" y="1248"/>
                  <a:pt x="1502" y="1283"/>
                  <a:pt x="1492" y="1318"/>
                </a:cubicBezTo>
                <a:cubicBezTo>
                  <a:pt x="1477" y="1315"/>
                  <a:pt x="1460" y="1317"/>
                  <a:pt x="1448" y="1309"/>
                </a:cubicBezTo>
                <a:cubicBezTo>
                  <a:pt x="1440" y="1304"/>
                  <a:pt x="1444" y="1291"/>
                  <a:pt x="1439" y="1283"/>
                </a:cubicBezTo>
                <a:cubicBezTo>
                  <a:pt x="1435" y="1276"/>
                  <a:pt x="1428" y="1271"/>
                  <a:pt x="1422" y="1265"/>
                </a:cubicBezTo>
                <a:cubicBezTo>
                  <a:pt x="1390" y="1233"/>
                  <a:pt x="1357" y="1202"/>
                  <a:pt x="1326" y="1169"/>
                </a:cubicBezTo>
                <a:cubicBezTo>
                  <a:pt x="1252" y="1175"/>
                  <a:pt x="1228" y="1177"/>
                  <a:pt x="1169" y="1195"/>
                </a:cubicBezTo>
                <a:cubicBezTo>
                  <a:pt x="1118" y="1246"/>
                  <a:pt x="1137" y="1284"/>
                  <a:pt x="1073" y="1326"/>
                </a:cubicBezTo>
                <a:cubicBezTo>
                  <a:pt x="1058" y="1323"/>
                  <a:pt x="1041" y="1326"/>
                  <a:pt x="1029" y="1318"/>
                </a:cubicBezTo>
                <a:cubicBezTo>
                  <a:pt x="1021" y="1313"/>
                  <a:pt x="1025" y="1299"/>
                  <a:pt x="1020" y="1291"/>
                </a:cubicBezTo>
                <a:cubicBezTo>
                  <a:pt x="995" y="1245"/>
                  <a:pt x="996" y="1248"/>
                  <a:pt x="968" y="1222"/>
                </a:cubicBezTo>
                <a:cubicBezTo>
                  <a:pt x="953" y="1176"/>
                  <a:pt x="900" y="1150"/>
                  <a:pt x="855" y="1134"/>
                </a:cubicBezTo>
                <a:cubicBezTo>
                  <a:pt x="837" y="1137"/>
                  <a:pt x="819" y="1139"/>
                  <a:pt x="802" y="1143"/>
                </a:cubicBezTo>
                <a:cubicBezTo>
                  <a:pt x="784" y="1148"/>
                  <a:pt x="750" y="1161"/>
                  <a:pt x="750" y="1161"/>
                </a:cubicBezTo>
                <a:cubicBezTo>
                  <a:pt x="722" y="1187"/>
                  <a:pt x="733" y="1198"/>
                  <a:pt x="698" y="1222"/>
                </a:cubicBezTo>
                <a:cubicBezTo>
                  <a:pt x="658" y="1281"/>
                  <a:pt x="678" y="1260"/>
                  <a:pt x="645" y="1291"/>
                </a:cubicBezTo>
                <a:cubicBezTo>
                  <a:pt x="627" y="1346"/>
                  <a:pt x="601" y="1324"/>
                  <a:pt x="558" y="1309"/>
                </a:cubicBezTo>
                <a:cubicBezTo>
                  <a:pt x="543" y="1265"/>
                  <a:pt x="492" y="1212"/>
                  <a:pt x="453" y="1187"/>
                </a:cubicBezTo>
                <a:cubicBezTo>
                  <a:pt x="400" y="1190"/>
                  <a:pt x="340" y="1175"/>
                  <a:pt x="296" y="1204"/>
                </a:cubicBezTo>
                <a:cubicBezTo>
                  <a:pt x="279" y="1216"/>
                  <a:pt x="252" y="1248"/>
                  <a:pt x="252" y="1248"/>
                </a:cubicBezTo>
                <a:cubicBezTo>
                  <a:pt x="240" y="1287"/>
                  <a:pt x="230" y="1307"/>
                  <a:pt x="200" y="1335"/>
                </a:cubicBezTo>
                <a:cubicBezTo>
                  <a:pt x="161" y="1325"/>
                  <a:pt x="144" y="1322"/>
                  <a:pt x="130" y="1283"/>
                </a:cubicBezTo>
                <a:cubicBezTo>
                  <a:pt x="123" y="1234"/>
                  <a:pt x="125" y="1211"/>
                  <a:pt x="78" y="1195"/>
                </a:cubicBezTo>
                <a:cubicBezTo>
                  <a:pt x="41" y="1160"/>
                  <a:pt x="39" y="1190"/>
                  <a:pt x="26" y="1134"/>
                </a:cubicBezTo>
                <a:cubicBezTo>
                  <a:pt x="34" y="1014"/>
                  <a:pt x="0" y="1038"/>
                  <a:pt x="52" y="101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>
            <a:hlinkClick r:id="rId6" action="ppaction://hlinksldjump"/>
          </p:cNvPr>
          <p:cNvSpPr/>
          <p:nvPr/>
        </p:nvSpPr>
        <p:spPr>
          <a:xfrm>
            <a:off x="6103800" y="892080"/>
            <a:ext cx="1233720" cy="1158840"/>
          </a:xfrm>
          <a:custGeom>
            <a:avLst/>
            <a:gdLst/>
            <a:ahLst/>
            <a:rect l="l" t="t" r="r" b="b"/>
            <a:pathLst>
              <a:path w="777" h="730">
                <a:moveTo>
                  <a:pt x="0" y="691"/>
                </a:moveTo>
                <a:cubicBezTo>
                  <a:pt x="8" y="659"/>
                  <a:pt x="10" y="622"/>
                  <a:pt x="29" y="595"/>
                </a:cubicBezTo>
                <a:cubicBezTo>
                  <a:pt x="33" y="575"/>
                  <a:pt x="36" y="563"/>
                  <a:pt x="48" y="547"/>
                </a:cubicBezTo>
                <a:cubicBezTo>
                  <a:pt x="57" y="520"/>
                  <a:pt x="72" y="500"/>
                  <a:pt x="72" y="470"/>
                </a:cubicBezTo>
                <a:cubicBezTo>
                  <a:pt x="70" y="462"/>
                  <a:pt x="73" y="452"/>
                  <a:pt x="67" y="446"/>
                </a:cubicBezTo>
                <a:cubicBezTo>
                  <a:pt x="60" y="439"/>
                  <a:pt x="38" y="436"/>
                  <a:pt x="38" y="436"/>
                </a:cubicBezTo>
                <a:cubicBezTo>
                  <a:pt x="46" y="407"/>
                  <a:pt x="68" y="388"/>
                  <a:pt x="77" y="360"/>
                </a:cubicBezTo>
                <a:cubicBezTo>
                  <a:pt x="79" y="355"/>
                  <a:pt x="79" y="350"/>
                  <a:pt x="81" y="345"/>
                </a:cubicBezTo>
                <a:cubicBezTo>
                  <a:pt x="84" y="335"/>
                  <a:pt x="88" y="326"/>
                  <a:pt x="91" y="316"/>
                </a:cubicBezTo>
                <a:cubicBezTo>
                  <a:pt x="93" y="311"/>
                  <a:pt x="96" y="302"/>
                  <a:pt x="96" y="302"/>
                </a:cubicBezTo>
                <a:cubicBezTo>
                  <a:pt x="85" y="250"/>
                  <a:pt x="69" y="202"/>
                  <a:pt x="38" y="158"/>
                </a:cubicBezTo>
                <a:cubicBezTo>
                  <a:pt x="52" y="105"/>
                  <a:pt x="94" y="117"/>
                  <a:pt x="139" y="105"/>
                </a:cubicBezTo>
                <a:cubicBezTo>
                  <a:pt x="159" y="78"/>
                  <a:pt x="145" y="33"/>
                  <a:pt x="173" y="9"/>
                </a:cubicBezTo>
                <a:cubicBezTo>
                  <a:pt x="179" y="4"/>
                  <a:pt x="207" y="1"/>
                  <a:pt x="211" y="0"/>
                </a:cubicBezTo>
                <a:cubicBezTo>
                  <a:pt x="328" y="34"/>
                  <a:pt x="428" y="21"/>
                  <a:pt x="561" y="24"/>
                </a:cubicBezTo>
                <a:cubicBezTo>
                  <a:pt x="599" y="17"/>
                  <a:pt x="639" y="6"/>
                  <a:pt x="677" y="19"/>
                </a:cubicBezTo>
                <a:cubicBezTo>
                  <a:pt x="681" y="33"/>
                  <a:pt x="691" y="62"/>
                  <a:pt x="691" y="62"/>
                </a:cubicBezTo>
                <a:cubicBezTo>
                  <a:pt x="678" y="98"/>
                  <a:pt x="727" y="73"/>
                  <a:pt x="744" y="67"/>
                </a:cubicBezTo>
                <a:cubicBezTo>
                  <a:pt x="777" y="88"/>
                  <a:pt x="751" y="149"/>
                  <a:pt x="739" y="182"/>
                </a:cubicBezTo>
                <a:cubicBezTo>
                  <a:pt x="726" y="282"/>
                  <a:pt x="703" y="380"/>
                  <a:pt x="691" y="480"/>
                </a:cubicBezTo>
                <a:cubicBezTo>
                  <a:pt x="687" y="514"/>
                  <a:pt x="680" y="540"/>
                  <a:pt x="672" y="571"/>
                </a:cubicBezTo>
                <a:cubicBezTo>
                  <a:pt x="667" y="589"/>
                  <a:pt x="657" y="624"/>
                  <a:pt x="657" y="624"/>
                </a:cubicBezTo>
                <a:cubicBezTo>
                  <a:pt x="662" y="654"/>
                  <a:pt x="668" y="668"/>
                  <a:pt x="643" y="686"/>
                </a:cubicBezTo>
                <a:cubicBezTo>
                  <a:pt x="633" y="684"/>
                  <a:pt x="622" y="687"/>
                  <a:pt x="614" y="681"/>
                </a:cubicBezTo>
                <a:cubicBezTo>
                  <a:pt x="610" y="678"/>
                  <a:pt x="618" y="672"/>
                  <a:pt x="619" y="667"/>
                </a:cubicBezTo>
                <a:cubicBezTo>
                  <a:pt x="630" y="594"/>
                  <a:pt x="617" y="635"/>
                  <a:pt x="629" y="600"/>
                </a:cubicBezTo>
                <a:cubicBezTo>
                  <a:pt x="616" y="561"/>
                  <a:pt x="550" y="580"/>
                  <a:pt x="513" y="576"/>
                </a:cubicBezTo>
                <a:cubicBezTo>
                  <a:pt x="502" y="577"/>
                  <a:pt x="489" y="573"/>
                  <a:pt x="480" y="580"/>
                </a:cubicBezTo>
                <a:cubicBezTo>
                  <a:pt x="476" y="583"/>
                  <a:pt x="469" y="640"/>
                  <a:pt x="465" y="652"/>
                </a:cubicBezTo>
                <a:cubicBezTo>
                  <a:pt x="475" y="680"/>
                  <a:pt x="487" y="690"/>
                  <a:pt x="451" y="700"/>
                </a:cubicBezTo>
                <a:cubicBezTo>
                  <a:pt x="446" y="699"/>
                  <a:pt x="440" y="700"/>
                  <a:pt x="437" y="696"/>
                </a:cubicBezTo>
                <a:cubicBezTo>
                  <a:pt x="432" y="689"/>
                  <a:pt x="435" y="680"/>
                  <a:pt x="432" y="672"/>
                </a:cubicBezTo>
                <a:cubicBezTo>
                  <a:pt x="426" y="656"/>
                  <a:pt x="416" y="643"/>
                  <a:pt x="403" y="633"/>
                </a:cubicBezTo>
                <a:cubicBezTo>
                  <a:pt x="294" y="640"/>
                  <a:pt x="200" y="670"/>
                  <a:pt x="96" y="700"/>
                </a:cubicBezTo>
                <a:cubicBezTo>
                  <a:pt x="67" y="720"/>
                  <a:pt x="14" y="730"/>
                  <a:pt x="0" y="69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rId7" action="ppaction://hlinksldjump"/>
          </p:cNvPr>
          <p:cNvSpPr/>
          <p:nvPr/>
        </p:nvSpPr>
        <p:spPr>
          <a:xfrm>
            <a:off x="6083280" y="1836720"/>
            <a:ext cx="1606680" cy="1414440"/>
          </a:xfrm>
          <a:custGeom>
            <a:avLst/>
            <a:gdLst/>
            <a:ahLst/>
            <a:rect l="l" t="t" r="r" b="b"/>
            <a:pathLst>
              <a:path w="1012" h="891">
                <a:moveTo>
                  <a:pt x="291" y="797"/>
                </a:moveTo>
                <a:cubicBezTo>
                  <a:pt x="277" y="782"/>
                  <a:pt x="252" y="773"/>
                  <a:pt x="248" y="753"/>
                </a:cubicBezTo>
                <a:cubicBezTo>
                  <a:pt x="244" y="732"/>
                  <a:pt x="246" y="725"/>
                  <a:pt x="234" y="710"/>
                </a:cubicBezTo>
                <a:cubicBezTo>
                  <a:pt x="186" y="652"/>
                  <a:pt x="247" y="736"/>
                  <a:pt x="210" y="681"/>
                </a:cubicBezTo>
                <a:cubicBezTo>
                  <a:pt x="204" y="671"/>
                  <a:pt x="190" y="653"/>
                  <a:pt x="190" y="653"/>
                </a:cubicBezTo>
                <a:cubicBezTo>
                  <a:pt x="182" y="623"/>
                  <a:pt x="169" y="599"/>
                  <a:pt x="157" y="571"/>
                </a:cubicBezTo>
                <a:cubicBezTo>
                  <a:pt x="151" y="557"/>
                  <a:pt x="150" y="541"/>
                  <a:pt x="142" y="528"/>
                </a:cubicBezTo>
                <a:cubicBezTo>
                  <a:pt x="130" y="507"/>
                  <a:pt x="114" y="487"/>
                  <a:pt x="104" y="465"/>
                </a:cubicBezTo>
                <a:cubicBezTo>
                  <a:pt x="92" y="439"/>
                  <a:pt x="89" y="389"/>
                  <a:pt x="61" y="379"/>
                </a:cubicBezTo>
                <a:cubicBezTo>
                  <a:pt x="52" y="353"/>
                  <a:pt x="31" y="359"/>
                  <a:pt x="3" y="355"/>
                </a:cubicBezTo>
                <a:cubicBezTo>
                  <a:pt x="22" y="318"/>
                  <a:pt x="0" y="232"/>
                  <a:pt x="42" y="221"/>
                </a:cubicBezTo>
                <a:cubicBezTo>
                  <a:pt x="77" y="228"/>
                  <a:pt x="52" y="236"/>
                  <a:pt x="80" y="254"/>
                </a:cubicBezTo>
                <a:cubicBezTo>
                  <a:pt x="114" y="242"/>
                  <a:pt x="107" y="193"/>
                  <a:pt x="75" y="182"/>
                </a:cubicBezTo>
                <a:cubicBezTo>
                  <a:pt x="70" y="168"/>
                  <a:pt x="78" y="131"/>
                  <a:pt x="94" y="125"/>
                </a:cubicBezTo>
                <a:cubicBezTo>
                  <a:pt x="108" y="120"/>
                  <a:pt x="123" y="122"/>
                  <a:pt x="138" y="120"/>
                </a:cubicBezTo>
                <a:cubicBezTo>
                  <a:pt x="182" y="104"/>
                  <a:pt x="227" y="91"/>
                  <a:pt x="272" y="77"/>
                </a:cubicBezTo>
                <a:cubicBezTo>
                  <a:pt x="303" y="67"/>
                  <a:pt x="293" y="70"/>
                  <a:pt x="315" y="62"/>
                </a:cubicBezTo>
                <a:cubicBezTo>
                  <a:pt x="320" y="60"/>
                  <a:pt x="330" y="57"/>
                  <a:pt x="330" y="57"/>
                </a:cubicBezTo>
                <a:cubicBezTo>
                  <a:pt x="363" y="61"/>
                  <a:pt x="393" y="67"/>
                  <a:pt x="426" y="72"/>
                </a:cubicBezTo>
                <a:cubicBezTo>
                  <a:pt x="434" y="102"/>
                  <a:pt x="452" y="136"/>
                  <a:pt x="478" y="153"/>
                </a:cubicBezTo>
                <a:cubicBezTo>
                  <a:pt x="486" y="152"/>
                  <a:pt x="496" y="155"/>
                  <a:pt x="502" y="149"/>
                </a:cubicBezTo>
                <a:cubicBezTo>
                  <a:pt x="506" y="145"/>
                  <a:pt x="498" y="139"/>
                  <a:pt x="498" y="134"/>
                </a:cubicBezTo>
                <a:cubicBezTo>
                  <a:pt x="498" y="121"/>
                  <a:pt x="501" y="109"/>
                  <a:pt x="502" y="96"/>
                </a:cubicBezTo>
                <a:cubicBezTo>
                  <a:pt x="506" y="64"/>
                  <a:pt x="506" y="30"/>
                  <a:pt x="517" y="0"/>
                </a:cubicBezTo>
                <a:cubicBezTo>
                  <a:pt x="552" y="4"/>
                  <a:pt x="585" y="8"/>
                  <a:pt x="618" y="19"/>
                </a:cubicBezTo>
                <a:cubicBezTo>
                  <a:pt x="632" y="40"/>
                  <a:pt x="626" y="101"/>
                  <a:pt x="627" y="120"/>
                </a:cubicBezTo>
                <a:cubicBezTo>
                  <a:pt x="661" y="108"/>
                  <a:pt x="647" y="116"/>
                  <a:pt x="670" y="101"/>
                </a:cubicBezTo>
                <a:cubicBezTo>
                  <a:pt x="696" y="138"/>
                  <a:pt x="718" y="185"/>
                  <a:pt x="757" y="211"/>
                </a:cubicBezTo>
                <a:cubicBezTo>
                  <a:pt x="769" y="229"/>
                  <a:pt x="787" y="247"/>
                  <a:pt x="805" y="259"/>
                </a:cubicBezTo>
                <a:cubicBezTo>
                  <a:pt x="813" y="272"/>
                  <a:pt x="824" y="302"/>
                  <a:pt x="824" y="302"/>
                </a:cubicBezTo>
                <a:cubicBezTo>
                  <a:pt x="829" y="423"/>
                  <a:pt x="800" y="411"/>
                  <a:pt x="872" y="446"/>
                </a:cubicBezTo>
                <a:cubicBezTo>
                  <a:pt x="888" y="471"/>
                  <a:pt x="926" y="528"/>
                  <a:pt x="949" y="542"/>
                </a:cubicBezTo>
                <a:cubicBezTo>
                  <a:pt x="964" y="573"/>
                  <a:pt x="954" y="556"/>
                  <a:pt x="982" y="595"/>
                </a:cubicBezTo>
                <a:cubicBezTo>
                  <a:pt x="985" y="600"/>
                  <a:pt x="992" y="609"/>
                  <a:pt x="992" y="609"/>
                </a:cubicBezTo>
                <a:cubicBezTo>
                  <a:pt x="1005" y="646"/>
                  <a:pt x="1012" y="639"/>
                  <a:pt x="973" y="653"/>
                </a:cubicBezTo>
                <a:cubicBezTo>
                  <a:pt x="919" y="722"/>
                  <a:pt x="827" y="727"/>
                  <a:pt x="747" y="739"/>
                </a:cubicBezTo>
                <a:cubicBezTo>
                  <a:pt x="719" y="783"/>
                  <a:pt x="756" y="856"/>
                  <a:pt x="694" y="873"/>
                </a:cubicBezTo>
                <a:cubicBezTo>
                  <a:pt x="688" y="872"/>
                  <a:pt x="677" y="875"/>
                  <a:pt x="675" y="869"/>
                </a:cubicBezTo>
                <a:cubicBezTo>
                  <a:pt x="672" y="859"/>
                  <a:pt x="682" y="850"/>
                  <a:pt x="685" y="840"/>
                </a:cubicBezTo>
                <a:cubicBezTo>
                  <a:pt x="687" y="835"/>
                  <a:pt x="690" y="825"/>
                  <a:pt x="690" y="825"/>
                </a:cubicBezTo>
                <a:cubicBezTo>
                  <a:pt x="685" y="795"/>
                  <a:pt x="683" y="761"/>
                  <a:pt x="656" y="744"/>
                </a:cubicBezTo>
                <a:cubicBezTo>
                  <a:pt x="624" y="749"/>
                  <a:pt x="560" y="758"/>
                  <a:pt x="560" y="758"/>
                </a:cubicBezTo>
                <a:cubicBezTo>
                  <a:pt x="526" y="770"/>
                  <a:pt x="540" y="762"/>
                  <a:pt x="517" y="777"/>
                </a:cubicBezTo>
                <a:cubicBezTo>
                  <a:pt x="505" y="813"/>
                  <a:pt x="535" y="855"/>
                  <a:pt x="498" y="878"/>
                </a:cubicBezTo>
                <a:cubicBezTo>
                  <a:pt x="475" y="875"/>
                  <a:pt x="424" y="891"/>
                  <a:pt x="430" y="869"/>
                </a:cubicBezTo>
                <a:cubicBezTo>
                  <a:pt x="434" y="853"/>
                  <a:pt x="445" y="821"/>
                  <a:pt x="445" y="821"/>
                </a:cubicBezTo>
                <a:cubicBezTo>
                  <a:pt x="438" y="801"/>
                  <a:pt x="428" y="804"/>
                  <a:pt x="416" y="787"/>
                </a:cubicBezTo>
                <a:cubicBezTo>
                  <a:pt x="364" y="792"/>
                  <a:pt x="345" y="797"/>
                  <a:pt x="291" y="792"/>
                </a:cubicBezTo>
                <a:cubicBezTo>
                  <a:pt x="270" y="786"/>
                  <a:pt x="277" y="792"/>
                  <a:pt x="267" y="78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rId8" action="ppaction://hlinksldjump"/>
          </p:cNvPr>
          <p:cNvSpPr/>
          <p:nvPr/>
        </p:nvSpPr>
        <p:spPr>
          <a:xfrm>
            <a:off x="6983280" y="122400"/>
            <a:ext cx="2113200" cy="930240"/>
          </a:xfrm>
          <a:custGeom>
            <a:avLst/>
            <a:gdLst/>
            <a:ahLst/>
            <a:rect l="l" t="t" r="r" b="b"/>
            <a:pathLst>
              <a:path w="1331" h="586">
                <a:moveTo>
                  <a:pt x="1308" y="552"/>
                </a:moveTo>
                <a:cubicBezTo>
                  <a:pt x="1024" y="548"/>
                  <a:pt x="736" y="559"/>
                  <a:pt x="454" y="533"/>
                </a:cubicBezTo>
                <a:cubicBezTo>
                  <a:pt x="435" y="529"/>
                  <a:pt x="415" y="527"/>
                  <a:pt x="401" y="513"/>
                </a:cubicBezTo>
                <a:cubicBezTo>
                  <a:pt x="397" y="509"/>
                  <a:pt x="395" y="503"/>
                  <a:pt x="391" y="499"/>
                </a:cubicBezTo>
                <a:cubicBezTo>
                  <a:pt x="383" y="493"/>
                  <a:pt x="372" y="491"/>
                  <a:pt x="363" y="485"/>
                </a:cubicBezTo>
                <a:cubicBezTo>
                  <a:pt x="356" y="465"/>
                  <a:pt x="343" y="443"/>
                  <a:pt x="339" y="422"/>
                </a:cubicBezTo>
                <a:cubicBezTo>
                  <a:pt x="329" y="375"/>
                  <a:pt x="331" y="317"/>
                  <a:pt x="286" y="288"/>
                </a:cubicBezTo>
                <a:cubicBezTo>
                  <a:pt x="279" y="266"/>
                  <a:pt x="254" y="257"/>
                  <a:pt x="233" y="249"/>
                </a:cubicBezTo>
                <a:cubicBezTo>
                  <a:pt x="223" y="240"/>
                  <a:pt x="213" y="231"/>
                  <a:pt x="204" y="221"/>
                </a:cubicBezTo>
                <a:cubicBezTo>
                  <a:pt x="199" y="216"/>
                  <a:pt x="197" y="208"/>
                  <a:pt x="190" y="206"/>
                </a:cubicBezTo>
                <a:cubicBezTo>
                  <a:pt x="170" y="200"/>
                  <a:pt x="127" y="197"/>
                  <a:pt x="127" y="197"/>
                </a:cubicBezTo>
                <a:cubicBezTo>
                  <a:pt x="114" y="188"/>
                  <a:pt x="84" y="177"/>
                  <a:pt x="84" y="177"/>
                </a:cubicBezTo>
                <a:cubicBezTo>
                  <a:pt x="65" y="158"/>
                  <a:pt x="44" y="139"/>
                  <a:pt x="22" y="125"/>
                </a:cubicBezTo>
                <a:cubicBezTo>
                  <a:pt x="12" y="110"/>
                  <a:pt x="8" y="98"/>
                  <a:pt x="3" y="81"/>
                </a:cubicBezTo>
                <a:cubicBezTo>
                  <a:pt x="4" y="60"/>
                  <a:pt x="0" y="38"/>
                  <a:pt x="7" y="19"/>
                </a:cubicBezTo>
                <a:cubicBezTo>
                  <a:pt x="8" y="15"/>
                  <a:pt x="54" y="10"/>
                  <a:pt x="70" y="9"/>
                </a:cubicBezTo>
                <a:cubicBezTo>
                  <a:pt x="110" y="6"/>
                  <a:pt x="190" y="0"/>
                  <a:pt x="190" y="0"/>
                </a:cubicBezTo>
                <a:cubicBezTo>
                  <a:pt x="296" y="2"/>
                  <a:pt x="401" y="5"/>
                  <a:pt x="507" y="5"/>
                </a:cubicBezTo>
                <a:cubicBezTo>
                  <a:pt x="552" y="5"/>
                  <a:pt x="596" y="0"/>
                  <a:pt x="641" y="0"/>
                </a:cubicBezTo>
                <a:cubicBezTo>
                  <a:pt x="807" y="1"/>
                  <a:pt x="1140" y="9"/>
                  <a:pt x="1140" y="9"/>
                </a:cubicBezTo>
                <a:cubicBezTo>
                  <a:pt x="1214" y="20"/>
                  <a:pt x="1240" y="30"/>
                  <a:pt x="1323" y="33"/>
                </a:cubicBezTo>
                <a:cubicBezTo>
                  <a:pt x="1327" y="276"/>
                  <a:pt x="1331" y="211"/>
                  <a:pt x="1323" y="365"/>
                </a:cubicBezTo>
                <a:cubicBezTo>
                  <a:pt x="1322" y="378"/>
                  <a:pt x="1327" y="586"/>
                  <a:pt x="1308" y="55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>
            <a:hlinkClick r:id="rId9" action="ppaction://hlinksldjump"/>
          </p:cNvPr>
          <p:cNvSpPr/>
          <p:nvPr/>
        </p:nvSpPr>
        <p:spPr>
          <a:xfrm>
            <a:off x="7475400" y="1050840"/>
            <a:ext cx="1630440" cy="1100160"/>
          </a:xfrm>
          <a:custGeom>
            <a:avLst/>
            <a:gdLst/>
            <a:ahLst/>
            <a:rect l="l" t="t" r="r" b="b"/>
            <a:pathLst>
              <a:path w="1027" h="693">
                <a:moveTo>
                  <a:pt x="998" y="620"/>
                </a:moveTo>
                <a:cubicBezTo>
                  <a:pt x="963" y="623"/>
                  <a:pt x="949" y="627"/>
                  <a:pt x="917" y="620"/>
                </a:cubicBezTo>
                <a:cubicBezTo>
                  <a:pt x="907" y="618"/>
                  <a:pt x="888" y="610"/>
                  <a:pt x="888" y="610"/>
                </a:cubicBezTo>
                <a:cubicBezTo>
                  <a:pt x="878" y="613"/>
                  <a:pt x="868" y="614"/>
                  <a:pt x="859" y="620"/>
                </a:cubicBezTo>
                <a:cubicBezTo>
                  <a:pt x="854" y="623"/>
                  <a:pt x="850" y="627"/>
                  <a:pt x="845" y="629"/>
                </a:cubicBezTo>
                <a:cubicBezTo>
                  <a:pt x="836" y="633"/>
                  <a:pt x="826" y="636"/>
                  <a:pt x="816" y="639"/>
                </a:cubicBezTo>
                <a:cubicBezTo>
                  <a:pt x="811" y="641"/>
                  <a:pt x="801" y="644"/>
                  <a:pt x="801" y="644"/>
                </a:cubicBezTo>
                <a:cubicBezTo>
                  <a:pt x="736" y="642"/>
                  <a:pt x="670" y="643"/>
                  <a:pt x="605" y="639"/>
                </a:cubicBezTo>
                <a:cubicBezTo>
                  <a:pt x="592" y="638"/>
                  <a:pt x="566" y="629"/>
                  <a:pt x="566" y="629"/>
                </a:cubicBezTo>
                <a:cubicBezTo>
                  <a:pt x="537" y="584"/>
                  <a:pt x="510" y="607"/>
                  <a:pt x="446" y="610"/>
                </a:cubicBezTo>
                <a:cubicBezTo>
                  <a:pt x="430" y="622"/>
                  <a:pt x="405" y="644"/>
                  <a:pt x="389" y="653"/>
                </a:cubicBezTo>
                <a:cubicBezTo>
                  <a:pt x="371" y="663"/>
                  <a:pt x="337" y="675"/>
                  <a:pt x="317" y="682"/>
                </a:cubicBezTo>
                <a:cubicBezTo>
                  <a:pt x="254" y="681"/>
                  <a:pt x="116" y="693"/>
                  <a:pt x="29" y="668"/>
                </a:cubicBezTo>
                <a:cubicBezTo>
                  <a:pt x="2" y="629"/>
                  <a:pt x="16" y="630"/>
                  <a:pt x="0" y="586"/>
                </a:cubicBezTo>
                <a:cubicBezTo>
                  <a:pt x="4" y="545"/>
                  <a:pt x="11" y="511"/>
                  <a:pt x="19" y="471"/>
                </a:cubicBezTo>
                <a:cubicBezTo>
                  <a:pt x="25" y="375"/>
                  <a:pt x="26" y="264"/>
                  <a:pt x="72" y="178"/>
                </a:cubicBezTo>
                <a:cubicBezTo>
                  <a:pt x="82" y="159"/>
                  <a:pt x="82" y="112"/>
                  <a:pt x="105" y="101"/>
                </a:cubicBezTo>
                <a:cubicBezTo>
                  <a:pt x="143" y="84"/>
                  <a:pt x="188" y="87"/>
                  <a:pt x="230" y="82"/>
                </a:cubicBezTo>
                <a:cubicBezTo>
                  <a:pt x="240" y="76"/>
                  <a:pt x="249" y="69"/>
                  <a:pt x="259" y="63"/>
                </a:cubicBezTo>
                <a:cubicBezTo>
                  <a:pt x="263" y="60"/>
                  <a:pt x="261" y="52"/>
                  <a:pt x="264" y="48"/>
                </a:cubicBezTo>
                <a:cubicBezTo>
                  <a:pt x="271" y="38"/>
                  <a:pt x="279" y="29"/>
                  <a:pt x="288" y="20"/>
                </a:cubicBezTo>
                <a:cubicBezTo>
                  <a:pt x="301" y="7"/>
                  <a:pt x="319" y="4"/>
                  <a:pt x="336" y="0"/>
                </a:cubicBezTo>
                <a:cubicBezTo>
                  <a:pt x="366" y="5"/>
                  <a:pt x="389" y="10"/>
                  <a:pt x="417" y="20"/>
                </a:cubicBezTo>
                <a:cubicBezTo>
                  <a:pt x="433" y="26"/>
                  <a:pt x="454" y="40"/>
                  <a:pt x="470" y="44"/>
                </a:cubicBezTo>
                <a:cubicBezTo>
                  <a:pt x="497" y="50"/>
                  <a:pt x="525" y="50"/>
                  <a:pt x="552" y="53"/>
                </a:cubicBezTo>
                <a:cubicBezTo>
                  <a:pt x="574" y="61"/>
                  <a:pt x="587" y="79"/>
                  <a:pt x="609" y="87"/>
                </a:cubicBezTo>
                <a:cubicBezTo>
                  <a:pt x="631" y="80"/>
                  <a:pt x="677" y="68"/>
                  <a:pt x="677" y="68"/>
                </a:cubicBezTo>
                <a:cubicBezTo>
                  <a:pt x="685" y="54"/>
                  <a:pt x="690" y="35"/>
                  <a:pt x="701" y="24"/>
                </a:cubicBezTo>
                <a:cubicBezTo>
                  <a:pt x="712" y="13"/>
                  <a:pt x="744" y="5"/>
                  <a:pt x="744" y="5"/>
                </a:cubicBezTo>
                <a:cubicBezTo>
                  <a:pt x="801" y="15"/>
                  <a:pt x="847" y="21"/>
                  <a:pt x="907" y="24"/>
                </a:cubicBezTo>
                <a:cubicBezTo>
                  <a:pt x="923" y="30"/>
                  <a:pt x="940" y="36"/>
                  <a:pt x="955" y="44"/>
                </a:cubicBezTo>
                <a:cubicBezTo>
                  <a:pt x="965" y="50"/>
                  <a:pt x="984" y="63"/>
                  <a:pt x="984" y="63"/>
                </a:cubicBezTo>
                <a:cubicBezTo>
                  <a:pt x="989" y="98"/>
                  <a:pt x="994" y="99"/>
                  <a:pt x="1013" y="125"/>
                </a:cubicBezTo>
                <a:cubicBezTo>
                  <a:pt x="1019" y="233"/>
                  <a:pt x="1024" y="339"/>
                  <a:pt x="1027" y="447"/>
                </a:cubicBezTo>
                <a:cubicBezTo>
                  <a:pt x="1025" y="492"/>
                  <a:pt x="1026" y="536"/>
                  <a:pt x="1022" y="581"/>
                </a:cubicBezTo>
                <a:cubicBezTo>
                  <a:pt x="1018" y="631"/>
                  <a:pt x="1025" y="627"/>
                  <a:pt x="998" y="62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>
            <a:hlinkClick r:id="rId10" action="ppaction://hlinksldjump"/>
          </p:cNvPr>
          <p:cNvSpPr/>
          <p:nvPr/>
        </p:nvSpPr>
        <p:spPr>
          <a:xfrm>
            <a:off x="7535880" y="2009880"/>
            <a:ext cx="1555560" cy="1087200"/>
          </a:xfrm>
          <a:custGeom>
            <a:avLst/>
            <a:gdLst/>
            <a:ahLst/>
            <a:rect l="l" t="t" r="r" b="b"/>
            <a:pathLst>
              <a:path w="980" h="685">
                <a:moveTo>
                  <a:pt x="335" y="608"/>
                </a:moveTo>
                <a:cubicBezTo>
                  <a:pt x="289" y="562"/>
                  <a:pt x="296" y="539"/>
                  <a:pt x="226" y="520"/>
                </a:cubicBezTo>
                <a:cubicBezTo>
                  <a:pt x="206" y="466"/>
                  <a:pt x="173" y="415"/>
                  <a:pt x="131" y="375"/>
                </a:cubicBezTo>
                <a:cubicBezTo>
                  <a:pt x="120" y="345"/>
                  <a:pt x="96" y="297"/>
                  <a:pt x="65" y="287"/>
                </a:cubicBezTo>
                <a:cubicBezTo>
                  <a:pt x="40" y="279"/>
                  <a:pt x="22" y="272"/>
                  <a:pt x="0" y="258"/>
                </a:cubicBezTo>
                <a:cubicBezTo>
                  <a:pt x="13" y="218"/>
                  <a:pt x="32" y="221"/>
                  <a:pt x="72" y="214"/>
                </a:cubicBezTo>
                <a:cubicBezTo>
                  <a:pt x="141" y="170"/>
                  <a:pt x="240" y="170"/>
                  <a:pt x="320" y="148"/>
                </a:cubicBezTo>
                <a:cubicBezTo>
                  <a:pt x="374" y="96"/>
                  <a:pt x="431" y="44"/>
                  <a:pt x="495" y="3"/>
                </a:cubicBezTo>
                <a:cubicBezTo>
                  <a:pt x="510" y="13"/>
                  <a:pt x="524" y="22"/>
                  <a:pt x="539" y="32"/>
                </a:cubicBezTo>
                <a:cubicBezTo>
                  <a:pt x="546" y="37"/>
                  <a:pt x="561" y="46"/>
                  <a:pt x="561" y="46"/>
                </a:cubicBezTo>
                <a:cubicBezTo>
                  <a:pt x="578" y="71"/>
                  <a:pt x="589" y="88"/>
                  <a:pt x="619" y="97"/>
                </a:cubicBezTo>
                <a:cubicBezTo>
                  <a:pt x="662" y="140"/>
                  <a:pt x="659" y="134"/>
                  <a:pt x="729" y="127"/>
                </a:cubicBezTo>
                <a:cubicBezTo>
                  <a:pt x="742" y="122"/>
                  <a:pt x="763" y="117"/>
                  <a:pt x="772" y="105"/>
                </a:cubicBezTo>
                <a:cubicBezTo>
                  <a:pt x="796" y="75"/>
                  <a:pt x="783" y="47"/>
                  <a:pt x="831" y="32"/>
                </a:cubicBezTo>
                <a:cubicBezTo>
                  <a:pt x="878" y="0"/>
                  <a:pt x="886" y="11"/>
                  <a:pt x="955" y="17"/>
                </a:cubicBezTo>
                <a:cubicBezTo>
                  <a:pt x="980" y="97"/>
                  <a:pt x="962" y="184"/>
                  <a:pt x="947" y="265"/>
                </a:cubicBezTo>
                <a:cubicBezTo>
                  <a:pt x="952" y="387"/>
                  <a:pt x="942" y="510"/>
                  <a:pt x="955" y="630"/>
                </a:cubicBezTo>
                <a:cubicBezTo>
                  <a:pt x="943" y="685"/>
                  <a:pt x="938" y="671"/>
                  <a:pt x="882" y="681"/>
                </a:cubicBezTo>
                <a:cubicBezTo>
                  <a:pt x="805" y="673"/>
                  <a:pt x="732" y="654"/>
                  <a:pt x="656" y="644"/>
                </a:cubicBezTo>
                <a:cubicBezTo>
                  <a:pt x="549" y="631"/>
                  <a:pt x="440" y="626"/>
                  <a:pt x="335" y="601"/>
                </a:cubicBezTo>
                <a:cubicBezTo>
                  <a:pt x="330" y="594"/>
                  <a:pt x="324" y="587"/>
                  <a:pt x="320" y="579"/>
                </a:cubicBezTo>
                <a:cubicBezTo>
                  <a:pt x="317" y="572"/>
                  <a:pt x="318" y="563"/>
                  <a:pt x="313" y="557"/>
                </a:cubicBezTo>
                <a:cubicBezTo>
                  <a:pt x="308" y="550"/>
                  <a:pt x="291" y="542"/>
                  <a:pt x="291" y="542"/>
                </a:cubicBezTo>
                <a:lnTo>
                  <a:pt x="245" y="51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11" action="ppaction://hlinksldjump"/>
          </p:cNvPr>
          <p:cNvSpPr/>
          <p:nvPr/>
        </p:nvSpPr>
        <p:spPr>
          <a:xfrm>
            <a:off x="7650000" y="4086360"/>
            <a:ext cx="1441440" cy="1438200"/>
          </a:xfrm>
          <a:custGeom>
            <a:avLst/>
            <a:gdLst/>
            <a:ahLst/>
            <a:rect l="l" t="t" r="r" b="b"/>
            <a:pathLst>
              <a:path w="908" h="906">
                <a:moveTo>
                  <a:pt x="890" y="671"/>
                </a:moveTo>
                <a:cubicBezTo>
                  <a:pt x="825" y="687"/>
                  <a:pt x="905" y="669"/>
                  <a:pt x="802" y="685"/>
                </a:cubicBezTo>
                <a:cubicBezTo>
                  <a:pt x="762" y="691"/>
                  <a:pt x="726" y="708"/>
                  <a:pt x="686" y="714"/>
                </a:cubicBezTo>
                <a:cubicBezTo>
                  <a:pt x="660" y="732"/>
                  <a:pt x="628" y="748"/>
                  <a:pt x="598" y="758"/>
                </a:cubicBezTo>
                <a:cubicBezTo>
                  <a:pt x="564" y="781"/>
                  <a:pt x="525" y="785"/>
                  <a:pt x="489" y="802"/>
                </a:cubicBezTo>
                <a:cubicBezTo>
                  <a:pt x="418" y="836"/>
                  <a:pt x="341" y="861"/>
                  <a:pt x="263" y="875"/>
                </a:cubicBezTo>
                <a:cubicBezTo>
                  <a:pt x="223" y="894"/>
                  <a:pt x="212" y="906"/>
                  <a:pt x="154" y="882"/>
                </a:cubicBezTo>
                <a:cubicBezTo>
                  <a:pt x="135" y="874"/>
                  <a:pt x="125" y="853"/>
                  <a:pt x="110" y="838"/>
                </a:cubicBezTo>
                <a:cubicBezTo>
                  <a:pt x="100" y="828"/>
                  <a:pt x="81" y="809"/>
                  <a:pt x="81" y="809"/>
                </a:cubicBezTo>
                <a:cubicBezTo>
                  <a:pt x="68" y="773"/>
                  <a:pt x="42" y="741"/>
                  <a:pt x="15" y="714"/>
                </a:cubicBezTo>
                <a:cubicBezTo>
                  <a:pt x="11" y="697"/>
                  <a:pt x="0" y="681"/>
                  <a:pt x="0" y="663"/>
                </a:cubicBezTo>
                <a:cubicBezTo>
                  <a:pt x="0" y="616"/>
                  <a:pt x="19" y="564"/>
                  <a:pt x="44" y="525"/>
                </a:cubicBezTo>
                <a:cubicBezTo>
                  <a:pt x="50" y="500"/>
                  <a:pt x="58" y="477"/>
                  <a:pt x="66" y="452"/>
                </a:cubicBezTo>
                <a:cubicBezTo>
                  <a:pt x="72" y="347"/>
                  <a:pt x="70" y="341"/>
                  <a:pt x="95" y="262"/>
                </a:cubicBezTo>
                <a:cubicBezTo>
                  <a:pt x="103" y="238"/>
                  <a:pt x="109" y="213"/>
                  <a:pt x="117" y="189"/>
                </a:cubicBezTo>
                <a:cubicBezTo>
                  <a:pt x="119" y="182"/>
                  <a:pt x="124" y="167"/>
                  <a:pt x="124" y="167"/>
                </a:cubicBezTo>
                <a:cubicBezTo>
                  <a:pt x="129" y="116"/>
                  <a:pt x="122" y="46"/>
                  <a:pt x="168" y="14"/>
                </a:cubicBezTo>
                <a:cubicBezTo>
                  <a:pt x="201" y="23"/>
                  <a:pt x="229" y="31"/>
                  <a:pt x="263" y="36"/>
                </a:cubicBezTo>
                <a:cubicBezTo>
                  <a:pt x="317" y="56"/>
                  <a:pt x="376" y="53"/>
                  <a:pt x="431" y="73"/>
                </a:cubicBezTo>
                <a:cubicBezTo>
                  <a:pt x="528" y="69"/>
                  <a:pt x="635" y="74"/>
                  <a:pt x="730" y="44"/>
                </a:cubicBezTo>
                <a:cubicBezTo>
                  <a:pt x="754" y="27"/>
                  <a:pt x="760" y="9"/>
                  <a:pt x="788" y="0"/>
                </a:cubicBezTo>
                <a:cubicBezTo>
                  <a:pt x="805" y="2"/>
                  <a:pt x="823" y="2"/>
                  <a:pt x="839" y="7"/>
                </a:cubicBezTo>
                <a:cubicBezTo>
                  <a:pt x="875" y="18"/>
                  <a:pt x="883" y="71"/>
                  <a:pt x="890" y="102"/>
                </a:cubicBezTo>
                <a:cubicBezTo>
                  <a:pt x="908" y="292"/>
                  <a:pt x="905" y="480"/>
                  <a:pt x="890" y="67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-130320" y="49320"/>
            <a:ext cx="1989360" cy="906480"/>
          </a:xfrm>
          <a:custGeom>
            <a:avLst/>
            <a:gdLst/>
            <a:ahLst/>
            <a:rect l="l" t="t" r="r" b="b"/>
            <a:pathLst>
              <a:path w="1253" h="571">
                <a:moveTo>
                  <a:pt x="82" y="315"/>
                </a:moveTo>
                <a:cubicBezTo>
                  <a:pt x="157" y="338"/>
                  <a:pt x="178" y="365"/>
                  <a:pt x="236" y="420"/>
                </a:cubicBezTo>
                <a:cubicBezTo>
                  <a:pt x="259" y="442"/>
                  <a:pt x="322" y="459"/>
                  <a:pt x="322" y="459"/>
                </a:cubicBezTo>
                <a:cubicBezTo>
                  <a:pt x="380" y="535"/>
                  <a:pt x="386" y="542"/>
                  <a:pt x="485" y="555"/>
                </a:cubicBezTo>
                <a:cubicBezTo>
                  <a:pt x="563" y="552"/>
                  <a:pt x="718" y="571"/>
                  <a:pt x="802" y="516"/>
                </a:cubicBezTo>
                <a:cubicBezTo>
                  <a:pt x="830" y="434"/>
                  <a:pt x="790" y="542"/>
                  <a:pt x="831" y="459"/>
                </a:cubicBezTo>
                <a:cubicBezTo>
                  <a:pt x="854" y="413"/>
                  <a:pt x="846" y="419"/>
                  <a:pt x="898" y="401"/>
                </a:cubicBezTo>
                <a:cubicBezTo>
                  <a:pt x="928" y="355"/>
                  <a:pt x="940" y="373"/>
                  <a:pt x="984" y="343"/>
                </a:cubicBezTo>
                <a:cubicBezTo>
                  <a:pt x="1001" y="332"/>
                  <a:pt x="1015" y="316"/>
                  <a:pt x="1032" y="305"/>
                </a:cubicBezTo>
                <a:cubicBezTo>
                  <a:pt x="1056" y="313"/>
                  <a:pt x="1072" y="312"/>
                  <a:pt x="1080" y="343"/>
                </a:cubicBezTo>
                <a:cubicBezTo>
                  <a:pt x="1106" y="445"/>
                  <a:pt x="1057" y="420"/>
                  <a:pt x="1119" y="439"/>
                </a:cubicBezTo>
                <a:cubicBezTo>
                  <a:pt x="1204" y="432"/>
                  <a:pt x="1231" y="453"/>
                  <a:pt x="1253" y="382"/>
                </a:cubicBezTo>
                <a:cubicBezTo>
                  <a:pt x="1225" y="340"/>
                  <a:pt x="1208" y="351"/>
                  <a:pt x="1167" y="324"/>
                </a:cubicBezTo>
                <a:cubicBezTo>
                  <a:pt x="1149" y="271"/>
                  <a:pt x="1130" y="300"/>
                  <a:pt x="1090" y="267"/>
                </a:cubicBezTo>
                <a:cubicBezTo>
                  <a:pt x="1021" y="211"/>
                  <a:pt x="953" y="161"/>
                  <a:pt x="869" y="132"/>
                </a:cubicBezTo>
                <a:cubicBezTo>
                  <a:pt x="783" y="0"/>
                  <a:pt x="421" y="56"/>
                  <a:pt x="370" y="55"/>
                </a:cubicBezTo>
                <a:cubicBezTo>
                  <a:pt x="266" y="43"/>
                  <a:pt x="169" y="59"/>
                  <a:pt x="63" y="65"/>
                </a:cubicBezTo>
                <a:cubicBezTo>
                  <a:pt x="46" y="127"/>
                  <a:pt x="0" y="239"/>
                  <a:pt x="82" y="267"/>
                </a:cubicBezTo>
                <a:cubicBezTo>
                  <a:pt x="106" y="303"/>
                  <a:pt x="109" y="287"/>
                  <a:pt x="82" y="31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219320" y="3581280"/>
            <a:ext cx="1828800" cy="1684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219320" y="1066680"/>
            <a:ext cx="1828800" cy="1683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943600" y="3505320"/>
            <a:ext cx="1905120" cy="1755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5867280" y="1143000"/>
            <a:ext cx="19051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0"/>
            <a:ext cx="510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¿Qué es el</a:t>
            </a:r>
            <a:r>
              <a:rPr b="1" lang="es-ES_tradnl" sz="4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4200" spc="-1" strike="noStrike">
                <a:solidFill>
                  <a:srgbClr val="ffc72b"/>
                </a:solidFill>
                <a:latin typeface="Arial"/>
              </a:rPr>
              <a:t>FOSIS</a:t>
            </a: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67280" cy="5648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2280" y="3429000"/>
            <a:ext cx="5791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algn="just">
              <a:spcBef>
                <a:spcPts val="700"/>
              </a:spcBef>
              <a:buClr>
                <a:srgbClr val="ffffff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FOSIS es un servicio público nacional, presente en la 15 regiones del país, que nace en 1990 con la recuperación de la democra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228600"/>
            <a:ext cx="6934320" cy="59230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950080" y="0"/>
            <a:ext cx="31939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7010280" cy="5988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8231400" y="6400800"/>
            <a:ext cx="767520" cy="337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Vol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28600" y="1066680"/>
            <a:ext cx="8077320" cy="41911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809880" y="163440"/>
            <a:ext cx="533412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85800" y="1096920"/>
            <a:ext cx="7772400" cy="41608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850520" y="6248520"/>
            <a:ext cx="767520" cy="337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Vol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33520" y="1895400"/>
            <a:ext cx="388620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231400" y="6400800"/>
            <a:ext cx="767520" cy="337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Vol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971800" y="228600"/>
            <a:ext cx="6072120" cy="12304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248000" y="1828800"/>
            <a:ext cx="4896000" cy="13190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800600" y="3505320"/>
            <a:ext cx="4343400" cy="1447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533520" y="1895400"/>
            <a:ext cx="388620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" y="457200"/>
            <a:ext cx="762012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772400" cy="49896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8231400" y="6400800"/>
            <a:ext cx="767520" cy="337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Vol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848360" cy="5572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771640" y="6336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DENTIFICA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7848720" cy="51130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196160" y="20808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AL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" y="0"/>
            <a:ext cx="510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¿Qué es el</a:t>
            </a:r>
            <a:r>
              <a:rPr b="1" lang="es-ES_tradnl" sz="4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4200" spc="-1" strike="noStrike">
                <a:solidFill>
                  <a:srgbClr val="ffc72b"/>
                </a:solidFill>
                <a:latin typeface="Arial"/>
              </a:rPr>
              <a:t>FOSIS</a:t>
            </a: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67280" cy="5648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2280" y="2852640"/>
            <a:ext cx="579132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FOSIS es creado como una institución permanente del Estado a través de la Ley 18.989, dotándolo de autonomía y presupuesto prop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ualmente, maneja un presupuesto de US$ 10 millones anu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208720" cy="5329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351960" y="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DUCA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53341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133800" y="189000"/>
            <a:ext cx="31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NAMICA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351640" cy="51814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559240" y="260280"/>
            <a:ext cx="42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ABITABILIDAD Y VIVI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24720" cy="53341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421800" y="33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5473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637080" y="18900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948360" y="1484280"/>
            <a:ext cx="2194200" cy="2952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320" y="3357720"/>
            <a:ext cx="788040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SIS es hoy un engranaje fundamental en 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rquitectura del Sistema de Protección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que busca instaurar el gobierno de la Presiden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ache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950160" y="1341360"/>
            <a:ext cx="2193840" cy="2952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781360"/>
            <a:ext cx="788040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briendo el Programa Puente a otros usua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ableciendo una oferta sistémica de programas de apoyo al microemprendimiento produc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enerando y capturando propuestas para la protección integral de la infa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imulando la participación social de los más pob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950160" y="1341360"/>
            <a:ext cx="2193840" cy="29527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, 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una institución de excelencia para la gestión social del siglo XX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565360"/>
            <a:ext cx="788040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ertificación de calidad internacional de sus proces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stemas estandarizados y públicos de do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estión del conocimiento como eje estratég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ometido con la plataforma de transparencia y probidad del sector públ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valuación de usuarios y cuenta públ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0880" y="0"/>
            <a:ext cx="4800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Misión del</a:t>
            </a:r>
            <a:r>
              <a:rPr b="1" lang="es-ES_tradnl" sz="4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4200" spc="-1" strike="noStrike">
                <a:solidFill>
                  <a:srgbClr val="ffc72b"/>
                </a:solidFill>
                <a:latin typeface="Arial"/>
              </a:rPr>
              <a:t>FO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510080" cy="6616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2280" y="2666880"/>
            <a:ext cx="5639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4320" indent="-43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tribuir al esfuerzo del país por la superación de la pobreza, aportando respuestas originales en temas, áreas y enfoques de trabajo complementarios a los que abordan otros Servicios del Estado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6172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¿Qué entiende el</a:t>
            </a:r>
            <a:br>
              <a:rPr sz="4200"/>
            </a:br>
            <a:r>
              <a:rPr b="1" lang="es-ES_tradnl" sz="4200" spc="-1" strike="noStrike">
                <a:solidFill>
                  <a:srgbClr val="ffc72b"/>
                </a:solidFill>
                <a:latin typeface="Arial"/>
              </a:rPr>
              <a:t>FOSIS</a:t>
            </a:r>
            <a:r>
              <a:rPr b="1" lang="es-ES_tradnl" sz="4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por pobrez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4081680" cy="6616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80880" y="2666880"/>
            <a:ext cx="53341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n pobres las personas, familias y comunidades que por las condiciones y falta de oportunidades no pueden satisfacer sus necesidades y anhelos por sí mis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510080" cy="6616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" y="3581280"/>
            <a:ext cx="5410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pobreza se institucionaliza y reproduce de generación en generación, ligados a un mismo territo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6172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¿Qué entiende el</a:t>
            </a:r>
            <a:br>
              <a:rPr sz="4200"/>
            </a:br>
            <a:r>
              <a:rPr b="1" lang="es-ES_tradnl" sz="4200" spc="-1" strike="noStrike">
                <a:solidFill>
                  <a:srgbClr val="ffc72b"/>
                </a:solidFill>
                <a:latin typeface="Arial"/>
              </a:rPr>
              <a:t>FOSIS</a:t>
            </a:r>
            <a:r>
              <a:rPr b="1" lang="es-ES_tradnl" sz="4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por pobrez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89480" cy="2454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¿Cómo superar la pobrez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905120"/>
            <a:ext cx="80769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277200" indent="-27720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sonas, familias o comunidades pobres inician un proceso acumulativo de transformaciones: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sarrollan confianza en sí mismas, sus talentos y habilidades.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provechan los bienes y servicios que les brinda el Estado y la sociedad (oportunidades).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joran de modo sustancial su calidad de vida, ciudadanía, participación en redes e integración social y ejercicio de derech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89480" cy="2454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Trayectoria y Op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320" y="1905120"/>
            <a:ext cx="80769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9080" indent="-289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sus inicios, los esfuerzos estuvieron orientados a la creación e implementación de planes, programas y metodologías que se pudieran obtener de las organizaciones sociales y de la propia gente (beneficiarios potenciales), recogiendo planteamientos y prioridades que permitieran a la institución orientar su quehacer y definir sus objetivos estratég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89480" cy="2454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Trayectoria y Op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1905120"/>
            <a:ext cx="80769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9080" indent="-289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echa la opción de invertir en algunos grupos específicos (niños, mujeres, campesinos, entre otros) y sin dimensionar cabalmente la demanda en ese entonces, se resuelve intervenir con la modalidad de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Fondos Concursable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nivel nacional, logrando dos propósi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Levantar información sobre demanda 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Estimular el fortalecimiento del tejido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3:51:34Z</dcterms:created>
  <dc:creator>Cecilia Perez</dc:creator>
  <dc:description/>
  <dc:language>en-US</dc:language>
  <cp:lastModifiedBy>Cecilia Perez</cp:lastModifiedBy>
  <dcterms:modified xsi:type="dcterms:W3CDTF">2007-10-31T03:34:23Z</dcterms:modified>
  <cp:revision>17</cp:revision>
  <dc:subject/>
  <dc:title>Diapositiva 1</dc:title>
</cp:coreProperties>
</file>