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941-FF2C-429C-AEAB-ABCB384F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2D4-7559-4028-B12A-5C98A7A0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B87-36AE-4DB2-B04D-8BA1C634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012-F5CD-4F12-BECF-030925E4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6FF5-837D-40B4-A759-4406A896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8B1F-E66B-46D7-A819-9C7CB3D4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C655-4871-46D0-A72B-8857E712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A9D5-94E4-4EF8-9AC5-6EC29508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C377-658B-4C43-A8BE-73087FC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E818-ABA5-4EED-865E-35031D78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DAAF-AF05-40F0-8F9C-34D4837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A39-6A18-48CD-9B85-03F5EAC1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0F53-6054-44E8-96C0-31FFBB42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85EE-3CC2-4B94-B96C-60C4218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67D9-FF7B-4054-AB37-3DD69AD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D91F-B92A-4466-9F03-9C805857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92F6-25BE-4BC0-BA8B-E74277CC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575-72A8-404C-9666-41823BE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7ED-2744-4496-BF79-252506FF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AD8-D89F-4DE6-8052-AD28FCB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CA5-EB25-4132-95D9-25E48242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3FB-7A5B-4DF9-9A1B-CE37CB04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698-C7A3-4B0C-B76B-499E712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831-08D5-4677-AB20-56068C7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CF1B-2D53-4074-8699-A5A5590F0B3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2E2-78A1-4B15-9830-17CBD4B3283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ema 3. ¿Qué implica superar pobrezas? Conceptualizaciones sobre el fenómen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1 de agost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1" lang="es-ES_tradnl" sz="3300" spc="-1" strike="noStrike">
                <a:solidFill>
                  <a:srgbClr val="006633"/>
                </a:solidFill>
                <a:latin typeface="Garamond"/>
              </a:rPr>
              <a:t>Mirada sólo a las carencias materiales</a:t>
            </a:r>
            <a:br>
              <a:rPr sz="33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tuar sobre éstas:  mejorar el “ten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ínea de ingreso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recimiento economía, contro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lación y equilibrio macro, empleo, sal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ecesidades básicas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tervenir sobre é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gramas compensatorios tipo “safety net”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mpleo emergencia, transferencias directas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o social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Intervenciones “estandarizadas”, homogéneas para todos los que comparten una o mas situaciones de ca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bajar con sectores pobres y no pobres y ampliar vínculo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brir espacios de participación y poder: voz y escucha, fortalecimiento de habilidades de gestión de solución a problemas individuales y colectivos, de organizaciones sociales y sus líd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ir con y a partir de iniciativas de los sectores po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intervenciones flexibles que se construyen entre las partes involucradas tomando como punto de partida las capacidades  e iniciativas existentes, fortaleciendo y expandiénd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estrategias pasan necesariamente por un cambio en las personas (núcleo de intervención en general aus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iferenciadas según “capacidades” existentes, expandir capacidades y semillas de desarrollo person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8964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 </a:t>
            </a:r>
            <a:r>
              <a:rPr b="1" lang="es-ES_tradnl" sz="3000" spc="-1" strike="noStrike">
                <a:solidFill>
                  <a:srgbClr val="006633"/>
                </a:solidFill>
                <a:latin typeface="Garamond"/>
              </a:rPr>
              <a:t>Consideración de carencias materiales y no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ones de pobreza son diversas y su superación implica encauzar procesos donde los propios pobres se convierten en protagonistas de un mejoramiento gradual en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carencias: riesgo que las políticas sean solo compensatorias y como tales pasaj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encias materi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mensión no material: semillas de desarrollo endógeno y por ende  probabilidad más cierta  de estar encauzando procesos de superación de la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Una definición distinta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370880"/>
            <a:ext cx="7200720" cy="173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Son pobres las personas, familias y comunidades que por falta de oportunidades, no pueden , a través del uso y desarrollo de sus activos (potencialidades),  satisfacer sus necesidades básicas por si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437000"/>
            <a:ext cx="3097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s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4076640"/>
            <a:ext cx="345600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nóstico cualit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aga condicionantes y palancas posibles de 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ómo se delim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451400">
            <a:off x="3779640" y="3715920"/>
            <a:ext cx="1439640" cy="1368360"/>
          </a:xfrm>
          <a:custGeom>
            <a:avLst/>
            <a:gdLst>
              <a:gd name="textAreaLeft" fmla="*/ 491040 w 1439640"/>
              <a:gd name="textAreaRight" fmla="*/ 1106280 w 1439640"/>
              <a:gd name="textAreaTop" fmla="*/ 915840 h 1368360"/>
              <a:gd name="textAreaBottom" fmla="*/ 1051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527"/>
                </a:moveTo>
                <a:lnTo>
                  <a:pt x="7367" y="9454"/>
                </a:lnTo>
                <a:lnTo>
                  <a:pt x="7367" y="14455"/>
                </a:lnTo>
                <a:lnTo>
                  <a:pt x="14455" y="14455"/>
                </a:lnTo>
                <a:lnTo>
                  <a:pt x="14455" y="7367"/>
                </a:lnTo>
                <a:lnTo>
                  <a:pt x="9454" y="7367"/>
                </a:lnTo>
                <a:lnTo>
                  <a:pt x="15527" y="0"/>
                </a:lnTo>
                <a:lnTo>
                  <a:pt x="21600" y="7367"/>
                </a:lnTo>
                <a:lnTo>
                  <a:pt x="16599" y="7367"/>
                </a:lnTo>
                <a:lnTo>
                  <a:pt x="16599" y="16599"/>
                </a:lnTo>
                <a:lnTo>
                  <a:pt x="7367" y="16599"/>
                </a:lnTo>
                <a:lnTo>
                  <a:pt x="7367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livio y superación de la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perar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número significativo de personas, familias o comunidades pobres inician un proceso acumulativo de transformaciones que les posibilita optar entre los bienes y servicios  que la sociedad posee, mejorando de modo sustentable su calidad de vida, ciudadanía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Capacidad de movilizar y expandir los activos y recursos con que cuentan las personas, hogares o localidades pobres para  aprovechar las oportunidades que enfrentan o crear oportunidade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viar la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ones de corto plazo: transferencias, bonos, programas de emergencia, compens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Paliar y hacer más vivibles situaciones de precariedad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guntas de Polític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135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ánto de alivio y cuanto de superación de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istencial y promocional (importancia del cómo se traba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terial / Tangible y no ta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Cómo responder con pertinencia a la diversidad de situaciones de pobreza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acer efectiva participación social real y el empoderamiento de los sectores pobres (qué implica o significa, beneficios y costos de la participación y para quié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pel de la descentralización y de la toma de decisiones en el nivel local (requerimientos, fortalezas y debilidades, de qué depend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Conclusiones sobre conceptualización y medi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dentificación, cuantificación y caracterización de las situaciones de pobreza son importantes, siendo “las carencias” el criterio central en este ámbi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el diseño e implementación de estrategias y políticas es indispensable contar con una comprensión sistémica y social de las situaciones de pobrezas y sus  condicion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s la concentración en la distribución del ingreso se esconden relaciones sociales y de poder y son estas las que hay que afectar para modificar l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mportancia de apoyar semillas de desarrollo endógeno en sectores pobres y vulnerables, lo que implica trabajar no sólo con ellos sino también con “sectores no pobr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ocupación por el tema de la pobreza y desigual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empre con nosotros, cambio en sus manifestaciones, características factores condicionantes, modalidad en que es percibida y asumida por el Estado y la soci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r qué preocupa, a quién y cuándo (gobernabilida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blema ético y de justicia social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edición inicial (en boga hasta ho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451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encias materiales definidas desde afuera  por expertos (definición absoluta y rel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Estado de carencia de dinero o de bienes mate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sigual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Concentración en la distribución del ingreso familiar y distancia entre los que están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otras dimensiones asociadas al tener o pose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fabetismo - escola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trición, estado de salud, expectativas de vida al nacer, longe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ivienda, servicios básicos, equipamiento hogar y comun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cesibilidad al trabajo, comercio,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tección frente a riesgos y vulnerabil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ciones  pobreza material (tangibles)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rea geográfica sub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c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echa respecto a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pas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ndices agregados IDH y o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sgos psicosociales: autoestima, vergüenza, sentimiento de ignorancia, escasa fe en si mismo, ausencia de vo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mites y barreras en la trama de relaciones sociales: redes cerradas y poco diversificadas, con predominio de relaciones de subordinación; aislamiento y segreg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178000"/>
            <a:ext cx="85690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lores, normas, prácticas, códigos de conducta tan heterogéneos como en los otros segmentos sociales. No existe una única cultura de la pobreza como se sostenía  en la década de 196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. Sen: opciones y libertades; posibilidad de dirigir propia vida, expansión de capacidades humanas y posibilidad de usar las capacidades, empode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dimensiones materiales y no materiales y la combinación de am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riable tiempo: temporal / coyuntural,  crónica, fluctuaciones alrededor de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contexto: rural - urbana, centro - periferia urbana, pobreza aislada /segregada o inserta en medio socialmente heterogén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inserción laboral y actividad productiva: (público-privado, sector formal, informal, asalariado, independiente, tamaño empresa, contrato de trabajo, beneficios previsionales, estabilidad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ntornos naturales diferentes: tierra, agua, medi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tamaño, composición y ciclo vital de la familia u ho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zclado con nuevas temas de drogas, delincuencia, inseguridad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6-08-11T01:08:00Z</dcterms:modified>
  <cp:revision>16</cp:revision>
  <dc:subject/>
  <dc:title>Diapositiva 1</dc:title>
</cp:coreProperties>
</file>