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396-B6FC-413F-A258-9B127AEB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C5E-3B34-4428-AF02-44052078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BD9-1892-4B7E-BFBD-51E0B16A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767F-72F2-4A03-B33B-AE91398A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C12A-D735-4091-89F2-EDDE6548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B16A-C327-4455-9CB9-401BC3EE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6E0C-E767-4057-A344-73BEA567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DB53-703B-4F79-A4F1-D7ACDF9D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B234-8B8F-47EB-95EE-C116CA58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C2DA-6B4E-496A-A21C-50AFC925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DC7A-1694-49CB-9B62-61D55315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91A-9C62-452C-8759-967EC1DB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E2A3-7F3A-4615-BC1C-ECBB4B47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067E-DBE0-450B-9FC8-5CBD379D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0AB1-A254-4515-822D-07AF080B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8822-58E2-4DA0-8D32-44EFDEA6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E875-4B3A-47CD-BD9F-34935C5D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671-E9CD-4D80-BD7D-49605678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97E-81AD-40E9-A4CA-FD108D8C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8FC-D6F8-49F9-A492-5D213EEF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718-2353-4E2A-ACD4-75A717A2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9A4-BC17-441C-9583-00B0FE2D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359-F0CE-44DA-B25D-1CBA7EF7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A88-1257-4ABD-8305-BB88B3D6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C445-013C-4730-9A0C-9CECB1F7FEC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15C4-60E3-4B74-B597-F124AD787F1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Tema 3. ¿Qué implica superar pobrezas? Conceptualizaciones sobre el fenómeno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1 de agosto d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olíticas para enfrentar la pobreza</a:t>
            </a: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200"/>
            </a:br>
            <a:r>
              <a:rPr b="1" lang="es-ES_tradnl" sz="3300" spc="-1" strike="noStrike">
                <a:solidFill>
                  <a:srgbClr val="006633"/>
                </a:solidFill>
                <a:latin typeface="Garamond"/>
              </a:rPr>
              <a:t>Mirada sólo a las carencias materiales</a:t>
            </a:r>
            <a:br>
              <a:rPr sz="3300"/>
            </a:b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tuar sobre éstas:  mejorar el “tene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ínea de ingreso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crecimiento economía, control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flación y equilibrio macro, empleo, sal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ecesidades básicas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intervenir sobre é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gramas compensatorios tipo “safety net”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empleo emergencia, transferencias directas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asto social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Intervenciones “estandarizadas”, homogéneas para todos los que comparten una o mas situaciones de ca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rabajar con sectores pobres y no pobres y ampliar vínculos entre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brir espacios de participación y poder: voz y escucha, fortalecimiento de habilidades de gestión de solución a problemas individuales y colectivos, de organizaciones sociales y sus líd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ruir con y a partir de iniciativas de los sectores pob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e intervenciones flexibles que se construyen entre las partes involucradas tomando como punto de partida las capacidades  e iniciativas existentes, fortaleciendo y expandiéndo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s estrategias pasan necesariamente por un cambio en las personas (núcleo de intervención en general ausen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iferenciadas según “capacidades” existentes, expandir capacidades y semillas de desarrollo personal y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60280"/>
            <a:ext cx="89647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olíticas para enfrentar la pobreza </a:t>
            </a:r>
            <a:r>
              <a:rPr b="1" lang="es-ES_tradnl" sz="3000" spc="-1" strike="noStrike">
                <a:solidFill>
                  <a:srgbClr val="006633"/>
                </a:solidFill>
                <a:latin typeface="Garamond"/>
              </a:rPr>
              <a:t>Consideración de carencias materiales y no mater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Sínte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tuaciones de pobreza son diversas y su superación implica encauzar procesos donde los propios pobres se convierten en protagonistas de un mejoramiento gradual en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carencias: riesgo que las políticas sean solo compensatorias y como tales pasaj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encias materia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imensión no material: semillas de desarrollo endógeno y por ende  probabilidad más cierta  de estar encauzando procesos de superación de la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Una definición distinta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1370880"/>
            <a:ext cx="7200720" cy="1739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Arial"/>
              </a:rPr>
              <a:t>Son pobres las personas, familias y comunidades que por falta de oportunidades, no pueden , a través del uso y desarrollo de sus activos (potencialidades),  satisfacer sus necesidades básicas por si mis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4437000"/>
            <a:ext cx="3097080" cy="1297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étodos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ción obje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35640" y="4076640"/>
            <a:ext cx="3456000" cy="18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nóstico cualita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aga condicionantes y palancas posibles de m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3429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Cómo se delimi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451400">
            <a:off x="3779640" y="3715920"/>
            <a:ext cx="1439640" cy="1368360"/>
          </a:xfrm>
          <a:custGeom>
            <a:avLst/>
            <a:gdLst>
              <a:gd name="textAreaLeft" fmla="*/ 491040 w 1439640"/>
              <a:gd name="textAreaRight" fmla="*/ 1106280 w 1439640"/>
              <a:gd name="textAreaTop" fmla="*/ 915840 h 1368360"/>
              <a:gd name="textAreaBottom" fmla="*/ 10515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5527"/>
                </a:moveTo>
                <a:lnTo>
                  <a:pt x="7367" y="9454"/>
                </a:lnTo>
                <a:lnTo>
                  <a:pt x="7367" y="14455"/>
                </a:lnTo>
                <a:lnTo>
                  <a:pt x="14455" y="14455"/>
                </a:lnTo>
                <a:lnTo>
                  <a:pt x="14455" y="7367"/>
                </a:lnTo>
                <a:lnTo>
                  <a:pt x="9454" y="7367"/>
                </a:lnTo>
                <a:lnTo>
                  <a:pt x="15527" y="0"/>
                </a:lnTo>
                <a:lnTo>
                  <a:pt x="21600" y="7367"/>
                </a:lnTo>
                <a:lnTo>
                  <a:pt x="16599" y="7367"/>
                </a:lnTo>
                <a:lnTo>
                  <a:pt x="16599" y="16599"/>
                </a:lnTo>
                <a:lnTo>
                  <a:pt x="7367" y="16599"/>
                </a:lnTo>
                <a:lnTo>
                  <a:pt x="7367" y="216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livio y superación de la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uperar la pobrez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número significativo de personas, familias o comunidades pobres inician un proceso acumulativo de transformaciones que les posibilita optar entre los bienes y servicios  que la sociedad posee, mejorando de modo sustentable su calidad de vida, ciudadanía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 DE ÉXITO: Capacidad de movilizar y expandir los activos y recursos con que cuentan las personas, hogares o localidades pobres para  aprovechar las oportunidades que enfrentan o crear oportunidades nue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liviar la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ones de corto plazo: transferencias, bonos, programas de emergencia, compens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 DE ÉXITO: Paliar y hacer más vivibles situaciones de precariedad mate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Preguntas de Polític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135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ánto de alivio y cuanto de superación de la pobrez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sistencial y promocional (importancia del cómo se traba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terial / Tangible y no tang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Cómo responder con pertinencia a la diversidad de situaciones de pobreza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Hacer efectiva participación social real y el empoderamiento de los sectores pobres (qué implica o significa, beneficios y costos de la participación y para quié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pel de la descentralización y de la toma de decisiones en el nivel local (requerimientos, fortalezas y debilidades, de qué depend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Conclusiones sobre conceptualización y medi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identificación, cuantificación y caracterización de las situaciones de pobreza son importantes, siendo “las carencias” el criterio central en este ámbi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a el diseño e implementación de estrategias y políticas es indispensable contar con una comprensión sistémica y social de las situaciones de pobrezas y sus  condicion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ras la concentración en la distribución del ingreso se esconden relaciones sociales y de poder y son estas las que hay que afectar para modificar la distribu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mportancia de apoyar semillas de desarrollo endógeno en sectores pobres y vulnerables, lo que implica trabajar no sólo con ellos sino también con “sectores no pobr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Preocupación por el tema de la pobreza y desigual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empre con nosotros, cambio en sus manifestaciones, características factores condicionantes, modalidad en que es percibida y asumida por el Estado y la socie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r qué preocupa, a quién y cuándo (gobernabilida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blema ético y de justicia social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Medición inicial (en boga hasta hoy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8451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encias materiales definidas desde afuera  por expertos (definición absoluta y relativ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Estado de carencia de dinero o de bienes mater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sigual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Concentración en la distribución del ingreso familiar y distancia entre los que están arriba y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otras dimensiones asociadas al tener o pose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lfabetismo - escola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trición, estado de salud, expectativas de vida al nacer, longev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ivienda, servicios básicos, equipamiento hogar y comunit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cesibilidad al trabajo, comercio,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tección frente a riesgos y vulnerabili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diciones  pobreza material (tangibles)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idad individ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Área geográfica subn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ci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echa respecto a la línea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pas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Índices agregados IDH y ot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dimensiones asociadas al ser (no tangibl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5690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asgos psicosociales: autoestima, vergüenza, sentimiento de ignorancia, escasa fe en si mismo, ausencia de vo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mites y barreras en la trama de relaciones sociales: redes cerradas y poco diversificadas, con predominio de relaciones de subordinación; aislamiento y segreg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dimensiones asociadas al ser (no tangibl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2178000"/>
            <a:ext cx="85690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alores, normas, prácticas, códigos de conducta tan heterogéneos como en los otros segmentos sociales. No existe una única cultura de la pobreza como se sostenía  en la década de 1960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. Sen: opciones y libertades; posibilidad de dirigir propia vida, expansión de capacidades humanas y posibilidad de usar las capacidades, empoder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Heterogeneidad de situa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dimensiones materiales y no materiales y la combinación de am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ariable tiempo: temporal / coyuntural,  crónica, fluctuaciones alrededor de la línea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contexto: rural - urbana, centro - periferia urbana, pobreza aislada /segregada o inserta en medio socialmente heterogén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Heterogeneidad de situa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inserción laboral y actividad productiva: (público-privado, sector formal, informal, asalariado, independiente, tamaño empresa, contrato de trabajo, beneficios previsionales, estabilidad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ntornos naturales diferentes: tierra, agua, medio amb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tamaño, composición y ciclo vital de la familia u ho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zclado con nuevas temas de drogas, delincuencia, inseguridad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6-08-11T01:08:00Z</dcterms:modified>
  <cp:revision>16</cp:revision>
  <dc:subject/>
  <dc:title>Diapositiva 1</dc:title>
</cp:coreProperties>
</file>