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46D-3D5A-459F-9F5A-A44FBF59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73C-C617-407A-BE7B-6BF453F4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505-AE73-4F8D-89B4-0F78E032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1D4-A4AF-473B-BA91-9D7912AB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7D8D-5C77-4AD4-9153-2B60BD4B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A483-3073-4416-ABBF-4671F46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9419-AC1F-4167-B23C-E7007CAD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120C-38C4-44E6-9BBA-9ED27081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E278-2E70-4D35-B50B-2F93ED14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8653-3EF4-4990-AF68-E541BB3B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0205-279A-4D98-8C6F-9EFA895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688-7D34-4C6B-9F01-2FC045CB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DF8F-B10F-4D74-93D4-7F3D87B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91D0-56AE-444F-A788-B7A4E6CB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7E5A-1E44-4B18-9879-CB5AA1B9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0D8F-63C6-47E3-9252-72D087F8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3806-314C-4733-B144-CA23468E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1E5-3740-4AC4-975A-084B4676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819-AB32-4E6F-BCD0-46544950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DD0-FBFF-4520-82E2-585F8E63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556-3250-4CE6-B37B-39F81B81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77B-EF1E-4FE8-949C-5BE88616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1D0-2241-433C-831D-0463F98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2C2-3813-4FE1-BEB4-1093798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7E79-C899-4157-ACF6-76CD54F9368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502A-403D-49BB-AFD6-A6CAFBC4378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ema 3. ¿Qué implica superar pobrezas? Conceptualizaciones sobre el fenómen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1 de agost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1" lang="es-ES_tradnl" sz="3300" spc="-1" strike="noStrike">
                <a:solidFill>
                  <a:srgbClr val="006633"/>
                </a:solidFill>
                <a:latin typeface="Garamond"/>
              </a:rPr>
              <a:t>Mirada sólo a las carencias materiales</a:t>
            </a:r>
            <a:br>
              <a:rPr sz="33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tuar sobre éstas:  mejorar el “ten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ínea de ingreso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crecimiento economía, contro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flación y equilibrio macro, empleo, sal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ecesidades básicas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intervenir sobre é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gramas compensatorios tipo “safety net”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mpleo emergencia, transferencias directas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o social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Intervenciones “estandarizadas”, homogéneas para todos los que comparten una o mas situaciones de ca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bajar con sectores pobres y no pobres y ampliar vínculo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brir espacios de participación y poder: voz y escucha, fortalecimiento de habilidades de gestión de solución a problemas individuales y colectivos, de organizaciones sociales y sus líd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ir con y a partir de iniciativas de los sectores pob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intervenciones flexibles que se construyen entre las partes involucradas tomando como punto de partida las capacidades  e iniciativas existentes, fortaleciendo y expandiénd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estrategias pasan necesariamente por un cambio en las personas (núcleo de intervención en general ause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iferenciadas según “capacidades” existentes, expandir capacidades y semillas de desarrollo person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8964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 </a:t>
            </a:r>
            <a:r>
              <a:rPr b="1" lang="es-ES_tradnl" sz="3000" spc="-1" strike="noStrike">
                <a:solidFill>
                  <a:srgbClr val="006633"/>
                </a:solidFill>
                <a:latin typeface="Garamond"/>
              </a:rPr>
              <a:t>Consideración de carencias materiales y no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ones de pobreza son diversas y su superación implica encauzar procesos donde los propios pobres se convierten en protagonistas de un mejoramiento gradual en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carencias: riesgo que las políticas sean solo compensatorias y como tales pasaj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encias materi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mensión no material: semillas de desarrollo endógeno y por ende  probabilidad más cierta  de estar encauzando procesos de superación de la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Una definición distinta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370880"/>
            <a:ext cx="7200720" cy="173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Son pobres las personas, familias y comunidades que por falta de oportunidades, no pueden , a través del uso y desarrollo de sus activos (potencialidades),  satisfacer sus necesidades básicas por si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437000"/>
            <a:ext cx="3097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étodos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4076640"/>
            <a:ext cx="345600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nóstico cualit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aga condicionantes y palancas posibles de 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342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ómo se delim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451400">
            <a:off x="3779640" y="3715920"/>
            <a:ext cx="1439640" cy="1368360"/>
          </a:xfrm>
          <a:custGeom>
            <a:avLst/>
            <a:gdLst>
              <a:gd name="textAreaLeft" fmla="*/ 491040 w 1439640"/>
              <a:gd name="textAreaRight" fmla="*/ 1106280 w 1439640"/>
              <a:gd name="textAreaTop" fmla="*/ 915840 h 1368360"/>
              <a:gd name="textAreaBottom" fmla="*/ 10515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527"/>
                </a:moveTo>
                <a:lnTo>
                  <a:pt x="7367" y="9454"/>
                </a:lnTo>
                <a:lnTo>
                  <a:pt x="7367" y="14455"/>
                </a:lnTo>
                <a:lnTo>
                  <a:pt x="14455" y="14455"/>
                </a:lnTo>
                <a:lnTo>
                  <a:pt x="14455" y="7367"/>
                </a:lnTo>
                <a:lnTo>
                  <a:pt x="9454" y="7367"/>
                </a:lnTo>
                <a:lnTo>
                  <a:pt x="15527" y="0"/>
                </a:lnTo>
                <a:lnTo>
                  <a:pt x="21600" y="7367"/>
                </a:lnTo>
                <a:lnTo>
                  <a:pt x="16599" y="7367"/>
                </a:lnTo>
                <a:lnTo>
                  <a:pt x="16599" y="16599"/>
                </a:lnTo>
                <a:lnTo>
                  <a:pt x="7367" y="16599"/>
                </a:lnTo>
                <a:lnTo>
                  <a:pt x="7367" y="216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livio y superación de la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perar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número significativo de personas, familias o comunidades pobres inician un proceso acumulativo de transformaciones que les posibilita optar entre los bienes y servicios  que la sociedad posee, mejorando de modo sustentable su calidad de vida, ciudadanía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Capacidad de movilizar y expandir los activos y recursos con que cuentan las personas, hogares o localidades pobres para  aprovechar las oportunidades que enfrentan o crear oportunidades nue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iviar la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ones de corto plazo: transferencias, bonos, programas de emergencia, compens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Paliar y hacer más vivibles situaciones de precariedad 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Preguntas de Polític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135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ánto de alivio y cuanto de superación de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istencial y promocional (importancia del cómo se traba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terial / Tangible y no ta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Cómo responder con pertinencia a la diversidad de situaciones de pobreza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acer efectiva participación social real y el empoderamiento de los sectores pobres (qué implica o significa, beneficios y costos de la participación y para quié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pel de la descentralización y de la toma de decisiones en el nivel local (requerimientos, fortalezas y debilidades, de qué depend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Conclusiones sobre conceptualización y medi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identificación, cuantificación y caracterización de las situaciones de pobreza son importantes, siendo “las carencias” el criterio central en este ámbi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a el diseño e implementación de estrategias y políticas es indispensable contar con una comprensión sistémica y social de las situaciones de pobrezas y sus  condicion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s la concentración en la distribución del ingreso se esconden relaciones sociales y de poder y son estas las que hay que afectar para modificar l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mportancia de apoyar semillas de desarrollo endógeno en sectores pobres y vulnerables, lo que implica trabajar no sólo con ellos sino también con “sectores no pobr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Preocupación por el tema de la pobreza y desigual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empre con nosotros, cambio en sus manifestaciones, características factores condicionantes, modalidad en que es percibida y asumida por el Estado y la soci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r qué preocupa, a quién y cuándo (gobernabilida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blema ético y de justicia social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edición inicial (en boga hasta ho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451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encias materiales definidas desde afuera  por expertos (definición absoluta y rela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Estado de carencia de dinero o de bienes mate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sigual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Concentración en la distribución del ingreso familiar y distancia entre los que están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otras dimensiones asociadas al tener o pose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lfabetismo - escola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trición, estado de salud, expectativas de vida al nacer, longev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ivienda, servicios básicos, equipamiento hogar y comuni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cesibilidad al trabajo, comercio,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tección frente a riesgos y vulnerabili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ciones  pobreza material (tangibles)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rea geográfica sub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c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echa respecto a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pas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ndices agregados IDH y o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56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asgos psicosociales: autoestima, vergüenza, sentimiento de ignorancia, escasa fe en si mismo, ausencia de vo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mites y barreras en la trama de relaciones sociales: redes cerradas y poco diversificadas, con predominio de relaciones de subordinación; aislamiento y segreg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2178000"/>
            <a:ext cx="85690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lores, normas, prácticas, códigos de conducta tan heterogéneos como en los otros segmentos sociales. No existe una única cultura de la pobreza como se sostenía  en la década de 196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. Sen: opciones y libertades; posibilidad de dirigir propia vida, expansión de capacidades humanas y posibilidad de usar las capacidades, empode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dimensiones materiales y no materiales y la combinación de am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riable tiempo: temporal / coyuntural,  crónica, fluctuaciones alrededor de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contexto: rural - urbana, centro - periferia urbana, pobreza aislada /segregada o inserta en medio socialmente heterogén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inserción laboral y actividad productiva: (público-privado, sector formal, informal, asalariado, independiente, tamaño empresa, contrato de trabajo, beneficios previsionales, estabilidad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ntornos naturales diferentes: tierra, agua, medi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tamaño, composición y ciclo vital de la familia u ho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zclado con nuevas temas de drogas, delincuencia, inseguridad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6-08-11T01:08:00Z</dcterms:modified>
  <cp:revision>16</cp:revision>
  <dc:subject/>
  <dc:title>Diapositiva 1</dc:title>
</cp:coreProperties>
</file>