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21A9-74D2-4AFF-B3DE-21FDC4B45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074C-4FDE-49F9-9DC2-1AFA4EAAC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B370-55FB-4621-9E31-8A07AC171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6300-A070-4E09-93D2-448491BBC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20C99-382F-4567-9019-732FFB7E5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8A292-30D5-4FB8-8398-DFFCE9A48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5BDC6-CED3-4217-959F-E8CF94B00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54CD1-EC13-4EE8-9BA6-893849531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03C17-B914-40B4-890F-198E20F1B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F4416-27CF-4E23-9A34-B1B3C8FC4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15BEF-D8E1-422A-A1ED-7D92EADF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53DB-111E-4ED6-A29B-70AACFAC6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1D714-3594-49A7-B20A-070074FE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9B9D5-6E42-4EEB-A649-0085EB6E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D4C92-E655-4CCA-8675-D3EFB2666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3B9BA-266B-4F0B-97BB-0599EEC42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CCEDB-5B96-4986-A769-8700B90D6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307E-0CF9-4F13-99B2-DCD3D22DB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70EC-6AD4-4B5F-96BD-2CE37DA7D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2DD3-AE39-4CF0-90F8-DE61D9449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9EE0-F9C4-491A-BAB6-312C36063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6303-FF9B-498B-8997-BAC70898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6822-F4EC-4423-BCBD-DA8884D4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F6D9-E4D0-4795-A8F1-5AB226F47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39280" y="6248520"/>
            <a:ext cx="799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Julio – Septiembre,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460F5-D316-4315-BE30-8B837A785704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468360" y="6243480"/>
            <a:ext cx="792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Julio – Septiembre,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59DA9-8B42-4B3B-971A-1E50DCD794CA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600" spc="-1" strike="noStrike">
                <a:solidFill>
                  <a:srgbClr val="006633"/>
                </a:solidFill>
                <a:latin typeface="Garamond"/>
              </a:rPr>
              <a:t>Tema 3. ¿Qué implica superar pobrezas? Conceptualizaciones sobre el fenómeno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M. Ignacia Fernánd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11 de agosto de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Políticas para enfrentar la pobreza</a:t>
            </a: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4200"/>
            </a:br>
            <a:r>
              <a:rPr b="1" lang="es-ES_tradnl" sz="3300" spc="-1" strike="noStrike">
                <a:solidFill>
                  <a:srgbClr val="006633"/>
                </a:solidFill>
                <a:latin typeface="Garamond"/>
              </a:rPr>
              <a:t>Mirada sólo a las carencias materiales</a:t>
            </a:r>
            <a:br>
              <a:rPr sz="3300"/>
            </a:br>
            <a:endParaRPr b="0" lang="en-US" sz="3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2296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ctuar sobre éstas:  mejorar el “tener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ínea de ingreso </a:t>
            </a:r>
            <a:r>
              <a:rPr b="0" lang="es-ES_tradnl" sz="2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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crecimiento economía, control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inflación y equilibrio macro, empleo, sal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Necesidades básicas </a:t>
            </a:r>
            <a:r>
              <a:rPr b="0" lang="es-ES_tradnl" sz="2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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intervenir sobre ést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rogramas compensatorios tipo “safety net” </a:t>
            </a:r>
            <a:r>
              <a:rPr b="0" lang="es-ES_tradnl" sz="2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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empleo emergencia, transferencias directas asistenci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Gasto social focalizado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Intervenciones “estandarizadas”, homogéneas para todos los que comparten una o mas situaciones de carenc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640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Trabajar con sectores pobres y no pobres y ampliar vínculos entre ell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brir espacios de participación y poder: voz y escucha, fortalecimiento de habilidades de gestión de solución a problemas individuales y colectivos, de organizaciones sociales y sus líde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struir con y a partir de iniciativas de los sectores pob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rategias de intervenciones flexibles que se construyen entre las partes involucradas tomando como punto de partida las capacidades  e iniciativas existentes, fortaleciendo y expandiéndo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as estrategias pasan necesariamente por un cambio en las personas (núcleo de intervención en general ausent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rategias diferenciadas según “capacidades” existentes, expandir capacidades y semillas de desarrollo personal y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9280" y="260280"/>
            <a:ext cx="8964720" cy="14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Políticas para enfrentar la pobreza </a:t>
            </a:r>
            <a:r>
              <a:rPr b="1" lang="es-ES_tradnl" sz="3000" spc="-1" strike="noStrike">
                <a:solidFill>
                  <a:srgbClr val="006633"/>
                </a:solidFill>
                <a:latin typeface="Garamond"/>
              </a:rPr>
              <a:t>Consideración de carencias materiales y no materi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Síntesi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tuaciones de pobreza son diversas y su superación implica encauzar procesos donde los propios pobres se convierten en protagonistas de un mejoramiento gradual en su calidad de vi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olo carencias: riesgo que las políticas sean solo compensatorias y como tales pasaje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rencias material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dimensión no material: semillas de desarrollo endógeno y por ende  probabilidad más cierta  de estar encauzando procesos de superación de la pobrez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Una definición distinta de pobrez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"/>
          <p:cNvSpPr/>
          <p:nvPr/>
        </p:nvSpPr>
        <p:spPr>
          <a:xfrm>
            <a:off x="971640" y="1370880"/>
            <a:ext cx="7200720" cy="1739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33"/>
                </a:solidFill>
                <a:latin typeface="Arial"/>
              </a:rPr>
              <a:t>Son pobres las personas, familias y comunidades que por falta de oportunidades, no pueden , a través del uso y desarrollo de sus activos (potencialidades),  satisfacer sus necesidades básicas por si mism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1280" y="4437000"/>
            <a:ext cx="3097080" cy="1297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étodos tradi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edición obje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435640" y="4076640"/>
            <a:ext cx="3456000" cy="1871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iagnóstico cualitativ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daga condicionantes y palancas posibles de m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56000" y="3429000"/>
            <a:ext cx="40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¿Cómo se delimit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3451400">
            <a:off x="3779640" y="3715920"/>
            <a:ext cx="1439640" cy="1368360"/>
          </a:xfrm>
          <a:custGeom>
            <a:avLst/>
            <a:gdLst>
              <a:gd name="textAreaLeft" fmla="*/ 491040 w 1439640"/>
              <a:gd name="textAreaRight" fmla="*/ 1106280 w 1439640"/>
              <a:gd name="textAreaTop" fmla="*/ 915840 h 1368360"/>
              <a:gd name="textAreaBottom" fmla="*/ 105156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15527"/>
                </a:moveTo>
                <a:lnTo>
                  <a:pt x="7367" y="9454"/>
                </a:lnTo>
                <a:lnTo>
                  <a:pt x="7367" y="14455"/>
                </a:lnTo>
                <a:lnTo>
                  <a:pt x="14455" y="14455"/>
                </a:lnTo>
                <a:lnTo>
                  <a:pt x="14455" y="7367"/>
                </a:lnTo>
                <a:lnTo>
                  <a:pt x="9454" y="7367"/>
                </a:lnTo>
                <a:lnTo>
                  <a:pt x="15527" y="0"/>
                </a:lnTo>
                <a:lnTo>
                  <a:pt x="21600" y="7367"/>
                </a:lnTo>
                <a:lnTo>
                  <a:pt x="16599" y="7367"/>
                </a:lnTo>
                <a:lnTo>
                  <a:pt x="16599" y="16599"/>
                </a:lnTo>
                <a:lnTo>
                  <a:pt x="7367" y="16599"/>
                </a:lnTo>
                <a:lnTo>
                  <a:pt x="7367" y="21600"/>
                </a:lnTo>
                <a:close/>
              </a:path>
            </a:pathLst>
          </a:custGeom>
          <a:solidFill>
            <a:srgbClr val="3b81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Alivio y superación de la pobrez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748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Superar la pobrez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 número significativo de personas, familias o comunidades pobres inician un proceso acumulativo de transformaciones que les posibilita optar entre los bienes y servicios  que la sociedad posee, mejorando de modo sustentable su calidad de vida, ciudadanía e integración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RITERIO DE ÉXITO: Capacidad de movilizar y expandir los activos y recursos con que cuentan las personas, hogares o localidades pobres para  aprovechar las oportunidades que enfrentan o crear oportunidades nue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Aliviar la pobrez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oluciones de corto plazo: transferencias, bonos, programas de emergencia, compensación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RITERIO DE ÉXITO: Paliar y hacer más vivibles situaciones de precariedad materi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Preguntas de Política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000" y="1412640"/>
            <a:ext cx="8135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uánto de alivio y cuanto de superación de la pobrez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sistencial y promocional (importancia del cómo se trabaj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Material / Tangible y no tang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¿Cómo responder con pertinencia a la diversidad de situaciones de pobrezas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Hacer efectiva participación social real y el empoderamiento de los sectores pobres (qué implica o significa, beneficios y costos de la participación y para quié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apel de la descentralización y de la toma de decisiones en el nivel local (requerimientos, fortalezas y debilidades, de qué depende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Conclusiones sobre conceptualización y mediciones de pobrez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a identificación, cuantificación y caracterización de las situaciones de pobreza son importantes, siendo “las carencias” el criterio central en este ámbit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ara el diseño e implementación de estrategias y políticas es indispensable contar con una comprensión sistémica y social de las situaciones de pobrezas y sus  condiciona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Tras la concentración en la distribución del ingreso se esconden relaciones sociales y de poder y son estas las que hay que afectar para modificar la distribució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Importancia de apoyar semillas de desarrollo endógeno en sectores pobres y vulnerables, lo que implica trabajar no sólo con ellos sino también con “sectores no pobres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Preocupación por el tema de la pobreza y desigualda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iempre con nosotros, cambio en sus manifestaciones, características factores condicionantes, modalidad en que es percibida y asumida por el Estado y la socied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or qué preocupa, a quién y cuándo (gobernabilida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roblema ético y de justicia social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Medición inicial (en boga hasta hoy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84512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arencias materiales definidas desde afuera  por expertos (definición absoluta y relativ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obre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CL" sz="2600" spc="-1" strike="noStrike">
                <a:solidFill>
                  <a:srgbClr val="000000"/>
                </a:solidFill>
                <a:latin typeface="Arial"/>
              </a:rPr>
              <a:t>Estado de carencia de dinero o de bienes materi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Desigualda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CL" sz="2600" spc="-1" strike="noStrike">
                <a:solidFill>
                  <a:srgbClr val="000000"/>
                </a:solidFill>
                <a:latin typeface="Arial"/>
              </a:rPr>
              <a:t>Concentración en la distribución del ingreso familiar y distancia entre los que están arriba y abaj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Ampliación a otras dimensiones asociadas al tener o pose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lfabetismo - escolarid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utrición, estado de salud, expectativas de vida al nacer, longevid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Vivienda, servicios básicos, equipamiento hogar y comunitar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ccesibilidad al trabajo, comercio, merc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rotección frente a riesgos y vulnerabilida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ediciones  pobreza material (tangibles)</a:t>
            </a:r>
            <a:r>
              <a:rPr b="1" lang="en-US" sz="29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1128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Unidad individu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Famil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Área geográfica subnacion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aí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Incid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Brecha respecto a la línea de pobre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apas de pobre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Índices agregados IDH y otr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Ampliación a dimensiones asociadas al ser (no tangibles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3640" y="2349360"/>
            <a:ext cx="856908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asgos psicosociales: autoestima, vergüenza, sentimiento de ignorancia, escasa fe en si mismo, ausencia de voz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Limites y barreras en la trama de relaciones sociales: redes cerradas y poco diversificadas, con predominio de relaciones de subordinación; aislamiento y segregación soc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Ampliación a dimensiones asociadas al ser (no tangibles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3640" y="2178000"/>
            <a:ext cx="8569080" cy="36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Valores, normas, prácticas, códigos de conducta tan heterogéneos como en los otros segmentos sociales. No existe una única cultura de la pobreza como se sostenía  en la década de 1960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. Sen: opciones y libertades; posibilidad de dirigir propia vida, expansión de capacidades humanas y posibilidad de usar las capacidades, empoderami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425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Heterogeneidad de situaciones de pobrez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n dimensiones materiales y no materiales y la combinación de amb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Variable tiempo: temporal / coyuntural,  crónica, fluctuaciones alrededor de la línea de pobre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egún contexto: rural - urbana, centro - periferia urbana, pobreza aislada /segregada o inserta en medio socialmente heterogéne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425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Heterogeneidad de situaciones de pobrez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egún inserción laboral y actividad productiva: (público-privado, sector formal, informal, asalariado, independiente, tamaño empresa, contrato de trabajo, beneficios previsionales, estabilidad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n entornos naturales diferentes: tierra, agua, medio ambie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egún tamaño, composición y ciclo vital de la familia u hog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ezclado con nuevas temas de drogas, delincuencia, inseguridad ciudada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00:09:26Z</dcterms:created>
  <dc:creator>Ignacia Fernandez</dc:creator>
  <dc:description/>
  <dc:language>en-US</dc:language>
  <cp:lastModifiedBy>Ignacia Fernandez</cp:lastModifiedBy>
  <dcterms:modified xsi:type="dcterms:W3CDTF">2006-08-11T01:08:00Z</dcterms:modified>
  <cp:revision>16</cp:revision>
  <dc:subject/>
  <dc:title>Diapositiva 1</dc:title>
</cp:coreProperties>
</file>