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012E-2FD9-40FA-98EB-F2B6C4B120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mejor política social es aquella que logra responder a los 4ámbitos que son propios de la acción pública en materia social ho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yar procesos de integración y cohesió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rtar a la constitución de una comunidad nacional, no rasgada por fracturas sociales seve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ir a la realización de derechos sociales de ciudadan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93A0-33A1-42BE-8A94-53BC38BA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19D0-3E4D-4233-B01D-2EC48740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157-D358-4D95-A878-F9B9355F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C72-EF31-4E5F-B485-4B00476A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4427-4E2B-4A02-992F-A1B5FF78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7E2A-C52C-4656-B2CF-D8D7535D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2D34-A390-4469-9394-B21931F7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749D-25E1-4305-BAEB-14C997C9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4BAC-33D2-4118-95DD-CBCE75EE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3698-B66C-4B78-B162-9C25FBE3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4094-9E24-469D-824D-CF5D4819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8FC-8324-407B-B218-5D1D4854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09E4-E65F-4366-BD40-023A28DB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0B5C-113B-406A-B68D-317FFCA3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282B-324B-4C24-BD65-A8D89E59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DEBB-9F91-4650-9834-1BF078A1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E8EC-6D2E-4062-8A6A-AB75C635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37D1-2317-4D77-BFBC-A440EB7E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14A-8886-4CA8-A757-446942AB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158-6517-4141-AAB5-AD9C1894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D962-6091-41EB-A229-64607711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8EEF-955E-44A6-AAAE-FF9FF814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C6D-D4A2-438F-83C5-8A0A48E1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996-0DBF-4A9A-B159-8D8AEB80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Julio – Septiembr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A6AA-F7B2-42DD-AF24-B6779A254A4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Julio – Septiembr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F747-A0B2-4605-AED5-1EA4A1F23AE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Tema 2. Políticas de superación de la pobreza, políticas sociales, política económica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9 de agosto de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Institucionalida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ructura y organización, cultura organiza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glas y normas de funcionamiento: transparencia, rendición de cuentas (accountabili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ordin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7040" y="4516560"/>
            <a:ext cx="770040" cy="8841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70120" y="4800600"/>
            <a:ext cx="789120" cy="6001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33720" y="4876920"/>
            <a:ext cx="766800" cy="5238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73560" y="4995720"/>
            <a:ext cx="773280" cy="4050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16640" y="5011560"/>
            <a:ext cx="787320" cy="3891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80240" y="5011560"/>
            <a:ext cx="766800" cy="3891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27040" y="2732040"/>
            <a:ext cx="770040" cy="178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70120" y="3151080"/>
            <a:ext cx="789120" cy="1649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3720" y="3513240"/>
            <a:ext cx="766800" cy="1363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73560" y="3795840"/>
            <a:ext cx="773280" cy="1199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16640" y="3902040"/>
            <a:ext cx="787320" cy="1109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80240" y="3976560"/>
            <a:ext cx="766800" cy="103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93760" y="2641680"/>
            <a:ext cx="3240" cy="27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96920" y="5400720"/>
            <a:ext cx="96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96920" y="5054760"/>
            <a:ext cx="9684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96920" y="4708440"/>
            <a:ext cx="96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96920" y="4367160"/>
            <a:ext cx="96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96920" y="4022640"/>
            <a:ext cx="96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96920" y="3673440"/>
            <a:ext cx="96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96920" y="3332160"/>
            <a:ext cx="96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96920" y="2986200"/>
            <a:ext cx="96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96920" y="2641680"/>
            <a:ext cx="96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93760" y="5400720"/>
            <a:ext cx="7489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93760" y="5400360"/>
            <a:ext cx="32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436840" y="5400360"/>
            <a:ext cx="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693960" y="5400360"/>
            <a:ext cx="32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37040" y="5400360"/>
            <a:ext cx="32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183360" y="5400360"/>
            <a:ext cx="32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440480" y="5400360"/>
            <a:ext cx="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683560" y="5400360"/>
            <a:ext cx="32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7800" y="48117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12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73520" y="495000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8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35680" y="499572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7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75520" y="505476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5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20040" y="505476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5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78960" y="505476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5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7800" y="34797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25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0880" y="38257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23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9800" y="405144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19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41240" y="42069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17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2080" y="430704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16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7760" y="43513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14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3360" y="52387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3360" y="48895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8400" y="45450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8400" y="4202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8400" y="38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8400" y="35132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3170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00" y="2822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8400" y="2479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7420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1728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6036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2216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6524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70688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057400" y="6095880"/>
            <a:ext cx="152280" cy="152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0960" y="6019920"/>
            <a:ext cx="225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Pobres no</a:t>
            </a:r>
            <a:r>
              <a:rPr b="1" lang="es-ES_tradnl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 indig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4800600" y="6095160"/>
            <a:ext cx="201600" cy="150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02640" y="6019920"/>
            <a:ext cx="11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Indig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0640" y="23623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38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29960" y="273384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32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28480" y="311004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7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44560" y="340848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3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52720" y="348444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1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790760" y="35575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0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5640" y="260280"/>
            <a:ext cx="80582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6633"/>
                </a:solidFill>
                <a:latin typeface="Garamond"/>
                <a:ea typeface="Arial"/>
              </a:rPr>
              <a:t>Evolución de la incidencia de la pobreza y de la indigencia 1990-2000 (Porcentaje de la población*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. Hogares en situación de pobreza e indigencia,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por zonas urbanas y rurales, 1999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(Como porcentaje del total de hogares)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68360" y="1628640"/>
          <a:ext cx="8207280" cy="4392720"/>
        </p:xfrm>
        <a:graphic>
          <a:graphicData uri="http://schemas.openxmlformats.org/drawingml/2006/table">
            <a:tbl>
              <a:tblPr/>
              <a:tblGrid>
                <a:gridCol w="1938240"/>
                <a:gridCol w="1042920"/>
                <a:gridCol w="1044720"/>
                <a:gridCol w="1046160"/>
                <a:gridCol w="1042920"/>
                <a:gridCol w="1047960"/>
                <a:gridCol w="1044360"/>
              </a:tblGrid>
              <a:tr h="52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gares en situación de pobre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gares en situación de indige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b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u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b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u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mérica Latina (**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. Distribución del ingreso de los hogares urbanos, por quintiles(*), año 1999 (**) (Porcentajes)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268280"/>
          <a:ext cx="8641800" cy="4248000"/>
        </p:xfrm>
        <a:graphic>
          <a:graphicData uri="http://schemas.openxmlformats.org/drawingml/2006/table">
            <a:tbl>
              <a:tblPr/>
              <a:tblGrid>
                <a:gridCol w="1342080"/>
                <a:gridCol w="1042920"/>
                <a:gridCol w="1042920"/>
                <a:gridCol w="1042920"/>
                <a:gridCol w="1042560"/>
                <a:gridCol w="1043280"/>
                <a:gridCol w="1042560"/>
                <a:gridCol w="1042560"/>
              </a:tblGrid>
              <a:tr h="536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1 (más pobr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5 (más ric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cil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cil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cil 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cil 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250920" y="5516640"/>
            <a:ext cx="871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*) Ordenados según su ingreso per cápita. El quintil 1 corresponde a los hogares más pobres y el quintil 5 a los hogares más r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**) En el caso de Chile los datos corresponden al año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60280"/>
            <a:ext cx="88423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Esperanza de vida al nacer y mortalidad infantil, por quinquenios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1841400" y="1523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41400" y="160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4000" y="1484280"/>
          <a:ext cx="8515080" cy="4751280"/>
        </p:xfrm>
        <a:graphic>
          <a:graphicData uri="http://schemas.openxmlformats.org/drawingml/2006/table">
            <a:tbl>
              <a:tblPr/>
              <a:tblGrid>
                <a:gridCol w="1276200"/>
                <a:gridCol w="1143000"/>
                <a:gridCol w="1219320"/>
                <a:gridCol w="1218960"/>
                <a:gridCol w="1219320"/>
                <a:gridCol w="1219320"/>
                <a:gridCol w="1218960"/>
              </a:tblGrid>
              <a:tr h="3236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quen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0-19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0-19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-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speranza de vi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rtalidad infant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speranza de vi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rtalidad infant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speranza de vi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rtalidad infant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g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 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Población analfabeta de 15 y más 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(como % de la población de 15 y más)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116000" y="1628640"/>
          <a:ext cx="6933960" cy="4343040"/>
        </p:xfrm>
        <a:graphic>
          <a:graphicData uri="http://schemas.openxmlformats.org/drawingml/2006/table">
            <a:tbl>
              <a:tblPr/>
              <a:tblGrid>
                <a:gridCol w="2157120"/>
                <a:gridCol w="1695240"/>
                <a:gridCol w="1618200"/>
                <a:gridCol w="1463400"/>
              </a:tblGrid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: 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Población urbana analfabeta por grupos de edad, 2000 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(Como porcentaje de la población en cada grupo de edad)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4360" y="1773360"/>
          <a:ext cx="7824600" cy="3941640"/>
        </p:xfrm>
        <a:graphic>
          <a:graphicData uri="http://schemas.openxmlformats.org/drawingml/2006/table">
            <a:tbl>
              <a:tblPr/>
              <a:tblGrid>
                <a:gridCol w="1338120"/>
                <a:gridCol w="1077840"/>
                <a:gridCol w="1082880"/>
                <a:gridCol w="1081080"/>
                <a:gridCol w="1082520"/>
                <a:gridCol w="1079640"/>
                <a:gridCol w="1082520"/>
              </a:tblGrid>
              <a:tr h="293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upos de e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-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-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-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 y má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260280"/>
            <a:ext cx="88423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sistencia escolar en áreas urbanas por niveles de ingreso familiar y grupos de edad, 1999 (% de la población misma edad)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"/>
          <p:cNvSpPr/>
          <p:nvPr/>
        </p:nvSpPr>
        <p:spPr>
          <a:xfrm>
            <a:off x="1701720" y="858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24000" y="1700280"/>
          <a:ext cx="8496000" cy="4392720"/>
        </p:xfrm>
        <a:graphic>
          <a:graphicData uri="http://schemas.openxmlformats.org/drawingml/2006/table">
            <a:tbl>
              <a:tblPr/>
              <a:tblGrid>
                <a:gridCol w="1338120"/>
                <a:gridCol w="795240"/>
                <a:gridCol w="795600"/>
                <a:gridCol w="795240"/>
                <a:gridCol w="795240"/>
                <a:gridCol w="795240"/>
                <a:gridCol w="795600"/>
                <a:gridCol w="796680"/>
                <a:gridCol w="793800"/>
                <a:gridCol w="795240"/>
              </a:tblGrid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1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3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5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upos de edad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upos de edad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upos de eda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-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-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-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-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-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-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358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0920" y="0"/>
          <a:ext cx="8893080" cy="6165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0"/>
                    <a:ext cx="889308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El término “social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ción caritativa, ayudar a los enfermos, postergados, marginados, los pobres -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sisten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nculado al bienestar humano (nivel y calidad de vida, distribución de bienes materiales y culturales)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tisfacción de necesidades básic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vidades en los sectores sociales: educación, salud, vivienda, seguridad social 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solver situaciones problemáticas de acceso y calida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teneciente a la sociedad, al colectivo, estructura social, relaciones entre estratos y entre grupos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clusión, cohesión social, ciudadan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Finalidades de la política social: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uatro ámbit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sistencia y protección socia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de acuerdo a ciertos estándares que la sociedad acepta como legítimos y fundament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moción del bienestar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eneración de oportunidades, movilidad social, ruptura en la transmisión intergeneracional de oportunidades, integración y cohesión so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alización de derechos  sociales de ciudadaní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derechos sociales, garantías de acceso, cobertura y calidad, con deberes / responsabilidades asociad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eneración y preservación de un espacio social de pertenencia a la comunidad sociopolítica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mar parte de un destino colectivo compartido y sentirse responsable por és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1700280"/>
            <a:ext cx="5400720" cy="4105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2060640"/>
            <a:ext cx="4680000" cy="273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2034720"/>
            <a:ext cx="3020760" cy="1941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olítica social 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3860640"/>
            <a:ext cx="28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rogram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4869000"/>
            <a:ext cx="287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6633"/>
                </a:solidFill>
                <a:latin typeface="Garamond"/>
                <a:ea typeface="Arial"/>
              </a:rPr>
              <a:t>Programas loc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284720" y="1989000"/>
            <a:ext cx="1584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1088640"/>
            <a:ext cx="251964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Descentralización educación y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84720" y="2278800"/>
            <a:ext cx="2519640" cy="192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lex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oc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Énfasis en e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4720" y="4439520"/>
            <a:ext cx="251964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Experiencias atractivas de desarroll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77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res anillos de la política so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Interdependencia y no compartimiento estanco: visión sistém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ítica públ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idad económica y sociocultur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itucio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cia del contexto y  situación en el punto de partid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íticas de orientación similar, resultados distint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macro - económica y de ahorro 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sectores de infraestructura y comun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366480"/>
            <a:ext cx="8353440" cy="180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El conjunto de la política pública -no solo las “políticas sociales”-  incide sobre situaciones de pobreza y vulnerabilidad, calidad de vida, desigualdades sociales, cohes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19680"/>
            <a:ext cx="6337440" cy="207252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ect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uctura y funcionamiento del Estado (“Modernización del Estad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ionamiento del sistema polí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Gasto Nacional Social Chile (Como % del PIB)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836640"/>
          <a:ext cx="8135640" cy="5692680"/>
        </p:xfrm>
        <a:graphic>
          <a:graphicData uri="http://schemas.openxmlformats.org/drawingml/2006/table">
            <a:tbl>
              <a:tblPr/>
              <a:tblGrid>
                <a:gridCol w="1614240"/>
                <a:gridCol w="1592280"/>
                <a:gridCol w="1587600"/>
                <a:gridCol w="1590480"/>
                <a:gridCol w="1751040"/>
              </a:tblGrid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remento 1990-2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u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vien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vis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uc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sid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3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Realidad económica y sociocultur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aracterísticas: magnitud y características de los “problemas” (lectura / comprensión de ell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endencias secula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rgo / corto plaz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pendencia de las políticas pasadasy pres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subdere</cp:lastModifiedBy>
  <dcterms:modified xsi:type="dcterms:W3CDTF">2006-08-08T23:21:34Z</dcterms:modified>
  <cp:revision>13</cp:revision>
  <dc:subject/>
  <dc:title>Diapositiva 1</dc:title>
</cp:coreProperties>
</file>