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57FD-BD37-4B9E-BB14-E34896305F1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mejor política social es aquella que logra responder a los 4ámbitos que son propios de la acción pública en materia social ho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yar procesos de integración y cohesión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rtar a la constitución de una comunidad nacional, no rasgada por fracturas sociales seve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ibuir a la realización de derechos sociales de ciudadan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3EA4-608B-40F6-8F47-C292474C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66AE-460C-44F6-8A3D-6DA61944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FE64-A18E-471A-8D87-8B91A919C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51B2-06D6-4CC3-AF6D-5C142721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D880-4E68-4D15-AB57-F726FAD6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13DF-8C34-401F-AFC4-25A813BA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0D30-1C2B-4EFC-819A-13B6041A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4EE3-30F5-42E8-B810-DD00E83D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8E42-7765-42EF-B562-E6738691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82ED-22F7-4C85-AFE4-72F54F92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BC21-0CD4-4EC5-9CCE-28C2044C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CFA4-4C57-42CB-A7EA-013C31E3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42D6-1FB6-4DD2-AE59-B96413F9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177A-BFBB-4ECD-9B7E-D4D765E0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5660-F431-4563-AAB3-2026C2EB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DDF1-2D02-43DA-9B2E-6C153DBD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EC47-02E3-432A-8107-48C0AB13A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9227-A5C5-4ECF-BBEF-E72F2FAA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7CE0-F4AA-4D81-9076-4C2E5CD9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960D-E88D-4C86-ABE1-710764C3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D8C2-5C1C-4290-BD38-855D1C8C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5AF0-737D-43E2-A064-88B7A37B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3409-A298-4735-9BDC-EE8556A8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41A8-EB0C-4420-9335-31303F29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Julio – Septiembre,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6ADE-73A3-41F9-A21D-6A1B41D14B96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Julio – Septiembre,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AF29-8DA4-4AA8-9DB9-CDFA153D4E33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Tema 2. Políticas de superación de la pobreza, políticas sociales, política económica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. Ignacia Fernán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9 de agosto de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Institucionalida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structura y organización, cultura organizac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glas y normas de funcionamiento: transparencia, rendición de cuentas (accountabilit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ordina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27040" y="4516560"/>
            <a:ext cx="770040" cy="8841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70120" y="4800600"/>
            <a:ext cx="789120" cy="6001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33720" y="4876920"/>
            <a:ext cx="766800" cy="52380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73560" y="4995720"/>
            <a:ext cx="773280" cy="40500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16640" y="5011560"/>
            <a:ext cx="787320" cy="3891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80240" y="5011560"/>
            <a:ext cx="766800" cy="3891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27040" y="2732040"/>
            <a:ext cx="770040" cy="1784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70120" y="3151080"/>
            <a:ext cx="789120" cy="1649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3720" y="3513240"/>
            <a:ext cx="766800" cy="1363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73560" y="3795840"/>
            <a:ext cx="773280" cy="1199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16640" y="3902040"/>
            <a:ext cx="787320" cy="1109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80240" y="3976560"/>
            <a:ext cx="766800" cy="1035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93760" y="2641680"/>
            <a:ext cx="3240" cy="27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96920" y="5400720"/>
            <a:ext cx="968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96920" y="5054760"/>
            <a:ext cx="9684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96920" y="4708440"/>
            <a:ext cx="968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96920" y="4367160"/>
            <a:ext cx="96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96920" y="4022640"/>
            <a:ext cx="96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96920" y="3673440"/>
            <a:ext cx="968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96920" y="3332160"/>
            <a:ext cx="968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96920" y="2986200"/>
            <a:ext cx="96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96920" y="2641680"/>
            <a:ext cx="96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93760" y="5400720"/>
            <a:ext cx="74898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193760" y="5400360"/>
            <a:ext cx="324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436840" y="5400360"/>
            <a:ext cx="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693960" y="5400360"/>
            <a:ext cx="324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37040" y="5400360"/>
            <a:ext cx="324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183360" y="5400360"/>
            <a:ext cx="324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440480" y="5400360"/>
            <a:ext cx="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8683560" y="5400360"/>
            <a:ext cx="324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67800" y="481176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12,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73520" y="4950000"/>
            <a:ext cx="32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8,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35680" y="4995720"/>
            <a:ext cx="32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7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75520" y="5054760"/>
            <a:ext cx="32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5,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20040" y="5054760"/>
            <a:ext cx="32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5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878960" y="5054760"/>
            <a:ext cx="32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5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67800" y="347976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25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10880" y="382572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23,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69800" y="405144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19,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41240" y="420696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17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2080" y="430704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16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7760" y="435132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14,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3360" y="52387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83360" y="48895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8400" y="45450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8400" y="42022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8400" y="3857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8400" y="35132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3170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00" y="2822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8400" y="2479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74200" y="56563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1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17280" y="56563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60360" y="56563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22160" y="56563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65240" y="56563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706880" y="56563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057400" y="6095880"/>
            <a:ext cx="152280" cy="152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0960" y="6019920"/>
            <a:ext cx="225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Pobres no</a:t>
            </a:r>
            <a:r>
              <a:rPr b="1" lang="es-ES_tradnl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 indig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4800600" y="6095160"/>
            <a:ext cx="201600" cy="150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02640" y="6019920"/>
            <a:ext cx="113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Indig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10640" y="236232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38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29960" y="273384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32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28480" y="311004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27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44560" y="340848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23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52720" y="348444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21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790760" y="355752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66"/>
                </a:solidFill>
                <a:latin typeface="Times New Roman"/>
                <a:ea typeface="Arial"/>
              </a:rPr>
              <a:t>20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55640" y="260280"/>
            <a:ext cx="80582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6633"/>
                </a:solidFill>
                <a:latin typeface="Garamond"/>
                <a:ea typeface="Arial"/>
              </a:rPr>
              <a:t>Evolución de la incidencia de la pobreza y de la indigencia 1990-2000 (Porcentaje de la población*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América del Sur. Hogares en situación de pobreza e indigencia,</a:t>
            </a: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por zonas urbanas y rurales, 1999</a:t>
            </a:r>
            <a:br>
              <a:rPr sz="2500"/>
            </a:b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(Como porcentaje del total de hogares)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68360" y="1628640"/>
          <a:ext cx="8207280" cy="4392720"/>
        </p:xfrm>
        <a:graphic>
          <a:graphicData uri="http://schemas.openxmlformats.org/drawingml/2006/table">
            <a:tbl>
              <a:tblPr/>
              <a:tblGrid>
                <a:gridCol w="1938240"/>
                <a:gridCol w="1042920"/>
                <a:gridCol w="1044720"/>
                <a:gridCol w="1046160"/>
                <a:gridCol w="1042920"/>
                <a:gridCol w="1047960"/>
                <a:gridCol w="1044360"/>
              </a:tblGrid>
              <a:tr h="524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í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ogares en situación de pobre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ogares en situación de indige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rba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u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rba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u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oli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asi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om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cu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a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ú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ru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nezue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mérica Latina (***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América del Sur. Distribución del ingreso de los hogares urbanos, por quintiles(*), año 1999 (**) (Porcentajes)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1268280"/>
          <a:ext cx="8641800" cy="4248000"/>
        </p:xfrm>
        <a:graphic>
          <a:graphicData uri="http://schemas.openxmlformats.org/drawingml/2006/table">
            <a:tbl>
              <a:tblPr/>
              <a:tblGrid>
                <a:gridCol w="1342080"/>
                <a:gridCol w="1042920"/>
                <a:gridCol w="1042920"/>
                <a:gridCol w="1042920"/>
                <a:gridCol w="1042560"/>
                <a:gridCol w="1043280"/>
                <a:gridCol w="1042560"/>
                <a:gridCol w="1042560"/>
              </a:tblGrid>
              <a:tr h="536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í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intil 1 (más pobr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intil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intil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intil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intil 5 (más ric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cil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cil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cil 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cil 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oli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asi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om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cu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a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ru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nezue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250920" y="5516640"/>
            <a:ext cx="871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*) Ordenados según su ingreso per cápita. El quintil 1 corresponde a los hogares más pobres y el quintil 5 a los hogares más ric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**) En el caso de Chile los datos corresponden al año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60280"/>
            <a:ext cx="88423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América del Sur</a:t>
            </a:r>
            <a:br>
              <a:rPr sz="2500"/>
            </a:b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Esperanza de vida al nacer y mortalidad infantil, por quinquenios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1841400" y="1523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41400" y="160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4000" y="1484280"/>
          <a:ext cx="8515080" cy="4751280"/>
        </p:xfrm>
        <a:graphic>
          <a:graphicData uri="http://schemas.openxmlformats.org/drawingml/2006/table">
            <a:tbl>
              <a:tblPr/>
              <a:tblGrid>
                <a:gridCol w="1276200"/>
                <a:gridCol w="1143000"/>
                <a:gridCol w="1219320"/>
                <a:gridCol w="1218960"/>
                <a:gridCol w="1219320"/>
                <a:gridCol w="1219320"/>
                <a:gridCol w="1218960"/>
              </a:tblGrid>
              <a:tr h="3236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í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inqueni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80-19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0-19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0-2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speranza de vi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rtalidad infant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speranza de vi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rtalidad infant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speranza de vi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rtalidad infant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genti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oliv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as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om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cu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agu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rugu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nezue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gió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América del Sur </a:t>
            </a:r>
            <a:br>
              <a:rPr sz="2500"/>
            </a:b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Población analfabeta de 15 y más </a:t>
            </a:r>
            <a:br>
              <a:rPr sz="2500"/>
            </a:b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(como % de la población de 15 y más)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116000" y="1628640"/>
          <a:ext cx="6933960" cy="4343040"/>
        </p:xfrm>
        <a:graphic>
          <a:graphicData uri="http://schemas.openxmlformats.org/drawingml/2006/table">
            <a:tbl>
              <a:tblPr/>
              <a:tblGrid>
                <a:gridCol w="2157120"/>
                <a:gridCol w="1695240"/>
                <a:gridCol w="1618200"/>
                <a:gridCol w="1463400"/>
              </a:tblGrid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í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genti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oliv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asi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om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cu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agu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rugu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nezue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América del Sur: </a:t>
            </a:r>
            <a:br>
              <a:rPr sz="2500"/>
            </a:b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Población urbana analfabeta por grupos de edad, 2000 </a:t>
            </a:r>
            <a:br>
              <a:rPr sz="2500"/>
            </a:b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(Como porcentaje de la población en cada grupo de edad)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84360" y="1773360"/>
          <a:ext cx="7824600" cy="3941640"/>
        </p:xfrm>
        <a:graphic>
          <a:graphicData uri="http://schemas.openxmlformats.org/drawingml/2006/table">
            <a:tbl>
              <a:tblPr/>
              <a:tblGrid>
                <a:gridCol w="1338120"/>
                <a:gridCol w="1077840"/>
                <a:gridCol w="1082880"/>
                <a:gridCol w="1081080"/>
                <a:gridCol w="1082520"/>
                <a:gridCol w="1079640"/>
                <a:gridCol w="1082520"/>
              </a:tblGrid>
              <a:tr h="293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í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rupos de ed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-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5-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5-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5-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0 y má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gentin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oliv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as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hile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om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cu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agu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rugu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nezuela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260280"/>
            <a:ext cx="88423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América del Sur</a:t>
            </a:r>
            <a:br>
              <a:rPr sz="2500"/>
            </a:b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Asistencia escolar en áreas urbanas por niveles de ingreso familiar y grupos de edad, 1999 (% de la población misma edad)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"/>
          <p:cNvSpPr/>
          <p:nvPr/>
        </p:nvSpPr>
        <p:spPr>
          <a:xfrm>
            <a:off x="1701720" y="858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24000" y="1700280"/>
          <a:ext cx="8496000" cy="4392720"/>
        </p:xfrm>
        <a:graphic>
          <a:graphicData uri="http://schemas.openxmlformats.org/drawingml/2006/table">
            <a:tbl>
              <a:tblPr/>
              <a:tblGrid>
                <a:gridCol w="1338120"/>
                <a:gridCol w="795240"/>
                <a:gridCol w="795600"/>
                <a:gridCol w="795240"/>
                <a:gridCol w="795240"/>
                <a:gridCol w="795240"/>
                <a:gridCol w="795600"/>
                <a:gridCol w="796680"/>
                <a:gridCol w="793800"/>
                <a:gridCol w="795240"/>
              </a:tblGrid>
              <a:tr h="337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í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intil 1 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intil 3 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intil 5 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rupos de edad</a:t>
                      </a: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rupos de edad</a:t>
                      </a: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rupos de eda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-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-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-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-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-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-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-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-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-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gentina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oliv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asi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om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cu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agu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rugu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nezuel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3588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50920" y="0"/>
          <a:ext cx="8893080" cy="6165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0"/>
                    <a:ext cx="889308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El término “social”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ción caritativa, ayudar a los enfermos, postergados, marginados, los pobres -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sistenc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inculado al bienestar humano (nivel y calidad de vida, distribución de bienes materiales y culturales) –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atisfacción de necesidades básic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tividades en los sectores sociales: educación, salud, vivienda, seguridad social  –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solver situaciones problemáticas de acceso y calida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erteneciente a la sociedad, al colectivo, estructura social, relaciones entre estratos y entre grupos –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clusión, cohesión social, ciudadaní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Finalidades de la política social: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uatro ámbit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136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sistencia y protección social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de acuerdo a ciertos estándares que la sociedad acepta como legítimos y fundament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moción del bienestar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generación de oportunidades, movilidad social, ruptura en la transmisión intergeneracional de oportunidades, integración y cohesión soc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alización de derechos  sociales de ciudadaní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derechos sociales, garantías de acceso, cobertura y calidad, con deberes / responsabilidades asociad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eneración y preservación de un espacio social de pertenencia a la comunidad sociopolítica,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rmar parte de un destino colectivo compartido y sentirse responsable por és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0920" y="1700280"/>
            <a:ext cx="5400720" cy="4105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2060640"/>
            <a:ext cx="4680000" cy="2736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32000" y="2034720"/>
            <a:ext cx="3020760" cy="1941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Garamond"/>
                <a:ea typeface="Arial"/>
              </a:rPr>
              <a:t>Política social tradi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47640" y="3860640"/>
            <a:ext cx="28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Garamond"/>
                <a:ea typeface="Arial"/>
              </a:rPr>
              <a:t>Programa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92360" y="4869000"/>
            <a:ext cx="2879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6633"/>
                </a:solidFill>
                <a:latin typeface="Garamond"/>
                <a:ea typeface="Arial"/>
              </a:rPr>
              <a:t>Programas loca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284720" y="1989000"/>
            <a:ext cx="15843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84720" y="1088640"/>
            <a:ext cx="2519640" cy="11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Descentralización educación y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3357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84720" y="2278800"/>
            <a:ext cx="2519640" cy="192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Particip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Flex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Focaliz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Énfasis en el ter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236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84720" y="4439520"/>
            <a:ext cx="2519640" cy="1557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Experiencias atractivas de desarrollo terr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77920"/>
            <a:ext cx="822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Tres anillos de la política soci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Interdependencia y no compartimiento estanco: visión sistémic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ítica públ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lidad económica y sociocultur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titucion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ortancia del contexto y  situación en el punto de partid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íticas de orientación similar, resultados distint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2349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 macro - económica y de ahorro e 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 lab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 sectores de infraestructura y comun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366480"/>
            <a:ext cx="8353440" cy="180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El conjunto de la política pública -no solo las “políticas sociales”-  incide sobre situaciones de pobreza y vulnerabilidad, calidad de vida, desigualdades sociales, cohes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3919680"/>
            <a:ext cx="6337440" cy="2072520"/>
          </a:xfrm>
          <a:prstGeom prst="ellipse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ect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uctura y funcionamiento del Estado (“Modernización del Estad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ionamiento del sistema polít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33"/>
                </a:solidFill>
                <a:latin typeface="Garamond"/>
              </a:rPr>
              <a:t>Gasto Nacional Social Chile (Como % del PIB)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8360" y="836640"/>
          <a:ext cx="8135640" cy="5692680"/>
        </p:xfrm>
        <a:graphic>
          <a:graphicData uri="http://schemas.openxmlformats.org/drawingml/2006/table">
            <a:tbl>
              <a:tblPr/>
              <a:tblGrid>
                <a:gridCol w="1614240"/>
                <a:gridCol w="1592280"/>
                <a:gridCol w="1587600"/>
                <a:gridCol w="1590480"/>
                <a:gridCol w="1751040"/>
              </a:tblGrid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cremento 1990-2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u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úbl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v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,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vien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úbl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v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vis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úbl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v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uc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úbl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v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sidi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úbl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v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r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úbl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v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úbl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v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3,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Realidad económica y sociocultur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aracterísticas: magnitud y características de los “problemas” (lectura / comprensión de ell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endencias secula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rgo / corto plaz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pendencia de las políticas pasadasy prese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subdere</cp:lastModifiedBy>
  <dcterms:modified xsi:type="dcterms:W3CDTF">2006-08-08T23:21:34Z</dcterms:modified>
  <cp:revision>13</cp:revision>
  <dc:subject/>
  <dc:title>Diapositiva 1</dc:title>
</cp:coreProperties>
</file>