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3F6F3-1E11-4824-AFBC-F0F19073007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 mejor política social es aquella que logra responder a los 4ámbitos que son propios de la acción pública en materia social ho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oyar procesos de integración y cohesión so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ortar a la constitución de una comunidad nacional, no rasgada por fracturas sociales seve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ibuir a la realización de derechos sociales de ciudadan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FCA6-E4C4-4F2E-A8C1-559A76FF6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1DCA-2B47-4A6F-ABA0-E07D0CAC2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D1A3-53DE-482E-835C-19F00DCEE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D7E3-7EA8-4B5F-97E6-8B3598AD1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53406-D01A-4102-93DF-AE6F43172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AA875-9134-49FE-98E9-DD28C5854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75AD5-BD4D-49B6-B9F1-A6DCCD41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820F2-951C-468B-BC11-5C6272F32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8EEF8-4412-4FDF-B0DC-71D9B4371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68987-555C-4CD0-8993-9E1F3BC0D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8E6E7-5F19-4A76-A2DE-6CAEB0C8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A287-B588-4FAF-8206-14FB2D416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B0EAD-85EC-40D3-8A01-77B39720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41EA2-7F29-40EF-886A-4F3062E3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AD03F-B17E-44BC-8DF3-08E0C2C51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24849-FDE7-4D2C-9D95-6AA37D5D6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B7A61-9C12-462C-936C-3FD5F3C09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9EA2-323B-4576-BF3B-92A2C551A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A27D-CF6C-4B57-B48E-5639819F9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B9B0-1D26-4FAE-BEC6-74C709F86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956B-B9C9-4306-B989-8C3666F2A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8932-13A5-4FD7-AEC6-C9617DB2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B038-FE9E-43A8-9A5E-ACC68C1E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6625-E71C-49F2-A7EE-A6A737F4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39280" y="6248520"/>
            <a:ext cx="799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Julio – Septiembre,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7619D-E4CD-4FAA-A631-5490A913F7E7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468360" y="6243480"/>
            <a:ext cx="792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Julio – Septiembre,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44F82-4D24-4006-B971-5F14DE4C05ED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Tema 2. Políticas de superación de la pobreza, políticas sociales, política económica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M. Ignacia Fernánd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9 de agosto de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Institucionalidad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Estructura y organización, cultura organizacion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Reglas y normas de funcionamiento: transparencia, rendición de cuentas (accountabilit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oordinac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27040" y="4516560"/>
            <a:ext cx="770040" cy="88416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70120" y="4800600"/>
            <a:ext cx="789120" cy="60012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33720" y="4876920"/>
            <a:ext cx="766800" cy="52380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173560" y="4995720"/>
            <a:ext cx="773280" cy="40500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416640" y="5011560"/>
            <a:ext cx="787320" cy="38916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80240" y="5011560"/>
            <a:ext cx="766800" cy="38916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27040" y="2732040"/>
            <a:ext cx="770040" cy="1784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670120" y="3151080"/>
            <a:ext cx="789120" cy="1649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33720" y="3513240"/>
            <a:ext cx="766800" cy="1363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173560" y="3795840"/>
            <a:ext cx="773280" cy="11998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416640" y="3902040"/>
            <a:ext cx="787320" cy="1109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680240" y="3976560"/>
            <a:ext cx="766800" cy="10350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93760" y="2641680"/>
            <a:ext cx="3240" cy="27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96920" y="5400720"/>
            <a:ext cx="9684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96920" y="5054760"/>
            <a:ext cx="9684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96920" y="4708440"/>
            <a:ext cx="9684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96920" y="4367160"/>
            <a:ext cx="968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96920" y="4022640"/>
            <a:ext cx="968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96920" y="3673440"/>
            <a:ext cx="9684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96920" y="3332160"/>
            <a:ext cx="9684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96920" y="2986200"/>
            <a:ext cx="96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96920" y="2641680"/>
            <a:ext cx="968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93760" y="5400720"/>
            <a:ext cx="748980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193760" y="5400360"/>
            <a:ext cx="324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436840" y="5400360"/>
            <a:ext cx="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3693960" y="5400360"/>
            <a:ext cx="324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37040" y="5400360"/>
            <a:ext cx="324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183360" y="5400360"/>
            <a:ext cx="324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7440480" y="5400360"/>
            <a:ext cx="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8683560" y="5400360"/>
            <a:ext cx="324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67800" y="4811760"/>
            <a:ext cx="44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Arial"/>
              </a:rPr>
              <a:t>12,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873520" y="4950000"/>
            <a:ext cx="320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Arial"/>
              </a:rPr>
              <a:t>8,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135680" y="4995720"/>
            <a:ext cx="320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Arial"/>
              </a:rPr>
              <a:t>7,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75520" y="5054760"/>
            <a:ext cx="320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Arial"/>
              </a:rPr>
              <a:t>5,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20040" y="5054760"/>
            <a:ext cx="320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Arial"/>
              </a:rPr>
              <a:t>5,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878960" y="5054760"/>
            <a:ext cx="320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Arial"/>
              </a:rPr>
              <a:t>5,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67800" y="3479760"/>
            <a:ext cx="44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Arial"/>
              </a:rPr>
              <a:t>25,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10880" y="3825720"/>
            <a:ext cx="44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Arial"/>
              </a:rPr>
              <a:t>23,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069800" y="4051440"/>
            <a:ext cx="44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Arial"/>
              </a:rPr>
              <a:t>19,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41240" y="4206960"/>
            <a:ext cx="44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Arial"/>
              </a:rPr>
              <a:t>17,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2080" y="4307040"/>
            <a:ext cx="44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Arial"/>
              </a:rPr>
              <a:t>16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817760" y="4351320"/>
            <a:ext cx="44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Arial"/>
              </a:rPr>
              <a:t>14,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83360" y="52387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83360" y="48895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  <a:ea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08400" y="45450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  <a:ea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8400" y="42022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  <a:ea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08400" y="3857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  <a:ea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8400" y="35132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  <a:ea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31701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  <a:ea typeface="Arial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8400" y="28224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  <a:ea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8400" y="24796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  <a:ea typeface="Arial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474200" y="565632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  <a:ea typeface="Arial"/>
              </a:rPr>
              <a:t>19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717280" y="565632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  <a:ea typeface="Arial"/>
              </a:rPr>
              <a:t>19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60360" y="565632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  <a:ea typeface="Arial"/>
              </a:rPr>
              <a:t>19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22160" y="565632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  <a:ea typeface="Arial"/>
              </a:rPr>
              <a:t>19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465240" y="565632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  <a:ea typeface="Arial"/>
              </a:rPr>
              <a:t>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706880" y="565632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  <a:ea typeface="Arial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2057400" y="6095880"/>
            <a:ext cx="152280" cy="1526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80960" y="6019920"/>
            <a:ext cx="2251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66"/>
                </a:solidFill>
                <a:latin typeface="Times New Roman"/>
                <a:ea typeface="Arial"/>
              </a:rPr>
              <a:t>Pobres no</a:t>
            </a:r>
            <a:r>
              <a:rPr b="1" lang="es-ES_tradnl" sz="2000" spc="-1" strike="noStrike">
                <a:solidFill>
                  <a:srgbClr val="ffcc66"/>
                </a:solidFill>
                <a:latin typeface="Times New Roman"/>
                <a:ea typeface="Arial"/>
              </a:rPr>
              <a:t> indig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4800600" y="6095160"/>
            <a:ext cx="201600" cy="1508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102640" y="6019920"/>
            <a:ext cx="1132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  <a:ea typeface="Arial"/>
              </a:rPr>
              <a:t>Indig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10640" y="2362320"/>
            <a:ext cx="44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66"/>
                </a:solidFill>
                <a:latin typeface="Times New Roman"/>
                <a:ea typeface="Arial"/>
              </a:rPr>
              <a:t>38,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829960" y="2733840"/>
            <a:ext cx="44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66"/>
                </a:solidFill>
                <a:latin typeface="Times New Roman"/>
                <a:ea typeface="Arial"/>
              </a:rPr>
              <a:t>32,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128480" y="3110040"/>
            <a:ext cx="44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66"/>
                </a:solidFill>
                <a:latin typeface="Times New Roman"/>
                <a:ea typeface="Arial"/>
              </a:rPr>
              <a:t>27,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44560" y="3408480"/>
            <a:ext cx="44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66"/>
                </a:solidFill>
                <a:latin typeface="Times New Roman"/>
                <a:ea typeface="Arial"/>
              </a:rPr>
              <a:t>23,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52720" y="3484440"/>
            <a:ext cx="44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66"/>
                </a:solidFill>
                <a:latin typeface="Times New Roman"/>
                <a:ea typeface="Arial"/>
              </a:rPr>
              <a:t>21,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790760" y="3557520"/>
            <a:ext cx="44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66"/>
                </a:solidFill>
                <a:latin typeface="Times New Roman"/>
                <a:ea typeface="Arial"/>
              </a:rPr>
              <a:t>20,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55640" y="260280"/>
            <a:ext cx="80582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6633"/>
                </a:solidFill>
                <a:latin typeface="Garamond"/>
                <a:ea typeface="Arial"/>
              </a:rPr>
              <a:t>Evolución de la incidencia de la pobreza y de la indigencia 1990-2000 (Porcentaje de la población*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33"/>
                </a:solidFill>
                <a:latin typeface="Garamond"/>
              </a:rPr>
              <a:t>América del Sur. Hogares en situación de pobreza e indigencia,</a:t>
            </a:r>
            <a:r>
              <a:rPr b="0" lang="en-US" sz="25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en-US" sz="2500" spc="-1" strike="noStrike">
                <a:solidFill>
                  <a:srgbClr val="006633"/>
                </a:solidFill>
                <a:latin typeface="Garamond"/>
              </a:rPr>
              <a:t>por zonas urbanas y rurales, 1999</a:t>
            </a:r>
            <a:br>
              <a:rPr sz="2500"/>
            </a:br>
            <a:r>
              <a:rPr b="1" lang="en-US" sz="2500" spc="-1" strike="noStrike">
                <a:solidFill>
                  <a:srgbClr val="006633"/>
                </a:solidFill>
                <a:latin typeface="Garamond"/>
              </a:rPr>
              <a:t>(Como porcentaje del total de hogares)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68360" y="1628640"/>
          <a:ext cx="8207280" cy="4392720"/>
        </p:xfrm>
        <a:graphic>
          <a:graphicData uri="http://schemas.openxmlformats.org/drawingml/2006/table">
            <a:tbl>
              <a:tblPr/>
              <a:tblGrid>
                <a:gridCol w="1938240"/>
                <a:gridCol w="1042920"/>
                <a:gridCol w="1044720"/>
                <a:gridCol w="1046160"/>
                <a:gridCol w="1042920"/>
                <a:gridCol w="1047960"/>
                <a:gridCol w="1044360"/>
              </a:tblGrid>
              <a:tr h="5241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í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ogares en situación de pobrez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ogares en situación de indigenc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rba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ur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rba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ur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oliv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rasi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hi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omb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cuad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ragu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ú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rugu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enezue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mérica Latina (***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33"/>
                </a:solidFill>
                <a:latin typeface="Garamond"/>
              </a:rPr>
              <a:t>América del Sur. Distribución del ingreso de los hogares urbanos, por quintiles(*), año 1999 (**) (Porcentajes)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250920" y="1268280"/>
          <a:ext cx="8641800" cy="4248000"/>
        </p:xfrm>
        <a:graphic>
          <a:graphicData uri="http://schemas.openxmlformats.org/drawingml/2006/table">
            <a:tbl>
              <a:tblPr/>
              <a:tblGrid>
                <a:gridCol w="1342080"/>
                <a:gridCol w="1042920"/>
                <a:gridCol w="1042920"/>
                <a:gridCol w="1042920"/>
                <a:gridCol w="1042560"/>
                <a:gridCol w="1043280"/>
                <a:gridCol w="1042560"/>
                <a:gridCol w="1042560"/>
              </a:tblGrid>
              <a:tr h="5364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í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Quintil 1 (más pobr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Quintil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Quintil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Quintil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Quintil 5 (más ric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cil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cil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cil 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cil 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9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6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9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oliv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6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2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0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rasi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5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9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hi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8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5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9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9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omb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8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0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cuad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3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6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9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ragu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2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3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9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rugu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enezue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6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1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9" name=""/>
          <p:cNvSpPr/>
          <p:nvPr/>
        </p:nvSpPr>
        <p:spPr>
          <a:xfrm>
            <a:off x="250920" y="5516640"/>
            <a:ext cx="8713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*) Ordenados según su ingreso per cápita. El quintil 1 corresponde a los hogares más pobres y el quintil 5 a los hogares más ric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**) En el caso de Chile los datos corresponden al año 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260280"/>
            <a:ext cx="88423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33"/>
                </a:solidFill>
                <a:latin typeface="Garamond"/>
              </a:rPr>
              <a:t>América del Sur</a:t>
            </a:r>
            <a:br>
              <a:rPr sz="2500"/>
            </a:br>
            <a:r>
              <a:rPr b="1" lang="en-US" sz="2500" spc="-1" strike="noStrike">
                <a:solidFill>
                  <a:srgbClr val="006633"/>
                </a:solidFill>
                <a:latin typeface="Garamond"/>
              </a:rPr>
              <a:t>Esperanza de vida al nacer y mortalidad infantil, por quinquenios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"/>
          <p:cNvSpPr/>
          <p:nvPr/>
        </p:nvSpPr>
        <p:spPr>
          <a:xfrm>
            <a:off x="1841400" y="1523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41400" y="160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24000" y="1484280"/>
          <a:ext cx="8515080" cy="4751280"/>
        </p:xfrm>
        <a:graphic>
          <a:graphicData uri="http://schemas.openxmlformats.org/drawingml/2006/table">
            <a:tbl>
              <a:tblPr/>
              <a:tblGrid>
                <a:gridCol w="1276200"/>
                <a:gridCol w="1143000"/>
                <a:gridCol w="1219320"/>
                <a:gridCol w="1218960"/>
                <a:gridCol w="1219320"/>
                <a:gridCol w="1219320"/>
                <a:gridCol w="1218960"/>
              </a:tblGrid>
              <a:tr h="3236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í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Quinqueni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6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80-19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90-19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00-20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speranza de vid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ortalidad infanti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speranza de vid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ortalidad infanti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speranza de vid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ortalidad infanti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genti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2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4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oliv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3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9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9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5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5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rasi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3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4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6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9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8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hi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0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3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4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omb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6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8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8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5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2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5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cuad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4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8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8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9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0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1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ragu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7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8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3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0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6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5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9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7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rugu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3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5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3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enezuel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8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1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3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3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gió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5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8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1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33"/>
                </a:solidFill>
                <a:latin typeface="Garamond"/>
              </a:rPr>
              <a:t>América del Sur </a:t>
            </a:r>
            <a:br>
              <a:rPr sz="2500"/>
            </a:br>
            <a:r>
              <a:rPr b="1" lang="en-US" sz="2500" spc="-1" strike="noStrike">
                <a:solidFill>
                  <a:srgbClr val="006633"/>
                </a:solidFill>
                <a:latin typeface="Garamond"/>
              </a:rPr>
              <a:t>Población analfabeta de 15 y más </a:t>
            </a:r>
            <a:br>
              <a:rPr sz="2500"/>
            </a:br>
            <a:r>
              <a:rPr b="1" lang="en-US" sz="2500" spc="-1" strike="noStrike">
                <a:solidFill>
                  <a:srgbClr val="006633"/>
                </a:solidFill>
                <a:latin typeface="Garamond"/>
              </a:rPr>
              <a:t>(como % de la población de 15 y más)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116000" y="1628640"/>
          <a:ext cx="6933960" cy="4343040"/>
        </p:xfrm>
        <a:graphic>
          <a:graphicData uri="http://schemas.openxmlformats.org/drawingml/2006/table">
            <a:tbl>
              <a:tblPr/>
              <a:tblGrid>
                <a:gridCol w="2157120"/>
                <a:gridCol w="1695240"/>
                <a:gridCol w="1618200"/>
                <a:gridCol w="1463400"/>
              </a:tblGrid>
              <a:tr h="39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í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genti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oliv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rasil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5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8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hi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omb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5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cuad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8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ragu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ú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rugu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enezuel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5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33"/>
                </a:solidFill>
                <a:latin typeface="Garamond"/>
              </a:rPr>
              <a:t>América del Sur: </a:t>
            </a:r>
            <a:br>
              <a:rPr sz="2500"/>
            </a:br>
            <a:r>
              <a:rPr b="1" lang="en-US" sz="2500" spc="-1" strike="noStrike">
                <a:solidFill>
                  <a:srgbClr val="006633"/>
                </a:solidFill>
                <a:latin typeface="Garamond"/>
              </a:rPr>
              <a:t>Población urbana analfabeta por grupos de edad, 2000 </a:t>
            </a:r>
            <a:br>
              <a:rPr sz="2500"/>
            </a:br>
            <a:r>
              <a:rPr b="1" lang="en-US" sz="2500" spc="-1" strike="noStrike">
                <a:solidFill>
                  <a:srgbClr val="006633"/>
                </a:solidFill>
                <a:latin typeface="Garamond"/>
              </a:rPr>
              <a:t>(Como porcentaje de la población en cada grupo de edad)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684360" y="1773360"/>
          <a:ext cx="7824600" cy="3941640"/>
        </p:xfrm>
        <a:graphic>
          <a:graphicData uri="http://schemas.openxmlformats.org/drawingml/2006/table">
            <a:tbl>
              <a:tblPr/>
              <a:tblGrid>
                <a:gridCol w="1338120"/>
                <a:gridCol w="1077840"/>
                <a:gridCol w="1082880"/>
                <a:gridCol w="1081080"/>
                <a:gridCol w="1082520"/>
                <a:gridCol w="1079640"/>
                <a:gridCol w="1082520"/>
              </a:tblGrid>
              <a:tr h="2937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í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rupos de eda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5-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5-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5-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5-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0 y má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gentin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oliv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rasi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9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hile</a:t>
                      </a:r>
                      <a:r>
                        <a:rPr b="0" lang="en-US" sz="1100" spc="-1" strike="noStrike" baseline="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omb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cuad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3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ragu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rugu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enezuela</a:t>
                      </a:r>
                      <a:r>
                        <a:rPr b="0" lang="en-US" sz="1100" spc="-1" strike="noStrike" baseline="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680" y="260280"/>
            <a:ext cx="88423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33"/>
                </a:solidFill>
                <a:latin typeface="Garamond"/>
              </a:rPr>
              <a:t>América del Sur</a:t>
            </a:r>
            <a:br>
              <a:rPr sz="2500"/>
            </a:br>
            <a:r>
              <a:rPr b="1" lang="en-US" sz="2500" spc="-1" strike="noStrike">
                <a:solidFill>
                  <a:srgbClr val="006633"/>
                </a:solidFill>
                <a:latin typeface="Garamond"/>
              </a:rPr>
              <a:t>Asistencia escolar en áreas urbanas por niveles de ingreso familiar y grupos de edad, 1999 (% de la población misma edad)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"/>
          <p:cNvSpPr/>
          <p:nvPr/>
        </p:nvSpPr>
        <p:spPr>
          <a:xfrm>
            <a:off x="1701720" y="858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324000" y="1700280"/>
          <a:ext cx="8496000" cy="4392720"/>
        </p:xfrm>
        <a:graphic>
          <a:graphicData uri="http://schemas.openxmlformats.org/drawingml/2006/table">
            <a:tbl>
              <a:tblPr/>
              <a:tblGrid>
                <a:gridCol w="1338120"/>
                <a:gridCol w="795240"/>
                <a:gridCol w="795600"/>
                <a:gridCol w="795240"/>
                <a:gridCol w="795240"/>
                <a:gridCol w="795240"/>
                <a:gridCol w="795600"/>
                <a:gridCol w="796680"/>
                <a:gridCol w="793800"/>
                <a:gridCol w="795240"/>
              </a:tblGrid>
              <a:tr h="3373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í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Quintil 1 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Quintil 3 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Quintil 5 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rupos de edad</a:t>
                      </a: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rupos de edad</a:t>
                      </a: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rupos de edad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-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3-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-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-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3-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-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-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3-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-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gentina</a:t>
                      </a:r>
                      <a:r>
                        <a:rPr b="0" lang="en-US" sz="1100" spc="-1" strike="noStrike" baseline="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9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3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1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9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7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9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7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oliv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2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9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2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2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4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rasil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5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8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7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3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9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hi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8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5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9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1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5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9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2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2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omb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1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6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6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9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8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6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4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cuad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4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4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5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6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5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ragu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5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9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6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9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1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0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ú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8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6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6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0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9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3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rugu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8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0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9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0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2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enezuel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5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8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3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9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6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1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77560"/>
            <a:ext cx="84247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435880" cy="50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50920" y="0"/>
          <a:ext cx="8893080" cy="61657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0"/>
                    <a:ext cx="8893080" cy="61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El término “social”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oción caritativa, ayudar a los enfermos, postergados, marginados, los pobres -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sistenci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inculado al bienestar humano (nivel y calidad de vida, distribución de bienes materiales y culturales) –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atisfacción de necesidades básic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ctividades en los sectores sociales: educación, salud, vivienda, seguridad social  –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esolver situaciones problemáticas de acceso y calidad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erteneciente a la sociedad, al colectivo, estructura social, relaciones entre estratos y entre grupos –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nclusión, cohesión social, ciudadaní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Finalidades de la política social: 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cuatro ámbito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136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sistencia y protección social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de acuerdo a ciertos estándares que la sociedad acepta como legítimos y fundamenta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romoción del bienestar,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generación de oportunidades, movilidad social, ruptura en la transmisión intergeneracional de oportunidades, integración y cohesión soci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ealización de derechos  sociales de ciudadaní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derechos sociales, garantías de acceso, cobertura y calidad, con deberes / responsabilidades asociado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Generación y preservación de un espacio social de pertenencia a la comunidad sociopolítica,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rmar parte de un destino colectivo compartido y sentirse responsable por és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50920" y="1700280"/>
            <a:ext cx="5400720" cy="4105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2060640"/>
            <a:ext cx="4680000" cy="27367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32000" y="2034720"/>
            <a:ext cx="3020760" cy="1941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33"/>
                </a:solidFill>
                <a:latin typeface="Garamond"/>
                <a:ea typeface="Arial"/>
              </a:rPr>
              <a:t>Política social tradi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47640" y="3860640"/>
            <a:ext cx="28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33"/>
                </a:solidFill>
                <a:latin typeface="Garamond"/>
                <a:ea typeface="Arial"/>
              </a:rPr>
              <a:t>Programas so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92360" y="4869000"/>
            <a:ext cx="2879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6633"/>
                </a:solidFill>
                <a:latin typeface="Garamond"/>
                <a:ea typeface="Arial"/>
              </a:rPr>
              <a:t>Programas local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4284720" y="1989000"/>
            <a:ext cx="15843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84720" y="1088640"/>
            <a:ext cx="2519640" cy="119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33"/>
                </a:solidFill>
                <a:latin typeface="Garamond"/>
                <a:ea typeface="Arial"/>
              </a:rPr>
              <a:t>Descentralización educación y sal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335772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84720" y="2278800"/>
            <a:ext cx="2519640" cy="1922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33"/>
                </a:solidFill>
                <a:latin typeface="Garamond"/>
                <a:ea typeface="Arial"/>
              </a:rPr>
              <a:t>Particip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33"/>
                </a:solidFill>
                <a:latin typeface="Garamond"/>
                <a:ea typeface="Arial"/>
              </a:rPr>
              <a:t>Flexi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33"/>
                </a:solidFill>
                <a:latin typeface="Garamond"/>
                <a:ea typeface="Arial"/>
              </a:rPr>
              <a:t>Focaliz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33"/>
                </a:solidFill>
                <a:latin typeface="Garamond"/>
                <a:ea typeface="Arial"/>
              </a:rPr>
              <a:t>Énfasis en el terri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2360" y="5157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84720" y="4439520"/>
            <a:ext cx="2519640" cy="1557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33"/>
                </a:solidFill>
                <a:latin typeface="Garamond"/>
                <a:ea typeface="Arial"/>
              </a:rPr>
              <a:t>Experiencias atractivas de desarrollo terri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277920"/>
            <a:ext cx="8229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Tres anillos de la política socia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Interdependencia y no compartimiento estanco: visión sistémic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lítica públ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lidad económica y sociocultura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stitucional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ortancia del contexto y  situación en el punto de partid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íticas de orientación similar, resultados distinto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68360" y="234900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ítica macro - económica y de ahorro e inver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ítica lab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ítica sectores de infraestructura y comunic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ítica ambi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5280" y="366480"/>
            <a:ext cx="8353440" cy="1800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El conjunto de la política pública -no solo las “políticas sociales”-  incide sobre situaciones de pobreza y vulnerabilidad, calidad de vida, desigualdades sociales, cohesión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806560" y="3919680"/>
            <a:ext cx="6337440" cy="2072520"/>
          </a:xfrm>
          <a:prstGeom prst="ellipse">
            <a:avLst/>
          </a:prstGeom>
          <a:solidFill>
            <a:srgbClr val="afbf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ecta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uctura y funcionamiento del Estado (“Modernización del Estad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ionamiento del sistema polít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33"/>
                </a:solidFill>
                <a:latin typeface="Garamond"/>
              </a:rPr>
              <a:t>Gasto Nacional Social Chile (Como % del PIB)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68360" y="836640"/>
          <a:ext cx="8135640" cy="5692680"/>
        </p:xfrm>
        <a:graphic>
          <a:graphicData uri="http://schemas.openxmlformats.org/drawingml/2006/table">
            <a:tbl>
              <a:tblPr/>
              <a:tblGrid>
                <a:gridCol w="1614240"/>
                <a:gridCol w="1592280"/>
                <a:gridCol w="1587600"/>
                <a:gridCol w="1590480"/>
                <a:gridCol w="1751040"/>
              </a:tblGrid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cremento 1990-2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lu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úblic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vad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1,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viend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úblic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vad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vis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úblic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vad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1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ucac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úblic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vad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sidi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úblic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vad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r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úblic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vad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úblic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vad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3,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Realidad económica y sociocultural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aracterísticas: magnitud y características de los “problemas” (lectura / comprensión de ello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Tendencias secula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argo / corto plaz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ependencia de las políticas pasadasy presen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00:09:26Z</dcterms:created>
  <dc:creator>Ignacia Fernandez</dc:creator>
  <dc:description/>
  <dc:language>en-US</dc:language>
  <cp:lastModifiedBy>subdere</cp:lastModifiedBy>
  <dcterms:modified xsi:type="dcterms:W3CDTF">2006-08-08T23:21:34Z</dcterms:modified>
  <cp:revision>13</cp:revision>
  <dc:subject/>
  <dc:title>Diapositiva 1</dc:title>
</cp:coreProperties>
</file>