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853A-715A-4C6F-9DE4-AA07873186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ejor política social es aquella que logra responder a los 4ámbitos que son propios de la acción pública en materia social ho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yar procesos de integración y cohes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rtar a la constitución de una comunidad nacional, no rasgada por fracturas sociales sev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r a la realización de derechos sociales de ciudad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37A-9506-474E-AA33-75251E44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8D3-D296-4187-809B-E69BFDB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AE3-0E71-4957-AADC-AF306DE5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449-938F-4B88-AB43-8FF1B8E5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79AA-A56B-47A6-A34A-EB4253B4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E2ED-EBDB-49A2-8067-8BCA10CA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BB2B-8564-4FD4-B917-E130DAD4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E294-7E4F-4951-9D78-7C58A9B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87EB-2E1F-4261-95BD-2A0BCCED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EADE-0530-439A-89E2-C8F82C9E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1338-0D3D-4B57-A48C-9CE1604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06F-F1E1-4EAE-A1B0-461C0A08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5D93-7530-4CC6-ABED-5C71966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2A8C-A327-4E3D-B729-E6718FD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847B-2778-4598-BE52-F8ED01F6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AE6E-2801-49A2-BBEA-62F004D6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487F-6B5E-4259-A356-166E39C2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C6E-0728-499D-B346-2E6D373C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2BA-A79B-4DC4-9094-49327665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713-9420-46FD-92ED-1C4055B6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F64-66EA-43F7-BCED-30EB46DD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6BE-297B-4A4B-B483-4ED46F42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598-7DAE-4F64-AA8A-2FB4A24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02F-AF2D-45D2-9BE8-3A48FA91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2161-0C6E-4776-B455-ACDE27E1202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D19D-DE86-4F0E-8960-A56F7804149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ma 2. Políticas de superación de la pobreza, políticas sociales, política económic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9 de agost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stitucionalida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uctura y organización, cultura organiz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las y normas de funcionamiento: transparencia, rendición de cuentas (accountabil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ord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7040" y="4516560"/>
            <a:ext cx="770040" cy="884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0120" y="4800600"/>
            <a:ext cx="789120" cy="600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33720" y="4876920"/>
            <a:ext cx="766800" cy="5238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73560" y="4995720"/>
            <a:ext cx="773280" cy="405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16640" y="5011560"/>
            <a:ext cx="787320" cy="38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5011560"/>
            <a:ext cx="766800" cy="38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27040" y="2732040"/>
            <a:ext cx="770040" cy="178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70120" y="3151080"/>
            <a:ext cx="789120" cy="1649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3720" y="3513240"/>
            <a:ext cx="766800" cy="1363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73560" y="3795840"/>
            <a:ext cx="773280" cy="1199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6640" y="3902040"/>
            <a:ext cx="787320" cy="1109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80240" y="3976560"/>
            <a:ext cx="7668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3760" y="2641680"/>
            <a:ext cx="3240" cy="27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96920" y="540072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96920" y="5054760"/>
            <a:ext cx="9684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6920" y="470844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6920" y="436716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6920" y="402264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6920" y="367344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96920" y="333216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96920" y="298620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6920" y="264168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93760" y="5400720"/>
            <a:ext cx="7489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937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6840" y="5400360"/>
            <a:ext cx="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939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3704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1833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40480" y="5400360"/>
            <a:ext cx="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6835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7800" y="48117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2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73520" y="495000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8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5680" y="499572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7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7552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004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7896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7800" y="34797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2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0880" y="38257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23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9800" y="40514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9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41240" y="42069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7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2080" y="43070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6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7760" y="4351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4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3360" y="52387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3360" y="4889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400" y="454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00" y="4202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00" y="38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400" y="35132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3170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00" y="2822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00" y="2479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420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1728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036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216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6524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0688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057400" y="6095880"/>
            <a:ext cx="152280" cy="15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0960" y="6019920"/>
            <a:ext cx="225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Pobres no</a:t>
            </a:r>
            <a:r>
              <a:rPr b="1" lang="es-ES_tradnl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 ind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800600" y="6095160"/>
            <a:ext cx="201600" cy="150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2640" y="601992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Ind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0640" y="2362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8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9960" y="27338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2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28480" y="31100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7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44560" y="34084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3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2720" y="34844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90760" y="35575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260280"/>
            <a:ext cx="8058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33"/>
                </a:solidFill>
                <a:latin typeface="Garamond"/>
                <a:ea typeface="Arial"/>
              </a:rPr>
              <a:t>Evolución de la incidencia de la pobreza y de la indigencia 1990-2000 (Porcentaje de la población*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. Hogares en situación de pobreza e indigencia,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r zonas urbanas y rurales, 1999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porcentaje del total de hogare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1628640"/>
          <a:ext cx="8207280" cy="4392720"/>
        </p:xfrm>
        <a:graphic>
          <a:graphicData uri="http://schemas.openxmlformats.org/drawingml/2006/table">
            <a:tbl>
              <a:tblPr/>
              <a:tblGrid>
                <a:gridCol w="1938240"/>
                <a:gridCol w="1042920"/>
                <a:gridCol w="1044720"/>
                <a:gridCol w="1046160"/>
                <a:gridCol w="1042920"/>
                <a:gridCol w="1047960"/>
                <a:gridCol w="1044360"/>
              </a:tblGrid>
              <a:tr h="52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gares en situación de pobre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gares en situación de indig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b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b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érica Latina (**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. Distribución del ingreso de los hogares urbanos, por quintiles(*), año 1999 (**) (Porcentaje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268280"/>
          <a:ext cx="8641800" cy="4248000"/>
        </p:xfrm>
        <a:graphic>
          <a:graphicData uri="http://schemas.openxmlformats.org/drawingml/2006/table">
            <a:tbl>
              <a:tblPr/>
              <a:tblGrid>
                <a:gridCol w="1342080"/>
                <a:gridCol w="1042920"/>
                <a:gridCol w="1042920"/>
                <a:gridCol w="1042920"/>
                <a:gridCol w="1042560"/>
                <a:gridCol w="1043280"/>
                <a:gridCol w="1042560"/>
                <a:gridCol w="1042560"/>
              </a:tblGrid>
              <a:tr h="536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1 (más pob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5 (más ric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551664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*) Ordenados según su ingreso per cápita. El quintil 1 corresponde a los hogares más pobres y el quintil 5 a los hogares más r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**) En el caso de Chile los datos corresponden al año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842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Esperanza de vida al nacer y mortalidad infantil, por quinquenio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1841400" y="1523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41400" y="160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484280"/>
          <a:ext cx="8515080" cy="4751280"/>
        </p:xfrm>
        <a:graphic>
          <a:graphicData uri="http://schemas.openxmlformats.org/drawingml/2006/table">
            <a:tbl>
              <a:tblPr/>
              <a:tblGrid>
                <a:gridCol w="1276200"/>
                <a:gridCol w="1143000"/>
                <a:gridCol w="1219320"/>
                <a:gridCol w="1218960"/>
                <a:gridCol w="1219320"/>
                <a:gridCol w="1219320"/>
                <a:gridCol w="1218960"/>
              </a:tblGrid>
              <a:tr h="323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quen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0-19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-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-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g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blación analfabeta de 15 y más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% de la población de 15 y má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16000" y="1628640"/>
          <a:ext cx="6933960" cy="4343040"/>
        </p:xfrm>
        <a:graphic>
          <a:graphicData uri="http://schemas.openxmlformats.org/drawingml/2006/table">
            <a:tbl>
              <a:tblPr/>
              <a:tblGrid>
                <a:gridCol w="2157120"/>
                <a:gridCol w="1695240"/>
                <a:gridCol w="1618200"/>
                <a:gridCol w="1463400"/>
              </a:tblGrid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: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blación urbana analfabeta por grupos de edad, 2000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porcentaje de la población en cada grupo de edad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1773360"/>
          <a:ext cx="7824600" cy="3941640"/>
        </p:xfrm>
        <a:graphic>
          <a:graphicData uri="http://schemas.openxmlformats.org/drawingml/2006/table">
            <a:tbl>
              <a:tblPr/>
              <a:tblGrid>
                <a:gridCol w="1338120"/>
                <a:gridCol w="1077840"/>
                <a:gridCol w="1082880"/>
                <a:gridCol w="1081080"/>
                <a:gridCol w="1082520"/>
                <a:gridCol w="1079640"/>
                <a:gridCol w="1082520"/>
              </a:tblGrid>
              <a:tr h="293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 y m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842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sistencia escolar en áreas urbanas por niveles de ingreso familiar y grupos de edad, 1999 (% de la población misma edad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1701720" y="85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1700280"/>
          <a:ext cx="8496000" cy="4392720"/>
        </p:xfrm>
        <a:graphic>
          <a:graphicData uri="http://schemas.openxmlformats.org/drawingml/2006/table">
            <a:tbl>
              <a:tblPr/>
              <a:tblGrid>
                <a:gridCol w="1338120"/>
                <a:gridCol w="795240"/>
                <a:gridCol w="795600"/>
                <a:gridCol w="795240"/>
                <a:gridCol w="795240"/>
                <a:gridCol w="795240"/>
                <a:gridCol w="795600"/>
                <a:gridCol w="796680"/>
                <a:gridCol w="793800"/>
                <a:gridCol w="795240"/>
              </a:tblGrid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1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3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5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término “social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ción caritativa, ayudar a los enfermos, postergados, marginados, los pobres -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nculado al bienestar humano (nivel y calidad de vida, distribución de bienes materiales y culturales)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tisfacción de necesidades bás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dades en los sectores sociales: educación, salud, vivienda, seguridad social 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olver situaciones problemáticas de acceso y c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teneciente a la sociedad, al colectivo, estructura social, relaciones entre estratos y entre grupos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lusión, cohesión social, ciudadan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inalidades de la política social: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uatro ámbi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 y protección soci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 acuerdo a ciertos estándares que la sociedad acepta como legítimos y fund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ción del bienesta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neración de oportunidades, movilidad social, ruptura en la transmisión intergeneracional de oportunidades, integración y cohesión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ación de derechos  sociales de ciudadaní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rechos sociales, garantías de acceso, cobertura y calidad, con deberes / responsabilidades asoci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ción y preservación de un espacio social de pertenencia a la comunidad sociopolític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r parte de un destino colectivo compartido y sentirse responsable por é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terdependencia y no compartimiento estanco: visión sistém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dad económica y sociocultur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ia del contexto y  situación en el punto de part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s de orientación similar, resultados distin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macro - económica y de ahorro 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sectores de infraestructura y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66480"/>
            <a:ext cx="8353440" cy="180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El conjunto de la política pública -no solo las “políticas sociales”-  incide sobre situaciones de pobreza y vulnerabilidad, calidad de vida, desigualdades sociales, cohe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19680"/>
            <a:ext cx="6337440" cy="207252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y funcionamiento del Estado (“Modernización del Estad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miento del sistema polí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Gasto Nacional Social Chile (Como % del PIB)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836640"/>
          <a:ext cx="8135640" cy="5692680"/>
        </p:xfrm>
        <a:graphic>
          <a:graphicData uri="http://schemas.openxmlformats.org/drawingml/2006/table">
            <a:tbl>
              <a:tblPr/>
              <a:tblGrid>
                <a:gridCol w="1614240"/>
                <a:gridCol w="1592280"/>
                <a:gridCol w="1587600"/>
                <a:gridCol w="1590480"/>
                <a:gridCol w="175104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mento 1990-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u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vien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vi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sid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Realidad económica y sociocultur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acterísticas: magnitud y características de los “problemas” (lectura / comprensión de ell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ndencias secula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rgo / corto 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pendencia de las políticas pasadasy pres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6-08-08T23:21:34Z</dcterms:modified>
  <cp:revision>13</cp:revision>
  <dc:subject/>
  <dc:title>Diapositiva 1</dc:title>
</cp:coreProperties>
</file>