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BBA1-E1A5-45D0-8AEF-39E1C85F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7E8-4EBB-4F53-B21C-575F9733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CF3B-1FAD-4E6E-9307-9A800903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587B-B644-4D9A-A143-4ABDF2BC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3204-3EBE-4563-AEB9-F7F59D67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92E6-449B-4E04-890D-C04E5805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2E12-A490-4D0C-9CCC-CAF0CDE0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0EE4-AC94-482C-911E-6EF26A64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6948-1607-4133-BFD1-AAF506A6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0911-D52E-4895-883B-0BF963CE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4FF5-238A-40F3-A405-B8C8173B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4F8-D11E-463A-9B9F-DCDD624A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DB0F-3C2C-4F44-9663-BA4E4107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795B-C089-4EA6-A05F-0AB18AFB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E0C2-9134-4698-9252-97C52145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F576-A80C-4885-819D-B7C00040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9092-03E8-41B8-B24E-1A79AF20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554-32C0-4D53-94AD-65B1653F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332-3F21-472E-9DE7-A982B785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2B2-8B31-4DEA-9DC2-C4146FBD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CE05-8058-4C82-B26B-1E22866A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96E8-8F11-41BE-B88D-483F3472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2E8-79C0-493F-B556-B4A46DFF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AFE5-159B-460E-8FBC-8D4C4D57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Julio – Septiembr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E080-8E65-4198-A4D0-5A00FD43194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Julio – Septiembr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4ACA-1785-49CB-836C-2A02D5804C80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Tema 1. Evolución de la Política Social en América Latina (Estado de Bienestar)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8 de julio de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rolario del ajuste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358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La política social en América Latina se debate ent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Modelos determinados por el mercado: privados, individualistas e inequitativos (Argentina, Chi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Modelos correctores del mercado: públicos, solidarios e igualitarios: (Brasil y Costa Ric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24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Huber, 1996; Fleury, 199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safíos de fin de siglo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(que debe enfrentar la política social)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35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Fin del pleno empl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mbios demográficos y en la composición de la estructura 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08680" indent="-594000">
              <a:lnSpc>
                <a:spcPct val="10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Jefatura de hogar femenina, incorporación mujer al mercado laboral, envejecimiento de la pobl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408680" indent="-594000">
              <a:lnSpc>
                <a:spcPct val="10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Modificación ciclos de vida tradicional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mbios en las expectativas de vida de los indivi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iversificación e individualización de los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xclus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358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0"/>
          <a:ext cx="8893080" cy="6165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0"/>
                    <a:ext cx="889308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stado de Bienesta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Institución típicamente moderna (Inglaterra fines del S. XI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ost Segunda Guerra Mundial: pacto entre empresarios, trabajadores y Est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Apogeo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Décadas del ‘50 al ’70: los años glorio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mbinación de un sostenido crecimiento económico y el pleno desarrollo del Estado soc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Principios constitutivos Eº de Bienest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31520" indent="-7315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rotección social en torno del trabajador en relación con su lugar de trabaj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31520" indent="-7315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ocialización de los riesgos soci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64440" indent="-633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mite a una dimensión probabilística de lo social (el riesgo es calculable, los riesgos están igualmente repartidos y son aleatorio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4440" indent="-633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Ofrece la ventaja de poder considerar conjuntamente problemas diferentes (enfermedad, vejez, desempleo, accidente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4440" indent="-633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ermite plantear en nuevos términos el ejercicio de la justicia. El seguro social no es asistencia. Representa la ejecución de un contrato en el cual el Estado y los ciudadanos están igualmente implicados (Rosanvallón, 199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Regímenes de bienestar (Esping Andersen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052640"/>
          <a:ext cx="8631000" cy="5008320"/>
        </p:xfrm>
        <a:graphic>
          <a:graphicData uri="http://schemas.openxmlformats.org/drawingml/2006/table">
            <a:tbl>
              <a:tblPr/>
              <a:tblGrid>
                <a:gridCol w="2477880"/>
                <a:gridCol w="1986120"/>
                <a:gridCol w="2160360"/>
                <a:gridCol w="2006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ibe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ocialdemócra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servad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pel famil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en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pel merc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en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pel est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en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bsidiar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o de solidaridad predominan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dividu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nivers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rentesco Corporativismo Estatis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ugar de solidaridad predominan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erc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st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amil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rado de desmercantiliz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íni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áxi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lto (para cabeza de famili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ado Social en América Latina (Origen)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Surgen a imitación de los europe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Cobertura y calidad de los mecanismos aseguradores es notoriamente más b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4520" indent="-64008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iferencias estructurales en el mercado del trabajo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No hay pacto o contrato social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Desarrollo de las políticas sociales es anterior a la democratización ple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4520" indent="-6400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ampliación de los derechos sociales tiene lugar en forma previa al pleno reconocimiento de los derechos políticos de ciudadaní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ado Social en A. Latina (característica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08480" indent="-708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Seguridad social para grupos específicos de trabajador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4200" indent="-6138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mpleadores proporcionan protección de empleo a los trabajadores form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4200" indent="-6138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stado provee salud y educ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4200" indent="-6138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familia representa una importante fuente de seguridad contra los riesgos soci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08480" indent="-708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Segmentación por categorías ocup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8480" indent="-708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Importantes segmentos de población excluidos (por heterogeneidad estructural del mercado de tra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Grupos de países (Mesa-Lago, 1999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4640" indent="-314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Argentina, Brasil, Chile, Costa Rica y Uruguay (1910 y 1920, consolidación en lo años ’50): seguros para accidentes del trabajo, pensiones, enfermedad y maternidad. Cobertura desigu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640" indent="-314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Bolivia, Colombia, Ecuador, México, Panamá, Paraguay, Perú y Venezuela (1940): niveles de cobertura más bajos y el patrón de seguridad social estratificada se mantuv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640" indent="-314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República Dominicana, El Salvador, Guatemala, Haití, Honduras y Nicaragua (años ’50 y ’60): cobertura muy limitada incluso para la población activa. No incluye seguros de desempleo o prestaciones familia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Grupos de países </a:t>
            </a: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(</a:t>
            </a:r>
            <a:r>
              <a:rPr b="0" lang="es-ES_tradnl" sz="3600" spc="-1" strike="noStrike">
                <a:solidFill>
                  <a:srgbClr val="006633"/>
                </a:solidFill>
                <a:latin typeface="Garamond"/>
              </a:rPr>
              <a:t>Huber, 1996; Fleury, 1999</a:t>
            </a: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Argentina, Chile, Costa Rica, Brasil, Uruguay y Colombia: desarrollan mecanismos de protección extendidos, que incluyen acceso más o menos universal a la salud y la educación pública, aunque segmentados y estratificados por grupos ocupacionales con distintos grados de privileg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Resto de los países latinoamericanos: en ningún momento institucionalizan políticas sociales estables y extendi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juste estructural de los ’80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Contexto: gobiernos autoritarios, ajuste macroeconómico y liberalización comer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Chile pione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Consenso de Washingt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Reformas económicas que impactan en lo social: disminuye el gasto público social, se descentralizan y privatizan los mecanismos de provisión de salud y educación</a:t>
            </a: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odelo asistencial de políticas compensator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subdere</cp:lastModifiedBy>
  <dcterms:modified xsi:type="dcterms:W3CDTF">2006-08-01T21:48:53Z</dcterms:modified>
  <cp:revision>8</cp:revision>
  <dc:subject/>
  <dc:title>Diapositiva 1</dc:title>
</cp:coreProperties>
</file>