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F82C8-DF08-4EA3-ADE2-C1F981CD7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67A03-69F9-44CC-9651-6523410AE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498B2-772B-4758-BB04-021531CE6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B62E2-C64D-4534-8849-F36ABDD9E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1F093-DD9F-438E-BCE9-DCBF96A3B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E1653-FA38-4674-8476-C824D0FB5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06046-8C01-44B6-9D4B-1E6B16B65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C3BF6-5434-48FE-AB82-381567CC0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67E2B-DEA9-4B5C-BFDE-F3C2251CD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D9EC6-5DE1-404A-815D-1260330F1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6A891-E0FC-4D46-AD49-05562F3F6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5EAF0-3400-477C-B840-89E83377D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6A975-8DDB-4686-8A50-172B3A1C5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21C51-7A03-43A3-A8CA-15B8918E0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8FD46-A607-4077-8EF4-B11CB01A3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9389A-30F4-46DE-97D1-333451DB4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17FEF-DBD2-4632-B4CC-013C611F6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29BAB-F7B6-49B1-92C5-70ECDAFC3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1AEA1-1733-4013-B366-CC7AD18F5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C4733-87A1-4D4E-AF66-587D0D39B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CA7F3-6521-4810-892F-6F8F76B9D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1F996-F38D-47D4-BF76-B01F727D2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0E366-BF8D-4F7B-84B2-913408225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0EDBB-102D-4A50-9572-A4C4CB778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39280" y="6248520"/>
            <a:ext cx="7993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600" spc="-1" strike="noStrike">
                <a:solidFill>
                  <a:srgbClr val="cc99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cc9900"/>
                </a:solidFill>
                <a:latin typeface="Garamond"/>
              </a:rPr>
              <a:t>Pobreza: diagnóstico, políticas e instrumen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9900"/>
                </a:solidFill>
                <a:latin typeface="Garamond"/>
              </a:rPr>
              <a:t>MGPP, Julio – Septiembre, 200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168D1-7242-4AFE-814E-01416FE927C3}" type="slidenum">
              <a:rPr b="0" lang="es-E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468360" y="6243480"/>
            <a:ext cx="7920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600" spc="-1" strike="noStrike">
                <a:solidFill>
                  <a:srgbClr val="cc99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cc9900"/>
                </a:solidFill>
                <a:latin typeface="Garamond"/>
              </a:rPr>
              <a:t>Pobreza: diagnóstico, políticas e instrumen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9900"/>
                </a:solidFill>
                <a:latin typeface="Garamond"/>
              </a:rPr>
              <a:t>MGPP, Julio – Septiembre, 200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BB654-6C83-429F-B481-34DB96B64ACA}" type="slidenum">
              <a:rPr b="0" lang="es-E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6633"/>
                </a:solidFill>
                <a:latin typeface="Garamond"/>
              </a:rPr>
              <a:t>Tema 1. Evolución de la Política Social en América Latina (Estado de Bienestar)</a:t>
            </a:r>
            <a:endParaRPr b="0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M. Ignacia Fernánde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28 de julio de 200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277560"/>
            <a:ext cx="842472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Corolario del ajuste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8000" y="1341000"/>
            <a:ext cx="8435880" cy="507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Garamond"/>
              </a:rPr>
              <a:t>La política social en América Latina se debate entre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Garamond"/>
              </a:rPr>
              <a:t>Modelos determinados por el mercado: privados, individualistas e inequitativos (Argentina, Chile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Garamond"/>
              </a:rPr>
              <a:t>Modelos correctores del mercado: públicos, solidarios e igualitarios: (Brasil y Costa Rica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spcBef>
                <a:spcPts val="624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Garamond"/>
              </a:rPr>
              <a:t>Huber, 1996; Fleury, 1999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360" y="277560"/>
            <a:ext cx="842472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Desafíos de fin de siglo </a:t>
            </a:r>
            <a:br>
              <a:rPr sz="3800"/>
            </a:b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(que debe enfrentar la política social)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94920" y="1773000"/>
            <a:ext cx="843588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25440" indent="-32544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Fin del pleno emple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440" indent="-32544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Cambios demográficos y en la composición de la estructura famili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408680" indent="-594000">
              <a:lnSpc>
                <a:spcPct val="100000"/>
              </a:lnSpc>
              <a:spcBef>
                <a:spcPts val="6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361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Garamond"/>
              </a:rPr>
              <a:t>Jefatura de hogar femenina, incorporación mujer al mercado laboral, envejecimiento de la població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1408680" indent="-594000">
              <a:lnSpc>
                <a:spcPct val="100000"/>
              </a:lnSpc>
              <a:spcBef>
                <a:spcPts val="6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361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Garamond"/>
              </a:rPr>
              <a:t>Modificación ciclos de vida tradicional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25440" indent="-32544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Cambios en las expectativas de vida de los individu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440" indent="-32544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Diversificación e individualización de los riesg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440" indent="-32544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Exclusión soc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277560"/>
            <a:ext cx="842472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68000" y="1341000"/>
            <a:ext cx="8435880" cy="507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250920" y="0"/>
          <a:ext cx="8893080" cy="61657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0"/>
                    <a:ext cx="8893080" cy="616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Estado de Bienestar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Garamond"/>
              </a:rPr>
              <a:t>Institución típicamente moderna (Inglaterra fines del S. XIX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Garamond"/>
              </a:rPr>
              <a:t>Post Segunda Guerra Mundial: pacto entre empresarios, trabajadores y Estad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Garamond"/>
              </a:rPr>
              <a:t>Apogeo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Garamond"/>
              </a:rPr>
              <a:t>Décadas del ‘50 al ’70: los años glorios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Combinación de un sostenido crecimiento económico y el pleno desarrollo del Estado social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6633"/>
                </a:solidFill>
                <a:latin typeface="Garamond"/>
              </a:rPr>
              <a:t>Principios constitutivos Eº de Bienestar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052640"/>
            <a:ext cx="8435880" cy="50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731520" indent="-73152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Garamond"/>
              </a:rPr>
              <a:t>Protección social en torno del trabajador en relación con su lugar de trabajo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31520" indent="-73152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Garamond"/>
              </a:rPr>
              <a:t>Socialización de los riesgos sociale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64440" indent="-633600">
              <a:lnSpc>
                <a:spcPct val="9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Remite a una dimensión probabilística de lo social (el riesgo es calculable, los riesgos están igualmente repartidos y son aleatorios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64440" indent="-633600">
              <a:lnSpc>
                <a:spcPct val="9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Ofrece la ventaja de poder considerar conjuntamente problemas diferentes (enfermedad, vejez, desempleo, accidentes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64440" indent="-633600">
              <a:lnSpc>
                <a:spcPct val="9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Permite plantear en nuevos términos el ejercicio de la justicia. El seguro social no es asistencia. Representa la ejecución de un contrato en el cual el Estado y los ciudadanos están igualmente implicados (Rosanvallón, 1995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6633"/>
                </a:solidFill>
                <a:latin typeface="Garamond"/>
              </a:rPr>
              <a:t>Regímenes de bienestar (Esping Andersen)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324000" y="1052640"/>
          <a:ext cx="8631000" cy="5008320"/>
        </p:xfrm>
        <a:graphic>
          <a:graphicData uri="http://schemas.openxmlformats.org/drawingml/2006/table">
            <a:tbl>
              <a:tblPr/>
              <a:tblGrid>
                <a:gridCol w="2477880"/>
                <a:gridCol w="1986120"/>
                <a:gridCol w="2160360"/>
                <a:gridCol w="2006640"/>
              </a:tblGrid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Libera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Socialdemócrat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Conservado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00"/>
                    </a:solidFill>
                  </a:tcPr>
                </a:tc>
              </a:tr>
              <a:tr h="429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apel famili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Margina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Margina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Centra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apel mercad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Centra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Margina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Margina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apel estad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Margina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Centra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Subsidiari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Modo de solidaridad predominant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Individua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Universa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arentesco Corporativismo Estatism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Lugar de solidaridad predominant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Mercad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Estad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Famili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Grado de desmercantilizació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Mínim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Máxim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Alto (para cabeza de familia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Estado Social en América Latina (Origen)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052640"/>
            <a:ext cx="8435880" cy="50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739080" indent="-73908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aramond"/>
              </a:rPr>
              <a:t>Surgen a imitación de los europeo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39080" indent="-73908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Garamond"/>
              </a:rPr>
              <a:t>Cobertura y calidad de los mecanismos aseguradores es notoriamente más baj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4520" indent="-640080">
              <a:lnSpc>
                <a:spcPct val="90000"/>
              </a:lnSpc>
              <a:spcBef>
                <a:spcPts val="7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Diferencias estructurales en el mercado del trabajo </a:t>
            </a: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Garamond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39080" indent="-73908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aramond"/>
              </a:rPr>
              <a:t>No hay pacto o contrato social origi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39080" indent="-73908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Garamond"/>
              </a:rPr>
              <a:t>Desarrollo de las políticas sociales es anterior a la democratización plen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4520" indent="-64008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La ampliación de los derechos sociales tiene lugar en forma previa al pleno reconocimiento de los derechos políticos de ciudadanía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Estado Social en A. Latina (características)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052640"/>
            <a:ext cx="8435880" cy="50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08480" indent="-70848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Garamond"/>
              </a:rPr>
              <a:t>Seguridad social para grupos específicos de trabajadore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34200" indent="-61380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Empleadores proporcionan protección de empleo a los trabajadores formal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34200" indent="-61380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Estado provee salud y educació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34200" indent="-61380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La familia representa una importante fuente de seguridad contra los riesgos social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708480" indent="-70848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aramond"/>
              </a:rPr>
              <a:t>Segmentación por categorías ocupacion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08480" indent="-70848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aramond"/>
              </a:rPr>
              <a:t>Importantes segmentos de población excluidos (por heterogeneidad estructural del mercado de trabaj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Grupos de países (Mesa-Lago, 1999)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052640"/>
            <a:ext cx="8435880" cy="50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314640" indent="-31464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aramond"/>
              </a:rPr>
              <a:t>Argentina, Brasil, Chile, Costa Rica y Uruguay (1910 y 1920, consolidación en lo años ’50): seguros para accidentes del trabajo, pensiones, enfermedad y maternidad. Cobertura desigual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4640" indent="-31464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Bolivia, Colombia, Ecuador, México, Panamá, Paraguay, Perú y Venezuela (1940): niveles de cobertura más bajos y el patrón de seguridad social estratificada se mantuv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4640" indent="-31464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República Dominicana, El Salvador, Guatemala, Haití, Honduras y Nicaragua (años ’50 y ’60): cobertura muy limitada incluso para la población activa. No incluye seguros de desempleo o prestaciones familiar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277560"/>
            <a:ext cx="842472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6633"/>
                </a:solidFill>
                <a:latin typeface="Garamond"/>
              </a:rPr>
              <a:t>Grupos de países </a:t>
            </a:r>
            <a:r>
              <a:rPr b="0" lang="es-ES" sz="3600" spc="-1" strike="noStrike">
                <a:solidFill>
                  <a:srgbClr val="006633"/>
                </a:solidFill>
                <a:latin typeface="Garamond"/>
              </a:rPr>
              <a:t>(</a:t>
            </a:r>
            <a:r>
              <a:rPr b="0" lang="es-ES_tradnl" sz="3600" spc="-1" strike="noStrike">
                <a:solidFill>
                  <a:srgbClr val="006633"/>
                </a:solidFill>
                <a:latin typeface="Garamond"/>
              </a:rPr>
              <a:t>Huber, 1996; Fleury, 1999</a:t>
            </a:r>
            <a:r>
              <a:rPr b="0" lang="es-ES" sz="3600" spc="-1" strike="noStrike">
                <a:solidFill>
                  <a:srgbClr val="006633"/>
                </a:solidFill>
                <a:latin typeface="Garamond"/>
              </a:rPr>
              <a:t>)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052640"/>
            <a:ext cx="8435880" cy="50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Garamond"/>
              </a:rPr>
              <a:t>Argentina, Chile, Costa Rica, Brasil, Uruguay y Colombia: desarrollan mecanismos de protección extendidos, que incluyen acceso más o menos universal a la salud y la educación pública, aunque segmentados y estratificados por grupos ocupacionales con distintos grados de privileg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Garamond"/>
              </a:rPr>
              <a:t>Resto de los países latinoamericanos: en ningún momento institucionalizan políticas sociales estables y extendid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277560"/>
            <a:ext cx="842472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Ajuste estructural de los ’80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052640"/>
            <a:ext cx="8435880" cy="50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32640" indent="-33264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Garamond"/>
              </a:rPr>
              <a:t>Contexto: gobiernos autoritarios, ajuste macroeconómico y liberalización comerci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Garamond"/>
              </a:rPr>
              <a:t>Chile pioner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Garamond"/>
              </a:rPr>
              <a:t>Consenso de Washington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Garamond"/>
              </a:rPr>
              <a:t>Reformas económicas que impactan en lo social: disminuye el gasto público social, se descentralizan y privatizan los mecanismos de provisión de salud y educación</a:t>
            </a:r>
            <a:r>
              <a:rPr b="0" lang="es-ES" sz="30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Garamond"/>
              </a:rPr>
              <a:t>Modelo asistencial de políticas compensatori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8T00:09:26Z</dcterms:created>
  <dc:creator>Ignacia Fernandez</dc:creator>
  <dc:description/>
  <dc:language>en-US</dc:language>
  <cp:lastModifiedBy>subdere</cp:lastModifiedBy>
  <dcterms:modified xsi:type="dcterms:W3CDTF">2006-08-01T21:48:53Z</dcterms:modified>
  <cp:revision>8</cp:revision>
  <dc:subject/>
  <dc:title>Diapositiva 1</dc:title>
</cp:coreProperties>
</file>