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C6C-BEF8-4CFF-B0A9-9BC46620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D901-F0D5-4414-BB88-2187BCBE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1C3-FE53-4D8D-913C-563394CE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2F00-0B4C-4C5B-8AF8-9E9149A0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A4FA-48E3-4D29-8909-81F17AAD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42E3-539C-47AD-9579-DEA0C64C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B42A-388F-4442-ABF0-915A5691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9650-CEC6-4F23-AFD4-A3FC3494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7B2D-FE35-4CA1-BE0C-096CDEDC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0035-D79D-4406-A272-1C5AD61F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6C2F-D50C-4B3E-9283-C55718AF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069B-8178-48CD-8C36-E8277332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6029-26BB-4511-91D1-1DE40A50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E6BB-F39A-4B05-871B-4AFBA992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F2EF-2F0A-47C9-98EA-15CD5D55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E430-3289-4F4B-B53D-909C357A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7974-EB00-4E00-A89C-370A7CF0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9B9-0E9B-4D0F-BDCA-80B3AE44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CC5D-3157-4A4F-8BCD-8C16F687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972D-809C-4244-969C-85974940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744-BEF6-4C7B-91BD-38C69547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4B3-4DC0-425D-A189-46BCEA46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9F9-B1CA-4D0C-8C10-B992CF7D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9E16-0E6F-444B-B681-0BD35AD5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8BFD-0D45-4D78-BDC4-936FAE47C0B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Julio – Septiembre,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A53B-155A-42AA-AA8A-70E68A82ECC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Tema 1. Evolución de la Política Social en América Latina (Estado de Bienestar)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8 de julio d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rolario del ajuste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La política social en América Latina se debate ent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Modelos determinados por el mercado: privados, individualistas e inequitativos (Argentina, Chi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Modelos correctores del mercado: públicos, solidarios e igualitarios: (Brasil y Costa Ric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24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Huber, 1996; Fleury, 199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safíos de fin de siglo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(que debe enfrentar la política social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35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Fin del pleno emp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demográficos y en la composición de la estructura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08680" indent="-59400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Jefatura de hogar femenina, incorporación mujer al mercado laboral, envejecimiento de la pobl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408680" indent="-59400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Modificación ciclos de vida tradicional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en las expectativas de vida de los indiv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iversificación e individualización de los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xclu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50920" y="0"/>
          <a:ext cx="8893080" cy="616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89308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stado de Bienest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Institución típicamente moderna (Inglaterra fines del S. XI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ost Segunda Guerra Mundial: pacto entre empresarios, trabajadores y Es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Apoge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Décadas del ‘50 al ’70: los años glorio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mbinación de un sostenido crecimiento económico y el pleno desarrollo del Estado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Principios constitutivos Eº de Bienest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31520" indent="-7315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rotección social en torno del trabajador en relación con su lugar de trabaj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31520" indent="-7315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ocialización de los riesgos soc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mite a una dimensión probabilística de lo social (el riesgo es calculable, los riesgos están igualmente repartidos y son aleatorio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frece la ventaja de poder considerar conjuntamente problemas diferentes (enfermedad, vejez, desempleo, accidente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ermite plantear en nuevos términos el ejercicio de la justicia. El seguro social no es asistencia. Representa la ejecución de un contrato en el cual el Estado y los ciudadanos están igualmente implicados (Rosanvallón, 199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Regímenes de bienestar (Esping Andersen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052640"/>
          <a:ext cx="8631000" cy="5008320"/>
        </p:xfrm>
        <a:graphic>
          <a:graphicData uri="http://schemas.openxmlformats.org/drawingml/2006/table">
            <a:tbl>
              <a:tblPr/>
              <a:tblGrid>
                <a:gridCol w="2477880"/>
                <a:gridCol w="1986120"/>
                <a:gridCol w="2160360"/>
                <a:gridCol w="2006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ibe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ocialdemócra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servad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famil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bsidiar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o de solidaridad predomina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divid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nivers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entesco Corporativismo Estatis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ugar de solidaridad predomina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amil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rado de desmercantiliz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íni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áxi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lto (para cabeza de famili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ado Social en América Latina (Origen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urgen a imitación de los europe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Cobertura y calidad de los mecanismos aseguradores es notoriamente más b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64008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iferencias estructurales en el mercado del trabajo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No hay pacto o contrato social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Desarrollo de las políticas sociales es anterior a la democratización ple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640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ampliación de los derechos sociales tiene lugar en forma previa al pleno reconocimiento de los derechos políticos de ciudadaní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ado Social en A. Latina (característica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eguridad social para grupos específicos de trabajador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mpleadores proporcionan protección de empleo a los trabajadores form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stado provee salud y educ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amilia representa una importante fuente de seguridad contra los riesgos soci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egmentación por categorías ocup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Importantes segmentos de población excluidos (por heterogeneidad estructural del mercado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Grupos de países (Mesa-Lago, 1999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Argentina, Brasil, Chile, Costa Rica y Uruguay (1910 y 1920, consolidación en lo años ’50): seguros para accidentes del trabajo, pensiones, enfermedad y maternidad. Cobertura desig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Bolivia, Colombia, Ecuador, México, Panamá, Paraguay, Perú y Venezuela (1940): niveles de cobertura más bajos y el patrón de seguridad social estratificada se mantuv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República Dominicana, El Salvador, Guatemala, Haití, Honduras y Nicaragua (años ’50 y ’60): cobertura muy limitada incluso para la población activa. No incluye seguros de desempleo o prestaciones familia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Grupos de países 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(</a:t>
            </a:r>
            <a:r>
              <a:rPr b="0" lang="es-ES_tradnl" sz="3600" spc="-1" strike="noStrike">
                <a:solidFill>
                  <a:srgbClr val="006633"/>
                </a:solidFill>
                <a:latin typeface="Garamond"/>
              </a:rPr>
              <a:t>Huber, 1996; Fleury, 1999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Argentina, Chile, Costa Rica, Brasil, Uruguay y Colombia: desarrollan mecanismos de protección extendidos, que incluyen acceso más o menos universal a la salud y la educación pública, aunque segmentados y estratificados por grupos ocupacionales con distintos grados de privileg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sto de los países latinoamericanos: en ningún momento institucionalizan políticas sociales estables y extendi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juste estructural de los ’80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Contexto: gobiernos autoritarios, ajuste macroeconómico y liberalización comer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Chile pione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Consenso de Washingt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Garamond"/>
              </a:rPr>
              <a:t>Reformas económicas que impactan en lo social: disminuye el gasto público social, se descentralizan y privatizan los mecanismos de provisión de salud y educación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delo asistencial de políticas compensator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subdere</cp:lastModifiedBy>
  <dcterms:modified xsi:type="dcterms:W3CDTF">2006-08-01T21:48:53Z</dcterms:modified>
  <cp:revision>8</cp:revision>
  <dc:subject/>
  <dc:title>Diapositiva 1</dc:title>
</cp:coreProperties>
</file>