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C2A9-40AB-4DE4-B09B-2E33470BEB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6B35-F20A-452E-ACCF-D042F15498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186-6FDE-4288-A097-48631F1D4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00F-C0DC-45A6-BB39-9BAEE28F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84E-4763-4AEF-82D7-7821F22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788-87E0-49C9-A6A6-4788BA0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4CD-2BF0-4689-BDBD-8CB896A3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8B5-581D-4355-A292-1E9EBD8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0A4-056A-4E9A-87BD-AE0BC3A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CE3-B528-430F-9F33-244ACE1E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B7D-9EA7-44BA-B767-76D0D92C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173-A0D6-4B1B-AA74-F6192C06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83F-1045-4FE5-9E77-85560B7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249-E829-4E1F-94E0-8D0EA8E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ED8-E919-4340-8D56-599C37B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EF90-B09A-4222-B2E5-8F06B595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Transados en Bo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523520"/>
            <a:ext cx="280008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773360"/>
            <a:ext cx="3817800" cy="936360"/>
          </a:xfrm>
          <a:prstGeom prst="roundRect">
            <a:avLst>
              <a:gd name="adj" fmla="val 0"/>
            </a:avLst>
          </a:prstGeom>
          <a:solidFill>
            <a:srgbClr val="b2b2b2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246 Acciones listando e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la Bolsa de Comercio de Santi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276720"/>
            <a:ext cx="532764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strumentos de Renta 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005360"/>
            <a:ext cx="3673800" cy="1800000"/>
          </a:xfrm>
          <a:prstGeom prst="roundRect">
            <a:avLst>
              <a:gd name="adj" fmla="val 0"/>
            </a:avLst>
          </a:prstGeom>
          <a:solidFill>
            <a:srgbClr val="b2b2b2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onos del Banco Cen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onos de Tesorer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onos de Reconoc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Letras Hipoteciari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Verdana"/>
              </a:rPr>
              <a:t>Bonos de Empres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onos Banc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ciones de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ún estamos lejos de lo esperable para un mercado de este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1"/>
          <a:stretch/>
        </p:blipFill>
        <p:spPr>
          <a:xfrm>
            <a:off x="0" y="3068640"/>
            <a:ext cx="8748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as comparaciones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s of Financing for Investment: Chile vs. Benchmark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Development: Chile vs. Benchmark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169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633564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acciones mercado accio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05000" y="1600200"/>
            <a:ext cx="653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existe baja liquidez y rotacion en los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4896000" cy="339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82360" y="4652280"/>
            <a:ext cx="58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Liquidez en el mercado de bonos corporativos para América Latin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00000" y="4941720"/>
          <a:ext cx="6408720" cy="1778040"/>
        </p:xfrm>
        <a:graphic>
          <a:graphicData uri="http://schemas.openxmlformats.org/drawingml/2006/table">
            <a:tbl>
              <a:tblPr/>
              <a:tblGrid>
                <a:gridCol w="2052720"/>
                <a:gridCol w="600120"/>
                <a:gridCol w="941400"/>
                <a:gridCol w="622440"/>
                <a:gridCol w="922320"/>
                <a:gridCol w="733320"/>
                <a:gridCol w="536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onos Corporat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% PI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% plazo vencimiento &gt;5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1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9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urnover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10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12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648760" y="4291920"/>
            <a:ext cx="24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Fuente: Borensztein et.al. 2007, Cap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hículos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strumentos 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pen-End Funds (Mutual Fu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losed-End Fun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ITs (Real Estate Investment Trus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edge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Fs: Exchange-Traded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78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ctura Societaria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1800" y="1066680"/>
            <a:ext cx="734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a concentración de propiedad y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5 mayores accionistas controlan 80% de las acciones de las compañ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cionistas controladores concentran 68% del poder de v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or separación entre propiedad y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cionistas controladores ejercen gestión de la empresa y son determinantes en la elección del direc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ferente problema de agencia respecto a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ilita el mercado por control corp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or liquidez del mer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manda y oferta por información de emi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8560" y="1857240"/>
            <a:ext cx="78868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ctura Societaria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91856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ta presencia de grupos económicos.  Los 100 grupos económicos en Chile,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 acuerdo a la SVS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tro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70% de las empresas no financieras listadas en bol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85% del patrimonio bursáti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90% de los activos totales de empresas no financieras lis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ones estratégicas del grupo versus empresa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lujos de información cruz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75% de las principales empresas, la mitad de los miembros del directorio son también ejecutivos y/o directores de otras empresas del mismo grup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3808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lgunas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57200" y="1341360"/>
            <a:ext cx="8435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Baja liquidez accionario y renta f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Sistema Financiero Poco Desarrol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Integración Internacional aún Reduc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a Regulación de los Institucionales tiene alta influencia en el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a Competencia entre Intermediarios es B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Queda camino por recorrer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Transados en Bo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strumentos de Intermediación Financiera (I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1700280"/>
            <a:ext cx="3673440" cy="1800000"/>
          </a:xfrm>
          <a:prstGeom prst="roundRect">
            <a:avLst>
              <a:gd name="adj" fmla="val 0"/>
            </a:avLst>
          </a:prstGeom>
          <a:solidFill>
            <a:srgbClr val="b2b2b2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Pagaré Descontable d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anco Central (PDB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Pagaré Reajustable d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Banco Central (PRB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Depósitos Banc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Verdana"/>
              </a:rPr>
              <a:t>Efectos de Comer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7664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strumentos Monetarios (Oro, Plata, Dó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otas de Fondos de Inversión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rivados: Opciones y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ercado Bursátil Chileno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Montos diarios en mill $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1197000"/>
          <a:ext cx="437976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97000"/>
                    <a:ext cx="437976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764240" y="1268280"/>
          <a:ext cx="4379760" cy="274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4240" y="1268280"/>
                    <a:ext cx="4379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556000" y="4005360"/>
          <a:ext cx="4379760" cy="24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005360"/>
                    <a:ext cx="43797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mportancia de la renta f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79640" y="3860640"/>
            <a:ext cx="540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italización bursátil y Nº compañías abier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8720" y="2157480"/>
            <a:ext cx="7486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rcados de 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468360" y="4286160"/>
            <a:ext cx="5302080" cy="2548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 rot="16200000">
            <a:off x="-201600" y="275220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k to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 rot="16200000">
            <a:off x="-181800" y="562464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k to 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286240" y="1154160"/>
            <a:ext cx="367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nta fija en mercados emergentes es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 mucho menos desarrollada, especialmente en América La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últimos años (especialmente después de la crisis asiática), los mercados de bonos han crecido enorme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amplia heterogeneidad, pero los mercados en Asia no desarrollada son más grandes que en Amércia Latina, especialmente el sector corpor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l sector financiero el que hace la gran diferencia entre desarrollados y emer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8760" y="928800"/>
            <a:ext cx="498960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de off liquidez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l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lidad de precios y alta liqui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Incertidumbre puede existir baja calidad de precios pero alta liqui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de-off entre Liquidez y Contenido de Información de los Precios: El uso de Información Privilegiada genera una externalidad negativa al limitar la liquidez, pero aumenta la calidad de los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 la información generada por el mercado es escasa:  sólo unas pocas compañías tienen seguimiento (ni siquiera las 40 del IPS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ez financiera históricamente ha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ncial assets of the Chilean economy 1840-2000 (% G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889440" cy="2737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3214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la Liquidez en el Mercado Capitales Chileno sigue siendo muy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 rot="10800000">
            <a:off x="152280" y="1340640"/>
            <a:ext cx="98640" cy="1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a Liquidez en el Mercado Chileno es extremadamente B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11280" y="242064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nque últimamente ha seguido aumentando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50920" y="1268280"/>
            <a:ext cx="3657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urnover (monto transado anual sobre market cap.) del mercado accionario es de sólo 15%  en el 2005 (19% en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un décimo del de los mercado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55% del de Améric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arable al de Zimbabwe, Nigeria, Georgia y Litu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4000" y="3672000"/>
            <a:ext cx="3887640" cy="2975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86" name="Down Arrow 10"/>
          <p:cNvSpPr/>
          <p:nvPr/>
        </p:nvSpPr>
        <p:spPr>
          <a:xfrm>
            <a:off x="990720" y="4419720"/>
            <a:ext cx="66600" cy="228600"/>
          </a:xfrm>
          <a:prstGeom prst="downArrow">
            <a:avLst>
              <a:gd name="adj1" fmla="val 50000"/>
              <a:gd name="adj2" fmla="val 5056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1"/>
          <p:cNvSpPr/>
          <p:nvPr/>
        </p:nvSpPr>
        <p:spPr>
          <a:xfrm>
            <a:off x="2289240" y="5457960"/>
            <a:ext cx="68040" cy="228600"/>
          </a:xfrm>
          <a:prstGeom prst="downArrow">
            <a:avLst>
              <a:gd name="adj1" fmla="val 50000"/>
              <a:gd name="adj2" fmla="val 4949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own Arrow 12"/>
          <p:cNvSpPr/>
          <p:nvPr/>
        </p:nvSpPr>
        <p:spPr>
          <a:xfrm>
            <a:off x="2798640" y="5591160"/>
            <a:ext cx="66960" cy="228600"/>
          </a:xfrm>
          <a:prstGeom prst="downArrow">
            <a:avLst>
              <a:gd name="adj1" fmla="val 50000"/>
              <a:gd name="adj2" fmla="val 5029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14400" y="403848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Calibri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133720" y="518148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Calibri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2670120" y="5305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Calibri"/>
              </a:rPr>
              <a:t>C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4500720" y="4221000"/>
            <a:ext cx="4260600" cy="19051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93" name="Oval 18"/>
          <p:cNvSpPr/>
          <p:nvPr/>
        </p:nvSpPr>
        <p:spPr>
          <a:xfrm>
            <a:off x="5181480" y="6248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7391520" y="6248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09:44Z</dcterms:created>
  <dc:creator>Leonidas Montes</dc:creator>
  <dc:description/>
  <dc:language>en-US</dc:language>
  <cp:lastModifiedBy>Usuario</cp:lastModifiedBy>
  <dcterms:modified xsi:type="dcterms:W3CDTF">2007-11-05T22:14:32Z</dcterms:modified>
  <cp:revision>9</cp:revision>
  <dc:subject/>
  <dc:title>Instrumentos Transados en Bolsa</dc:title>
</cp:coreProperties>
</file>