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ECB-6BBB-41BE-956D-2F3E9C2B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ACC-4AC5-4E71-9434-AB18BEA5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180-0A47-45C8-AF85-623163DC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458-3083-431B-924A-792046A4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4F6-3A17-4D85-A453-9ED571B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9B3-27AC-47F4-BE72-5044DD4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265-C9BF-4A93-A41B-0FBFEDB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77F-F3C8-4F64-8362-FE5B6820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5F1-D95F-480F-9944-AEACC18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0D0-6E9A-4DD3-8967-444EE7E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8AC-14E2-4D71-82EE-553BFEE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2B9-EA62-4E61-A896-354BE94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A85-54CA-4028-AB17-DF029CF4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ta Propues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1052640"/>
          <a:ext cx="8497800" cy="478944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24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requerida para lograr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 de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olas de Captura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/Arriend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Red Propi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 de Proc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. Sujeto a la realidad de cada local. Se limita a la capacitación de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 RRHH pro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HH requer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o. (capacitaciones esporádic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eros, supervisores, externalización aseo y limpie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1052640"/>
          <a:ext cx="8497800" cy="4233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22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variable/fijo asociado al uso de la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fijos del local (arriendo/comp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, Agua, teléfono,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o y segur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cionar horario web (24x7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ización de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transmisión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y Ase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1052640"/>
          <a:ext cx="8497800" cy="5173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46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estable y expedito (we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o amigable (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ños de 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de comisión por franquicia confiable, rápido, exacto y perió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cho para el público objetiv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peran los clien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1052640"/>
          <a:ext cx="8497800" cy="4827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12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pres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rem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ción y pago a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ón y transporte d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miento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1052640"/>
          <a:ext cx="8497800" cy="56451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s, debido al modelo de la franqu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, debido a la inversión inicial en infraestructura y costos asociados a personal en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relativa a cada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Casi todas las reg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estandariz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Todas las regiones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sujeto a estándares bancarios, eficiente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para abrir/cerrar locale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a las variaciones de dem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comparan 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280" y="1052640"/>
          <a:ext cx="8497800" cy="4192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 asociada a los bajos costos por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recimiento en cobertura geográfico es más lento debido a los altos costos opera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ificar el uso d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 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es y promociones en 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e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aldo de los procedimientos y ambiente banca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mo responde el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a b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de nuevos competidores (mis cuenta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enazas para 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are ambos modelos en términos de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,2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requerida para lograr cobertura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ndarización de proces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humanos requerid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de costos de operación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rari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nalización de actividade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peran los clientes de estas empresas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0,8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actividades manejan cada empresa centralizadamente y cuales n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se comparan en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os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empo de entreg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alice las estrategias de ambas empresas y como el modelo responde a ellas.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é amenazas se ciernen sobre este negoci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Bonus: búsqueda de información adicional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esentación general y preocupación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2:00:49Z</dcterms:created>
  <dc:creator>gluna001</dc:creator>
  <dc:description/>
  <dc:language>en-US</dc:language>
  <cp:lastModifiedBy>gluna001</cp:lastModifiedBy>
  <dcterms:modified xsi:type="dcterms:W3CDTF">2007-12-13T19:38:58Z</dcterms:modified>
  <cp:revision>13</cp:revision>
  <dc:subject/>
  <dc:title>Comparación de Modelos </dc:title>
</cp:coreProperties>
</file>