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14C-4544-455C-B348-B2451C7A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0D2-4668-4530-ABE2-FF19368B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62E-4CAD-4E23-933F-D84F033B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B3E-0E0A-44E1-81BB-98B59DDE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154-92BD-40BD-B016-A44AB24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B1D-A248-4C94-9F3F-99879744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314-2220-485F-964E-3228047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9CC-69F1-444B-B967-E1DA511F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C7D-D8BC-49BE-B9B0-7024623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90F-2F9A-4CB3-A10D-1752370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11E-CE5F-4058-9D5C-9A437B8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3C3-AE3E-474A-8CF3-366AE5E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9B6-499C-43F6-B011-ABAD1B3E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ta Propues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1052640"/>
          <a:ext cx="8497800" cy="478944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24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requerida para lograr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 de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olas de Captura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/Arriend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Red Propi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 de Proc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. Sujeto a la realidad de cada local. Se limita a la capacitación de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 RRHH pro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HH requer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o. (capacitaciones esporádic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eros, supervisores, externalización aseo y limpie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1052640"/>
          <a:ext cx="8497800" cy="4233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22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variable/fijo asociado al uso de la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fijos del local (arriendo/comp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, Agua, teléfono,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o y segur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cionar horario web (24x7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ización de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transmisión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y Ase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1052640"/>
          <a:ext cx="8497800" cy="5173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46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estable y expedito (we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o amigable (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ños de 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de comisión por franquicia confiable, rápido, exacto y perió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cho para el público objetiv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peran los clien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1052640"/>
          <a:ext cx="8497800" cy="4827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12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pres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rem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ción y pago a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ón y transporte d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miento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1052640"/>
          <a:ext cx="8497800" cy="56451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s, debido al modelo de la franqu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, debido a la inversión inicial en infraestructura y costos asociados a personal en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relativa a cada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Casi todas las reg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estandariz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Todas las regiones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sujeto a estándares bancarios, eficiente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para abrir/cerrar locale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a las variaciones de dem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comparan 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280" y="1052640"/>
          <a:ext cx="8497800" cy="4192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 asociada a los bajos costos por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recimiento en cobertura geográfico es más lento debido a los altos costos opera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ificar el uso d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 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es y promociones en 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e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aldo de los procedimientos y ambiente banca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mo responde el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a b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de nuevos competidores (mis cuenta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enazas para 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are ambos modelos en términos de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,2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requerida para lograr cobertura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ndarización de proces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humanos requerid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de costos de operación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rari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nalización de actividade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peran los clientes de estas empresas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0,8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actividades manejan cada empresa centralizadamente y cuales n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se comparan en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os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empo de entreg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alice las estrategias de ambas empresas y como el modelo responde a ellas.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é amenazas se ciernen sobre este negoci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Bonus: búsqueda de información adicional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esentación general y preocupación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2:00:49Z</dcterms:created>
  <dc:creator>gluna001</dc:creator>
  <dc:description/>
  <dc:language>en-US</dc:language>
  <cp:lastModifiedBy>gluna001</cp:lastModifiedBy>
  <dcterms:modified xsi:type="dcterms:W3CDTF">2007-12-13T19:38:58Z</dcterms:modified>
  <cp:revision>13</cp:revision>
  <dc:subject/>
  <dc:title>Comparación de Modelos </dc:title>
</cp:coreProperties>
</file>