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BB71-B59D-49ED-A8A9-10E35246E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8994-FC16-449D-A08F-D617643E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B8BF-608C-4AEB-9F18-526B21CD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6925-398C-494E-A34C-1BF1DA45B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4851-EE99-464C-8BF2-13E2900C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B33A-B730-4A3C-9EF5-49330E65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F722-71EE-47B9-BDCF-193B0850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1673-1530-4D3C-96AD-1893F1D3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4839-65ED-4EAC-9482-43FEA362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2C07-9D34-446A-9FDA-80C1943F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B3EF-9A4D-49F6-8FA3-601F3C33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49A1-A9E5-4E5A-8EED-5C5B6CD7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E729-A743-4350-9EEE-8178D40E2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uta Propues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o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75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ción de Modelo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95280" y="1052640"/>
          <a:ext cx="8497800" cy="4789440"/>
        </p:xfrm>
        <a:graphic>
          <a:graphicData uri="http://schemas.openxmlformats.org/drawingml/2006/table">
            <a:tbl>
              <a:tblPr/>
              <a:tblGrid>
                <a:gridCol w="1584360"/>
                <a:gridCol w="3456000"/>
                <a:gridCol w="3457440"/>
              </a:tblGrid>
              <a:tr h="80244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cilli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p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168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ión requerida para lograr cober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eedor de Interne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stolas de Captura de Informac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dad Call Cent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ra/Arriendo del loc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 (Red Propia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dad Call Cent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ndarización de Proces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ención al cliente presencial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ja. Sujeto a la realidad de cada local. Se limita a la capacitación de franquic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ario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ncillito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suario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cillito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liente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ención al cliente presencial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. RRHH propi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ención al cliente Web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ario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rvipag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suario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pag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liente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RHH requeri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el Local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o. (capacitaciones esporádicas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el Central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 Center, Back Office, Mantención Sistem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el Local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jeros, supervisores, externalización aseo y limpiez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el Central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 Center, Back Office, Mantención Sistem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95280" y="1052640"/>
          <a:ext cx="8497800" cy="4233600"/>
        </p:xfrm>
        <a:graphic>
          <a:graphicData uri="http://schemas.openxmlformats.org/drawingml/2006/table">
            <a:tbl>
              <a:tblPr/>
              <a:tblGrid>
                <a:gridCol w="1584360"/>
                <a:gridCol w="3456000"/>
                <a:gridCol w="3457440"/>
              </a:tblGrid>
              <a:tr h="80856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cilli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p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220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uctura de Costos Operacion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 variable/fijo asociado al uso de la franquic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nción de terminales, sistem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ística de recaudación y transporte de valor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s fijos del local (arriendo/compra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z, Agua, teléfono, Interne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nción de terminales, sistem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ística de recaudación y transporte de valor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eo y segurid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rio de loca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rio de Call Cent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rio de loca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rio de Call Cent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cionar horario web (24x7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56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ización de Activ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 de transmisión de informac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e de valor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uridad y Ase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e de valor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ción de Modelo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5280" y="1052640"/>
          <a:ext cx="8497800" cy="5173560"/>
        </p:xfrm>
        <a:graphic>
          <a:graphicData uri="http://schemas.openxmlformats.org/drawingml/2006/table">
            <a:tbl>
              <a:tblPr/>
              <a:tblGrid>
                <a:gridCol w="1584360"/>
                <a:gridCol w="3456000"/>
                <a:gridCol w="3457440"/>
              </a:tblGrid>
              <a:tr h="80460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cilli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p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79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resas de servic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 de recaudación confiable, rápido y exact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 Cobertura geográfic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o: preocuparse de tareas de mayor valor agrega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 de recaudación confiable, rápido y exact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 Cobertura geográfic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io estable y expedito (web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o: preocuparse de tareas de mayor valor agrega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79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idez de atención y seguridad en la transacc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os de atención cercan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bilidad de realizar varios trámites a a la ve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idez de atención y seguridad en la transacció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os de atención cercan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o amigable (we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bilidad de realizar varios trámites a a la ve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31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eños de loc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o de comisión por franquicia confiable, rápido, exacto y periódic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ncho para el público objetivo del loc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plic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é esperan los clientes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95280" y="1052640"/>
          <a:ext cx="8497800" cy="4827600"/>
        </p:xfrm>
        <a:graphic>
          <a:graphicData uri="http://schemas.openxmlformats.org/drawingml/2006/table">
            <a:tbl>
              <a:tblPr/>
              <a:tblGrid>
                <a:gridCol w="1584360"/>
                <a:gridCol w="3456000"/>
                <a:gridCol w="3457440"/>
              </a:tblGrid>
              <a:tr h="8125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cilli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p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ción de pago presen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entrali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entrali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ción de pago remo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apl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i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ificación y pago a cli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i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i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audación y transporte de val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entrali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entrali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amiento de da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i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i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izació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95280" y="1052640"/>
          <a:ext cx="8497800" cy="5645160"/>
        </p:xfrm>
        <a:graphic>
          <a:graphicData uri="http://schemas.openxmlformats.org/drawingml/2006/table">
            <a:tbl>
              <a:tblPr/>
              <a:tblGrid>
                <a:gridCol w="1584360"/>
                <a:gridCol w="3456000"/>
                <a:gridCol w="3457440"/>
              </a:tblGrid>
              <a:tr h="7045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cilli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p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jos, debido al modelo de la franqui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os, debido a la inversión inicial en infraestructura y costos asociados a personal en loca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364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ención al cliente: relativa a cada loc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geográfica: Casi todas las region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 transaccional: en línea, eficien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ención al cliente: estandarizad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geográfica: Todas las regiones. Plus: servicio we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 transaccional: en línea, sujeto a estándares bancarios, eficiente. Plus: servicio we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676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mpo de entreg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es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jo, depósito al día siguien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ario presencial: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mpo de espera sujeto a la demanda horaria y geográfica. Tiempo de transacción: Baj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entes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jo, depósito al día siguien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ario presencial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mpo de espera sujeto a la demanda horaria y geográfica. Tiempo de transacción: Baj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ario web: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j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5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exi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or flexibilidad para abrir/cerrar locale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ranquic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or flexibilidad a las variaciones de demanda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rvicio we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Cómo se comparan en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95280" y="1052640"/>
          <a:ext cx="8497800" cy="4192560"/>
        </p:xfrm>
        <a:graphic>
          <a:graphicData uri="http://schemas.openxmlformats.org/drawingml/2006/table">
            <a:tbl>
              <a:tblPr/>
              <a:tblGrid>
                <a:gridCol w="1584360"/>
                <a:gridCol w="3456000"/>
                <a:gridCol w="3457440"/>
              </a:tblGrid>
              <a:tr h="8089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cilli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p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31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a Cober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dad asociada a los bajos costos por franquic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crecimiento en cobertura geográfico es más lento debido a los altos costos operacional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ificar el uso del servicio we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312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delización de usu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 transaccional rápido y confiable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 transaccional rápido y confiable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dades y promociones en el servicio we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mento de Cli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 exacto. Pagos periódic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 masivo por usuari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8000" rIns="108000" tIns="108000" bIns="1080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aldo de los procedimientos y ambiente bancari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o exacto. Pagos periódic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 masivo por usuari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ategias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como responde el mode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gración vertical de los cl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gración vertical de la ban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greso de nuevos competidores (mis cuentas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menazas para el nego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mpare ambos modelos en términos de: </a:t>
            </a: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(1,2 pun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versión requerida para lograr cobertura.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andarización de procesos.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cursos humanos requeridos.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ructura de costos de operación.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orarios.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xternalización de actividades.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¿Que esperan los clientes de estas empresas? </a:t>
            </a: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(0,8 pun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¿Que actividades manejan cada empresa centralizadamente y cuales no? </a:t>
            </a: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(1 pun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mo se comparan en: </a:t>
            </a: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(1 pun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stos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5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lidad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5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iempo de entrega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5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lexibilidad </a:t>
            </a:r>
            <a:r>
              <a:rPr b="0" lang="es-ES" sz="1400" spc="-1" strike="noStrike">
                <a:solidFill>
                  <a:srgbClr val="ff0000"/>
                </a:solidFill>
                <a:latin typeface="Arial"/>
              </a:rPr>
              <a:t>(0,25 pu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nalice las estrategias de ambas empresas y como el modelo responde a ellas. </a:t>
            </a: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(1 pun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¿Qué amenazas se ciernen sobre este negocio? </a:t>
            </a: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(1 pun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0000"/>
                </a:solidFill>
                <a:latin typeface="Arial"/>
              </a:rPr>
              <a:t>Bonus: búsqueda de información adicional (0,5 pun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0000"/>
                </a:solidFill>
                <a:latin typeface="Arial"/>
              </a:rPr>
              <a:t>Presentación general y preocupación (0,5 pun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unta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0T22:00:49Z</dcterms:created>
  <dc:creator>gluna001</dc:creator>
  <dc:description/>
  <dc:language>en-US</dc:language>
  <cp:lastModifiedBy>gluna001</cp:lastModifiedBy>
  <dcterms:modified xsi:type="dcterms:W3CDTF">2007-12-13T19:38:58Z</dcterms:modified>
  <cp:revision>13</cp:revision>
  <dc:subject/>
  <dc:title>Comparación de Modelos </dc:title>
</cp:coreProperties>
</file>