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FEBF-FD25-422E-8B94-B5C5C79F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85F-6AA9-407E-ABDC-62168080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9D43-56D4-4AD2-BE00-03D11AFE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30F5-DD9D-4135-9C2B-D69DE0AB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3F18-6C01-47FD-8EC8-E34335CA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2048-6893-4F1E-94D0-8E63EFFA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2FB9-DCB4-44FE-99AE-90AF0EEE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32AC-FB04-49F8-BE02-C8989E66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AAB7-000C-49EA-AB5E-E801EC1A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FC53-D22F-4609-A845-9505147C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27C3-A17B-4623-9649-55519086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66F2-323E-43B2-AF03-B52CBE0E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490F-4492-488C-BB53-5D3BE8511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ta Propues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75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ción de Model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95280" y="1052640"/>
          <a:ext cx="8497800" cy="478944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80244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168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ión requerida para lograr cober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dor de Interne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stolas de Captura de Informa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 Call Cent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a/Arriendo del loc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(Red Propi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 Call Cent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ndarización de Proc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al cliente presencial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a. Sujeto a la realidad de cada local. Se limita a la capacitación de franqui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ncilli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uario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liente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al cliente presenci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. RRHH prop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al cliente Web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rvipag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uario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liente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RHH requer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Loc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o. (capacitaciones esporádicas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Centr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 Center, Back Office, Mantención Sistem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Loc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jeros, supervisores, externalización aseo y limpiez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Centr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 Center, Back Office, Mantención Sistem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95280" y="1052640"/>
          <a:ext cx="8497800" cy="423360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80856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220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uctura de 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 variable/fijo asociado al uso de la franqui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ción de terminales, sistem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ística de recaudación y transporte de valor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s fijos del local (arriendo/compr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z, Agua, teléfono, Interne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ción de terminales, sistem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ística de recaudación y transporte de valor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o y segur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 de loc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 de Call Cent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 de loc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 de Call Cent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cionar horario web (24x7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56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ización de Ac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 de transmisión de informa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 de valor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ridad y Ase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 de valor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ción de Model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1052640"/>
          <a:ext cx="8497800" cy="517356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80460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79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resas de servic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 de recaudación confiable, rápido y exa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 Cobertura geográfic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o: preocuparse de tareas de mayor valor agreg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 de recaudación confiable, rápido y exa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 Cobertura geográfic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 estable y expedito (web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o: preocuparse de tareas de mayor valor agreg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79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ez de atención y seguridad en la transac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os de atención cercan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bilidad de realizar varios trámites a a la ve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ez de atención y seguridad en la transac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os de atención cercan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o amigable (w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bilidad de realizar varios trámites a a la ve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ños de loc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o de comisión por franquicia confiable, rápido, exacto y periódic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cho para el público objetivo del loc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plic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esperan los cliente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95280" y="1052640"/>
          <a:ext cx="8497800" cy="482760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8125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de pago presen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de pago rem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p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icación y pago a cli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audación y transporte de val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amiento de da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ació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95280" y="1052640"/>
          <a:ext cx="8497800" cy="564516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7045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os, debido al modelo de la franqui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s, debido a la inversión inicial en infraestructura y costos asociados a personal en loc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64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al cliente: relativa a cada loc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geográfica: Casi todas las reg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transaccional: en línea, efici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al cliente: estandariza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geográfica: Todas las regiones. Plus: servicio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transaccional: en línea, sujeto a estándares bancarios, eficiente. Plus: servicio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676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de entre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s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o, depósito al día sigui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 presencial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de espera sujeto a la demanda horaria y geográfica. Tiempo de transacción: Baj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s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o, depósito al día sigui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 presenci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de espera sujeto a la demanda horaria y geográfica. Tiempo de transacción: Baj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 web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flexibilidad para abrir/cerrar locale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ranqui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flexibilidad a las variaciones de demanda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rvicio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se comparan en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5280" y="1052640"/>
          <a:ext cx="8497800" cy="419256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8089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 Cober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dad asociada a los bajos costos por franqui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crecimiento en cobertura geográfico es más lento debido a los altos costos operacion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ificar el uso del servicio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elización de usu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transaccional rápido y confiable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transaccional rápido y confiable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dades y promociones en el servicio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mento de Cli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exacto. Pagos periód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 masivo por usuar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aldo de los procedimientos y ambiente bancari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exacto. Pagos periód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 masivo por usuar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ategias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como responde el mode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gración vertical de los cl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gración vertical de la ban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o de nuevos competidores (mis cuentas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menazas para 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mpare ambos modelos en términos de: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1,2 pun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versión requerida para lograr cobertura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andarización de procesos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cursos humanos requeridos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ructura de costos de operación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orarios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xternalización de actividades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¿Que esperan los clientes de estas empresas?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0,8 pun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¿Que actividades manejan cada empresa centralizadamente y cuales no?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1 pu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mo se comparan en: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1 pu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stos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5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lidad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5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iempo de entrega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5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lexibilidad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5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nalice las estrategias de ambas empresas y como el modelo responde a ellas.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1 pu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¿Qué amenazas se ciernen sobre este negocio?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1 pu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Bonus: búsqueda de información adicional (0,5 pun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Arial"/>
              </a:rPr>
              <a:t>Presentación general y preocupación (0,5 pun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nta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22:00:49Z</dcterms:created>
  <dc:creator>gluna001</dc:creator>
  <dc:description/>
  <dc:language>en-US</dc:language>
  <cp:lastModifiedBy>gluna001</cp:lastModifiedBy>
  <dcterms:modified xsi:type="dcterms:W3CDTF">2007-12-13T19:38:58Z</dcterms:modified>
  <cp:revision>13</cp:revision>
  <dc:subject/>
  <dc:title>Comparación de Modelos </dc:title>
</cp:coreProperties>
</file>